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1F946-890F-41EC-BB3C-F2AEA33968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CFACB-DBCD-435D-8AC0-53ED6D9F8F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BCACD-135F-4620-B755-62CEB19587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EA3F4-0469-41C5-97CF-C80B067355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D8959-AD2D-4B69-BA54-CC53F6DB2A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4C4C0-E009-43A5-BDC2-8088A85DB5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93627-C0E4-4DD6-B677-3013FFBAB5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8877B-5DCB-475A-BCD5-BA71D092EA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1D37E-4B07-41A5-AC01-F3E82C92DB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37CDA-542D-4A44-B54A-D8CE12C55C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4100C-D03E-4060-939E-ED244BFC30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C4C51-3801-4ED4-99FF-92EAD7A07F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A010D-8BB6-4170-A9D8-A89F60CCBA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87D1B-C0E3-4FC9-9076-FE14242DEA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6EB2-1066-4DA4-8089-7DED111B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2081-D66E-4D2C-ADD4-7C202938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764-F910-46E1-81D9-85492B58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998-0B7B-4E8A-AA87-7E9BC4D0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9F6F-86EC-4FE3-ABEF-1AFBAAC1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17A6-40B8-481F-910B-4D2FA939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DC5-F352-4E06-894E-8F23E860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90E-71B2-41E2-BD2B-9B54FEA9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19FA-7842-4945-AA59-7E7B16DB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309-A7A1-4F84-9C99-D45E9421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89E4-2AB3-4F5F-AE5F-BB64A9AF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8C7-F1AF-4CFE-B426-756BDF73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B468A-B37B-4B86-BE72-191B8C3119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9360">
            <a:solidFill>
              <a:srgbClr val="009973"/>
            </a:solidFill>
            <a:round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600" spc="-1" strike="noStrike">
                <a:solidFill>
                  <a:srgbClr val="ffc000"/>
                </a:solidFill>
                <a:latin typeface="Monotype Corsiva"/>
              </a:rPr>
              <a:t>РЕБУС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24840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ащина Т.И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БОУ СШ №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. Новый Урен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2232000" y="520560"/>
            <a:ext cx="7102440" cy="43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2592360" y="466560"/>
            <a:ext cx="7056360" cy="45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262699"/>
              </a:solidFill>
              <a:latin typeface="Monotype Corsiva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008000" y="684360"/>
            <a:ext cx="7721640" cy="32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Monotype Corsiva"/>
              </a:rPr>
              <a:t>Используем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47280" y="1907640"/>
            <a:ext cx="9070920" cy="2232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http://metodisty.ru/blogs/entry/shablony_prezentacii_dlya_nachalnoi_shkoly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"/>
          <p:cNvSpPr/>
          <p:nvPr/>
        </p:nvSpPr>
        <p:spPr>
          <a:xfrm>
            <a:off x="1170720" y="3605040"/>
            <a:ext cx="4559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etsky-mir.com/blog/rebus/1381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800360" y="755640"/>
            <a:ext cx="7073640" cy="41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2879640" y="755640"/>
            <a:ext cx="6742080" cy="473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262699"/>
              </a:solidFill>
              <a:latin typeface="Monotype Corsiva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1944720" y="324000"/>
            <a:ext cx="6824520" cy="431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-433800"/>
            <a:ext cx="9070920" cy="2730600"/>
          </a:xfrm>
          <a:prstGeom prst="rect">
            <a:avLst/>
          </a:prstGeom>
          <a:noFill/>
          <a:ln w="9360">
            <a:solidFill>
              <a:srgbClr val="009973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9600" spc="-1" strike="noStrike">
              <a:solidFill>
                <a:srgbClr val="ffc000"/>
              </a:solidFill>
              <a:latin typeface="Monotype Corsiv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2920" y="24840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3095640" y="988920"/>
            <a:ext cx="636264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265400" y="539640"/>
            <a:ext cx="7559640" cy="47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376360" y="395280"/>
            <a:ext cx="7121520" cy="45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262699"/>
              </a:solidFill>
              <a:latin typeface="Monotype Corsiva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2303640" y="324000"/>
            <a:ext cx="7306920" cy="44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-433800"/>
            <a:ext cx="9070920" cy="2730600"/>
          </a:xfrm>
          <a:prstGeom prst="rect">
            <a:avLst/>
          </a:prstGeom>
          <a:noFill/>
          <a:ln w="9360">
            <a:solidFill>
              <a:srgbClr val="009973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9600" spc="-1" strike="noStrike">
              <a:solidFill>
                <a:srgbClr val="ffc000"/>
              </a:solidFill>
              <a:latin typeface="Monotype Corsi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02920" y="24840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3311640" y="314280"/>
            <a:ext cx="6308640" cy="411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7:16:37Z</dcterms:created>
  <dc:creator/>
  <dc:description/>
  <dc:language>en-US</dc:language>
  <cp:lastModifiedBy>Tatiana Chashchina</cp:lastModifiedBy>
  <dcterms:modified xsi:type="dcterms:W3CDTF">2019-10-19T17:57:01Z</dcterms:modified>
  <cp:revision>4</cp:revision>
  <dc:subject/>
  <dc:title>РЕБУСЫ</dc:title>
</cp:coreProperties>
</file>