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409E8-4F6A-40DA-AFD1-38FB47D96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023C5-DE3E-4DB0-9F47-3967C2344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0D73E-C4F7-44C8-8707-F86BCAD20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1E137-1AC4-4823-B761-0244D66C5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53C41-7587-4015-A3D5-97BBABFB3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BF43A-068C-45A8-82F3-27944FD5A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3508D-9E50-4AF5-A476-E94AC3F73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F6A84-1242-4168-8415-AACD96E29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8EF0D-7CCB-4DC8-9060-548E4178E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AE9EF-991E-4F6E-BCA7-E0310A015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C6101-CC4C-44DE-BE1A-738528927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80117-36D8-425D-B185-9D454D4CB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DF811-FB28-4CA0-9302-1E7D7A346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F996C-9A3A-4EFA-9320-1872F11EC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5D8BB-34C8-4643-8BF7-C8834C16C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994C9-E29C-4096-B1A7-4DD78093A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1DA58-B908-4FE3-8EE1-036991DA1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5EC8D-4B5D-4260-9B70-ACCEB3891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CD46A-9394-4115-9742-54C18CDE2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64421-62A0-408A-B819-FAD2E4300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5FAAC-E372-4C04-8896-54CE2B401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D5114-B6A5-4A01-8CEC-B153465C4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1DD97-1B7F-406F-B983-DD7BD5413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E2894-D541-454E-AC90-5F72618F7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D7B87-E854-435E-B276-F34C5E9DA9DA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BA557-1665-4035-A0FD-87211C1055DC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s://ru.wikipedia.org/wiki/&#1060;&#1056;&#1043;" TargetMode="External"/><Relationship Id="rId2" Type="http://schemas.openxmlformats.org/officeDocument/2006/relationships/hyperlink" Target="https://commons.wikimedia.org/wiki/File:ARD_logo.svg?uselang=ru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s://commons.wikimedia.org/wiki/File:ARD-Hauptstadtstudio_(aus_Nordwesten).jpg?uselang=ru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s://ru.wikipedia.org/wiki/&#1053;&#1077;&#1084;&#1077;&#1094;&#1082;&#1080;&#1081;_&#1103;&#1079;&#1099;&#1082;" TargetMode="External"/><Relationship Id="rId2" Type="http://schemas.openxmlformats.org/officeDocument/2006/relationships/hyperlink" Target="https://ru.wikipedia.org/wiki/&#1043;&#1077;&#1088;&#1084;&#1072;&#1085;&#1080;&#1103;" TargetMode="External"/><Relationship Id="rId3" Type="http://schemas.openxmlformats.org/officeDocument/2006/relationships/hyperlink" Target="https://ru.wikipedia.org/wiki/&#1052;&#1077;&#1078;&#1076;&#1091;&#1085;&#1072;&#1088;&#1086;&#1076;&#1085;&#1086;&#1077;_&#1088;&#1072;&#1076;&#1080;&#1086;&#1074;&#1077;&#1097;&#1072;&#1085;&#1080;&#1077;" TargetMode="External"/><Relationship Id="rId4" Type="http://schemas.openxmlformats.org/officeDocument/2006/relationships/hyperlink" Target="https://ru.wikipedia.org/wiki/&#1054;&#1073;&#1097;&#1077;&#1089;&#1090;&#1074;&#1077;&#1085;&#1085;&#1086;&#1077;_&#1090;&#1077;&#1083;&#1077;&#1088;&#1072;&#1076;&#1080;&#1086;&#1074;&#1077;&#1097;&#1072;&#1085;&#1080;&#1077;" TargetMode="External"/><Relationship Id="rId5" Type="http://schemas.openxmlformats.org/officeDocument/2006/relationships/hyperlink" Target="https://ru.wikipedia.org/wiki/&#1058;&#1077;&#1083;&#1077;&#1088;&#1072;&#1076;&#1080;&#1086;&#1074;&#1077;&#1097;&#1072;&#1085;&#1080;&#1077;" TargetMode="External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8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30033"/>
                </a:solidFill>
                <a:latin typeface="Times New Roman"/>
              </a:rPr>
              <a:t>«</a:t>
            </a:r>
            <a:r>
              <a:rPr b="0" lang="ru-RU" sz="3200" spc="-1" strike="noStrike">
                <a:solidFill>
                  <a:srgbClr val="330033"/>
                </a:solidFill>
                <a:latin typeface="Times New Roman"/>
              </a:rPr>
              <a:t>Рабочее содружество общественно-правовых вещательных станций </a:t>
            </a:r>
            <a:br>
              <a:rPr sz="3200"/>
            </a:br>
            <a:r>
              <a:rPr b="0" lang="ru-RU" sz="2800" spc="-1" strike="noStrike" u="sng">
                <a:solidFill>
                  <a:srgbClr val="990033"/>
                </a:solidFill>
                <a:uFillTx/>
                <a:latin typeface="Times New Roman"/>
                <a:hlinkClick r:id="rId1"/>
              </a:rPr>
              <a:t>Федеративной Республики Германия</a:t>
            </a:r>
            <a:r>
              <a:rPr b="0" lang="ru-RU" sz="4800" spc="-1" strike="noStrike">
                <a:solidFill>
                  <a:srgbClr val="330033"/>
                </a:solidFill>
                <a:latin typeface="Times New Roman"/>
              </a:rPr>
              <a:t>» 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99680" y="3499920"/>
            <a:ext cx="8358120" cy="242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rbeitsgemeinschaft der öffentlich-rechtlichen Rundfunkanstalten der Bundesrepublik Deutschla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Рисунок 5" descr="ARD logo.sv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571920" y="0"/>
            <a:ext cx="2098800" cy="60012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0033"/>
                </a:solidFill>
                <a:latin typeface="Times New Roman"/>
              </a:rPr>
              <a:t>Рекламную презентацию выполнила</a:t>
            </a:r>
            <a:endParaRPr b="0" lang="en-US" sz="20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еница 8 класса Петрова Валерия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КОУ Ключевская ОО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2" descr="C:\Users\USER\Desktop\1 сен\DSCN1725.JPG"/>
          <p:cNvPicPr/>
          <p:nvPr/>
        </p:nvPicPr>
        <p:blipFill>
          <a:blip r:embed="rId2"/>
          <a:stretch/>
        </p:blipFill>
        <p:spPr>
          <a:xfrm>
            <a:off x="1500120" y="17640"/>
            <a:ext cx="6691320" cy="501948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71640" y="214200"/>
            <a:ext cx="7772400" cy="126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0" lang="de-DE" sz="3200" spc="-1" strike="noStrike">
                <a:solidFill>
                  <a:srgbClr val="330033"/>
                </a:solidFill>
                <a:latin typeface="Times New Roman"/>
              </a:rPr>
              <a:t>Deutsche Fernseheprogramm  </a:t>
            </a:r>
            <a:r>
              <a:rPr b="0" lang="de-DE" sz="4400" spc="-1" strike="noStrike">
                <a:solidFill>
                  <a:srgbClr val="330033"/>
                </a:solidFill>
                <a:latin typeface="Times New Roman"/>
              </a:rPr>
              <a:t>ARD</a:t>
            </a: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ch meine, dass das Fernsehen am interessantesten ist. Das Fernsehen  hilft den Menschen neue Kenntnisse aus verschiedenen Sachgebieten erwerben. Es verbreitet Inform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Рисунок 5" descr="ARD-Hauptstadtstudio (aus Nordwesten)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28800" y="3714840"/>
            <a:ext cx="3143160" cy="292896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   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0000"/>
                </a:solidFill>
                <a:latin typeface="Arial"/>
              </a:rPr>
              <a:t>Russland +Deutschl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Рисунок 5" descr="https://im0-tub-ru.yandex.net/i?id=b09c5efa9edb16003932ca0f1e7bbe03&amp;n=33&amp;w=320&amp;h=320"/>
          <p:cNvPicPr/>
          <p:nvPr/>
        </p:nvPicPr>
        <p:blipFill>
          <a:blip r:embed="rId1"/>
          <a:stretch/>
        </p:blipFill>
        <p:spPr>
          <a:xfrm>
            <a:off x="1071720" y="2428920"/>
            <a:ext cx="3047760" cy="3048120"/>
          </a:xfrm>
          <a:prstGeom prst="rect">
            <a:avLst/>
          </a:prstGeom>
          <a:ln w="0">
            <a:noFill/>
          </a:ln>
        </p:spPr>
      </p:pic>
      <p:pic>
        <p:nvPicPr>
          <p:cNvPr id="110" name="Рисунок 6" descr="https://st3.depositphotos.com/1010305/16571/i/950/depositphotos_165715600-stock-photo-berlin-germany-march-19-2015.jpg"/>
          <p:cNvPicPr/>
          <p:nvPr/>
        </p:nvPicPr>
        <p:blipFill>
          <a:blip r:embed="rId2"/>
          <a:stretch/>
        </p:blipFill>
        <p:spPr>
          <a:xfrm>
            <a:off x="4786200" y="0"/>
            <a:ext cx="4357800" cy="392904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800" spc="-1" strike="noStrike">
                <a:solidFill>
                  <a:srgbClr val="330033"/>
                </a:solidFill>
                <a:latin typeface="Times New Roman"/>
              </a:rPr>
              <a:t>Was siehst du gern</a:t>
            </a: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? – </a:t>
            </a:r>
            <a:r>
              <a:rPr b="0" lang="de-DE" sz="3800" spc="-1" strike="noStrike">
                <a:solidFill>
                  <a:srgbClr val="330033"/>
                </a:solidFill>
                <a:latin typeface="Times New Roman"/>
              </a:rPr>
              <a:t>ARD</a:t>
            </a:r>
            <a:br>
              <a:rPr sz="3800"/>
            </a:br>
            <a:r>
              <a:rPr b="0" lang="de-DE" sz="3800" spc="-1" strike="noStrike">
                <a:solidFill>
                  <a:srgbClr val="330033"/>
                </a:solidFill>
                <a:latin typeface="Times New Roman"/>
              </a:rPr>
              <a:t>Oh!Sehr interessant!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90000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37160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Рисунок 6" descr="http://rodkom.com.ua/wp-content/uploads/2017/01/na-glavnuyu-39.jpg"/>
          <p:cNvPicPr/>
          <p:nvPr/>
        </p:nvPicPr>
        <p:blipFill>
          <a:blip r:embed="rId1"/>
          <a:stretch/>
        </p:blipFill>
        <p:spPr>
          <a:xfrm>
            <a:off x="785880" y="1449360"/>
            <a:ext cx="7929360" cy="512280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0033"/>
                </a:solidFill>
                <a:latin typeface="Times New Roman"/>
              </a:rPr>
              <a:t>Mit Interesse  sehe ich mir Musiksendungen  Deutsche Welle an!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Deutsche Welle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с </a:t>
            </a:r>
            <a:r>
              <a:rPr b="0" lang="ru-RU" sz="2800" spc="-1" strike="noStrike" u="sng">
                <a:solidFill>
                  <a:srgbClr val="990033"/>
                </a:solidFill>
                <a:uFillTx/>
                <a:latin typeface="Arial"/>
                <a:hlinkClick r:id="rId1"/>
              </a:rPr>
              <a:t>нем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 — «Немецкая волна»,  или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DW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 — </a:t>
            </a:r>
            <a:r>
              <a:rPr b="0" lang="ru-RU" sz="2800" spc="-1" strike="noStrike" u="sng">
                <a:solidFill>
                  <a:srgbClr val="990033"/>
                </a:solidFill>
                <a:uFillTx/>
                <a:latin typeface="Arial"/>
                <a:hlinkClick r:id="rId2"/>
              </a:rPr>
              <a:t>немецка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 u="sng">
                <a:solidFill>
                  <a:srgbClr val="990033"/>
                </a:solidFill>
                <a:uFillTx/>
                <a:latin typeface="Arial"/>
                <a:hlinkClick r:id="rId3"/>
              </a:rPr>
              <a:t>международна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 u="sng">
                <a:solidFill>
                  <a:srgbClr val="990033"/>
                </a:solidFill>
                <a:uFillTx/>
                <a:latin typeface="Arial"/>
                <a:hlinkClick r:id="rId4"/>
              </a:rPr>
              <a:t>общественна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 u="sng">
                <a:solidFill>
                  <a:srgbClr val="990033"/>
                </a:solidFill>
                <a:uFillTx/>
                <a:latin typeface="Arial"/>
                <a:hlinkClick r:id="rId5"/>
              </a:rPr>
              <a:t>телерадиокомпани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и входящая в неё радиостанция и телекана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Рисунок 5" descr="Deutsche Welle Logo.svg"/>
          <p:cNvPicPr/>
          <p:nvPr/>
        </p:nvPicPr>
        <p:blipFill>
          <a:blip r:embed="rId6"/>
          <a:stretch/>
        </p:blipFill>
        <p:spPr>
          <a:xfrm>
            <a:off x="3071880" y="4286160"/>
            <a:ext cx="5429160" cy="200052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71680" y="213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Baskerville Old Face"/>
              </a:rPr>
              <a:t>Information spielt eine große Rolle 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Baskerville Old Face"/>
              </a:rPr>
              <a:t>unserem Lebe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Рисунок 5" descr="https://cf2.ppt-online.org/files2/slide/h/HpvjqK1BiDYoRPz2kfXgNctMQLSVWEl9AUanIm/slide-7.jpg"/>
          <p:cNvPicPr/>
          <p:nvPr/>
        </p:nvPicPr>
        <p:blipFill>
          <a:blip r:embed="rId1"/>
          <a:stretch/>
        </p:blipFill>
        <p:spPr>
          <a:xfrm>
            <a:off x="285840" y="0"/>
            <a:ext cx="3786120" cy="2836800"/>
          </a:xfrm>
          <a:prstGeom prst="rect">
            <a:avLst/>
          </a:prstGeom>
          <a:ln w="0">
            <a:noFill/>
          </a:ln>
        </p:spPr>
      </p:pic>
      <p:pic>
        <p:nvPicPr>
          <p:cNvPr id="121" name="Рисунок 5" descr="Bonn DeutscheWelle Posttower.jpg"/>
          <p:cNvPicPr/>
          <p:nvPr/>
        </p:nvPicPr>
        <p:blipFill>
          <a:blip r:embed="rId2"/>
          <a:stretch/>
        </p:blipFill>
        <p:spPr>
          <a:xfrm>
            <a:off x="4156200" y="0"/>
            <a:ext cx="4987800" cy="3571920"/>
          </a:xfrm>
          <a:prstGeom prst="rect">
            <a:avLst/>
          </a:prstGeom>
          <a:ln w="0">
            <a:noFill/>
          </a:ln>
        </p:spPr>
      </p:pic>
      <p:pic>
        <p:nvPicPr>
          <p:cNvPr id="122" name="Рисунок 5" descr="https://img2.freepng.ru/20180518/zql/kisspng-computer-icons-handshake-icon-design-clip-art-5afed255ac43f3.6110550715266494297056.jpg"/>
          <p:cNvPicPr/>
          <p:nvPr/>
        </p:nvPicPr>
        <p:blipFill>
          <a:blip r:embed="rId3"/>
          <a:stretch/>
        </p:blipFill>
        <p:spPr>
          <a:xfrm>
            <a:off x="5929200" y="3643200"/>
            <a:ext cx="3000600" cy="295776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24" name="Рисунок 5" descr="https://img2.freepng.ru/20180518/zql/kisspng-computer-icons-handshake-icon-design-clip-art-5afed255ac43f3.6110550715266494297056.jpg"/>
          <p:cNvPicPr/>
          <p:nvPr/>
        </p:nvPicPr>
        <p:blipFill>
          <a:blip r:embed="rId1"/>
          <a:stretch/>
        </p:blipFill>
        <p:spPr>
          <a:xfrm>
            <a:off x="5857920" y="3357720"/>
            <a:ext cx="3112920" cy="30686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914040" y="239040"/>
            <a:ext cx="5622840" cy="1554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an sagt: „Wer beherrscht Information,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er die Welt beherrscht.“</a:t>
            </a:r>
            <a:br>
              <a:rPr sz="2400"/>
            </a:b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26" name="Рисунок 5" descr="Deutsche Welle Logo.svg"/>
          <p:cNvPicPr/>
          <p:nvPr/>
        </p:nvPicPr>
        <p:blipFill>
          <a:blip r:embed="rId2"/>
          <a:stretch/>
        </p:blipFill>
        <p:spPr>
          <a:xfrm>
            <a:off x="642960" y="1500120"/>
            <a:ext cx="5429160" cy="2000160"/>
          </a:xfrm>
          <a:prstGeom prst="rect">
            <a:avLst/>
          </a:prstGeom>
          <a:ln w="0">
            <a:noFill/>
          </a:ln>
        </p:spPr>
      </p:pic>
      <p:pic>
        <p:nvPicPr>
          <p:cNvPr id="127" name="Рисунок 5" descr="ARD logo.svg"/>
          <p:cNvPicPr/>
          <p:nvPr/>
        </p:nvPicPr>
        <p:blipFill>
          <a:blip r:embed="rId3"/>
          <a:stretch/>
        </p:blipFill>
        <p:spPr>
          <a:xfrm>
            <a:off x="857160" y="4500720"/>
            <a:ext cx="4497480" cy="128556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8T17:34:18Z</dcterms:created>
  <dc:creator>Home</dc:creator>
  <dc:description/>
  <dc:language>en-US</dc:language>
  <cp:lastModifiedBy>USER</cp:lastModifiedBy>
  <dcterms:modified xsi:type="dcterms:W3CDTF">2019-10-19T15:30:09Z</dcterms:modified>
  <cp:revision>9</cp:revision>
  <dc:subject/>
  <dc:title>Местоименные наречия (Pronominaladverbien)</dc:title>
</cp:coreProperties>
</file>