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0.png" ContentType="image/png"/>
  <Override PartName="/ppt/media/image27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gif" ContentType="image/gif"/>
  <Override PartName="/ppt/media/image5.gif" ContentType="image/gif"/>
  <Override PartName="/ppt/media/image8.png" ContentType="image/png"/>
  <Override PartName="/ppt/media/image13.png" ContentType="image/png"/>
  <Override PartName="/ppt/media/image4.gif" ContentType="image/gif"/>
  <Override PartName="/ppt/media/image22.jpeg" ContentType="image/jpeg"/>
  <Override PartName="/ppt/media/image12.png" ContentType="image/png"/>
  <Override PartName="/ppt/media/image20.jpeg" ContentType="image/jpeg"/>
  <Override PartName="/ppt/media/image26.png" ContentType="image/png"/>
  <Override PartName="/ppt/media/image14.png" ContentType="image/png"/>
  <Override PartName="/ppt/media/image25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3.gif" ContentType="image/gif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AutoShape 1"/>
          <p:cNvSpPr/>
          <p:nvPr/>
        </p:nvSpPr>
        <p:spPr>
          <a:xfrm>
            <a:off x="0" y="0"/>
            <a:ext cx="7102440" cy="899316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8993160"/>
              <a:gd name="textAreaBottom" fmla="*/ 8992800 h 8993160"/>
            </a:gdLst>
            <a:ahLst/>
            <a:rect l="textAreaLeft" t="textAreaTop" r="textAreaRight" b="textAreaBottom"/>
            <a:pathLst>
              <a:path w="21600" h="27350">
                <a:moveTo>
                  <a:pt x="4" y="0"/>
                </a:moveTo>
                <a:arcTo wR="4" hR="4" stAng="16200000" swAng="-5400000"/>
                <a:lnTo>
                  <a:pt x="0" y="27346"/>
                </a:lnTo>
                <a:arcTo wR="4" hR="4" stAng="10800000" swAng="-5400000"/>
                <a:lnTo>
                  <a:pt x="21596" y="27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AutoShape 2"/>
          <p:cNvSpPr/>
          <p:nvPr/>
        </p:nvSpPr>
        <p:spPr>
          <a:xfrm>
            <a:off x="0" y="0"/>
            <a:ext cx="7102440" cy="899316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8993160"/>
              <a:gd name="textAreaBottom" fmla="*/ 8992800 h 8993160"/>
            </a:gdLst>
            <a:ahLst/>
            <a:rect l="textAreaLeft" t="textAreaTop" r="textAreaRight" b="textAreaBottom"/>
            <a:pathLst>
              <a:path w="21600" h="27350">
                <a:moveTo>
                  <a:pt x="4" y="0"/>
                </a:moveTo>
                <a:arcTo wR="4" hR="4" stAng="16200000" swAng="-5400000"/>
                <a:lnTo>
                  <a:pt x="0" y="27346"/>
                </a:lnTo>
                <a:arcTo wR="4" hR="4" stAng="10800000" swAng="-5400000"/>
                <a:lnTo>
                  <a:pt x="21596" y="27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3"/>
          <p:cNvSpPr/>
          <p:nvPr/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dt" idx="43"/>
          </p:nvPr>
        </p:nvSpPr>
        <p:spPr>
          <a:xfrm>
            <a:off x="4022640" y="-360"/>
            <a:ext cx="307512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2800" cy="33688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body"/>
          </p:nvPr>
        </p:nvSpPr>
        <p:spPr>
          <a:xfrm>
            <a:off x="709560" y="4270320"/>
            <a:ext cx="568008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7"/>
          <p:cNvSpPr/>
          <p:nvPr/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44"/>
          </p:nvPr>
        </p:nvSpPr>
        <p:spPr>
          <a:xfrm>
            <a:off x="4022640" y="8540280"/>
            <a:ext cx="307512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9CBFE-9207-4AAB-9246-6CBBBBCD4C0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2800" cy="336888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709560" y="4270320"/>
            <a:ext cx="568008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Номер слайда 3"/>
          <p:cNvSpPr/>
          <p:nvPr/>
        </p:nvSpPr>
        <p:spPr>
          <a:xfrm>
            <a:off x="4022640" y="8540640"/>
            <a:ext cx="30751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01E84-361E-4C89-879E-1AAFE01720D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8"/>
          <p:cNvSpPr/>
          <p:nvPr/>
        </p:nvSpPr>
        <p:spPr>
          <a:xfrm>
            <a:off x="4022640" y="8540640"/>
            <a:ext cx="30751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39C25-008E-4D72-8F9B-1405FF3F6E3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8"/>
          <p:cNvSpPr/>
          <p:nvPr/>
        </p:nvSpPr>
        <p:spPr>
          <a:xfrm>
            <a:off x="4022640" y="8540640"/>
            <a:ext cx="30751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FA3AC-4E28-4C47-9E47-C9C1C7A23FD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8"/>
          <p:cNvSpPr/>
          <p:nvPr/>
        </p:nvSpPr>
        <p:spPr>
          <a:xfrm>
            <a:off x="4022640" y="8540640"/>
            <a:ext cx="30751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C7C94-185E-4E8F-8DC8-D2ACA756848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8"/>
          <p:cNvSpPr/>
          <p:nvPr/>
        </p:nvSpPr>
        <p:spPr>
          <a:xfrm>
            <a:off x="4022640" y="8540640"/>
            <a:ext cx="30751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3C700-990B-48E6-AE03-6E0A771A84D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2800" cy="336888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709560" y="4270320"/>
            <a:ext cx="568008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4022640" y="8540640"/>
            <a:ext cx="30751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DBC64-7CFF-4DD2-915A-B937FE6779A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8"/>
          <p:cNvSpPr/>
          <p:nvPr/>
        </p:nvSpPr>
        <p:spPr>
          <a:xfrm>
            <a:off x="4022640" y="8540640"/>
            <a:ext cx="30751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C3A22-0D33-41EC-91A9-E2E09E0CFFC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8"/>
          <p:cNvSpPr/>
          <p:nvPr/>
        </p:nvSpPr>
        <p:spPr>
          <a:xfrm>
            <a:off x="4022640" y="8540640"/>
            <a:ext cx="30751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67585-A0D2-4C56-9A97-4C8904FB56C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8"/>
          <p:cNvSpPr/>
          <p:nvPr/>
        </p:nvSpPr>
        <p:spPr>
          <a:xfrm>
            <a:off x="4022640" y="8540640"/>
            <a:ext cx="30751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A6A80-0D36-4CCC-B609-9AFD31A8550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817" name="Text Box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38CDA-B9EF-4841-85A8-4250DAA89B45}" type="slidenum">
              <a:rPr b="0" lang="ru-RU" sz="1200" spc="-1" strike="noStrike">
                <a:solidFill>
                  <a:srgbClr val="666699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8"/>
          <p:cNvSpPr/>
          <p:nvPr/>
        </p:nvSpPr>
        <p:spPr>
          <a:xfrm>
            <a:off x="4022640" y="8540640"/>
            <a:ext cx="30751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3DC08-533C-45D0-B150-FA90F33DE08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8"/>
          <p:cNvSpPr/>
          <p:nvPr/>
        </p:nvSpPr>
        <p:spPr>
          <a:xfrm>
            <a:off x="4022640" y="8540640"/>
            <a:ext cx="30751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9EA92-9530-4BCF-8DD9-982DF2A7392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8"/>
          <p:cNvSpPr/>
          <p:nvPr/>
        </p:nvSpPr>
        <p:spPr>
          <a:xfrm>
            <a:off x="4022640" y="8540640"/>
            <a:ext cx="30751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4A21E-7654-447D-B2CD-32898B38B6D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CCAD-07E2-48EB-B3EF-54045520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054C-C595-49CE-B5B1-AF8285A1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1DE25-5F59-4D6A-B6EC-9F530184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51527-E2A7-4F9E-8853-17E8112D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B8C5E-A7F8-4A17-B2A3-ED818BB3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9E89A-C9A9-43AC-B16C-E03AA491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83930-8769-4ACD-9B1B-CDAF2003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9C6EB-C58D-4F74-B525-A4B7CCFC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CA74D-102B-4B44-890B-77945709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D5D0B-7D18-4BE4-8139-C6AF2DDD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F787E-E805-411F-B256-CEE77803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A1D01-CD33-4DB7-833E-313BB974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4BFA-7097-49E1-BAEB-9EEDAB86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28412-2E35-4807-976F-EB480603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76951-3270-487B-856B-7F435EB4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41626-9918-4EAB-AA35-4D065A4B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D7517-C4A2-4EA4-83AB-F5DE299A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1430F-3ADC-4EB6-B0F3-D4CE9A0C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4AB0D-0FC1-4C69-8C3B-D13841D9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C8367-7546-4B91-B888-B428BAB1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90CA1-B4CD-4D3C-AEBF-CA16F4B0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374BA-E9D4-42A1-B8B3-7AEDD908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81F90-3F0E-4FD2-9510-BEC7BB46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F8C0-389F-491D-B42A-AE074CF5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7E10A-A3E5-42FB-8CB6-DCA7C6B0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F80CE-50DE-47BC-AED6-67E5D266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D6ACE-4153-4030-BD48-A3F4AF96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83095-AC78-4FFD-8F57-100E389B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4CBCC-55C3-445A-B02A-799705A2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FE78E-FE61-4402-A545-19DD7E90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8DEE6-D4DA-40D5-9773-C7564544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249B6-B84D-4856-BED3-6336E2C8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71871-4F04-4F5D-9C7A-2C913F10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0F48D-AB17-4F9E-AEEE-316368A3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BE7C-9019-4607-9876-99C5DAE5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6E004-54A4-456A-8C38-16F14825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E2078-6501-44FE-823B-306ECCBF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7316C-B9A1-424E-A91E-E317704E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855E0-D5CF-4A7D-885F-6E23B8D7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6C28F-C52E-4F2D-A684-B2DE8405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41917-D125-4860-99FF-CED68122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ED6FF-661B-4A18-8438-E5E1C010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49B11-3EE1-4AE9-AB66-04597700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B0DF3-F2B3-47A9-8141-D7E3EB7F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87412-B412-47E6-98FE-C3640E6A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B29D-79C5-44DE-B675-CE122D74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E3CCB-6DE1-4EBC-9CFF-CE7A7DBA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F43B2-72D4-4E03-8E08-8CE854C6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F617D-5248-4538-B790-1F9400A3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85850-B218-47EB-BF06-40EB3C88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92FC1-7A95-47BC-8E92-41FB6921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CE9F5E-F2AF-4D88-86A5-184B857A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E2492-0219-4631-A086-27BF1DED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F4378-912D-402D-BD7B-41856536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8A579C-4264-48AA-A132-69D42B48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F5F99-6F9D-4553-BC41-D52F93ED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8872-EF87-49BB-8C86-5A0CE874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534AC-8EAF-4A5D-92B1-2F607D73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4ECE3D-689C-407B-A165-3BD73E4F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876DC9-6289-409D-B76A-29C5F1D2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B31ECF-3FD6-42EE-B58D-C71E65B7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DAEEA6-FB6C-4E87-B2B8-9C0EDF33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DF410B-85DC-4DA1-921C-1A4FB951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06D38-BFD2-42DA-8401-A10876A0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E0687C-FEF1-43B9-B528-B0D3A25B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45C0B0-45C8-45AC-8959-8883365D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F0D62E-C544-49EB-999E-A2076EF3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E677-7C3F-43AE-99B2-50907133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FD111E-C87B-4556-B883-BFA786B1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B5FDB7-8CFF-472E-9A98-22CD5666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29FB22-95A7-4AD2-BEB1-FAD30A59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3EE090-9647-4AD1-930A-FF4B43BD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ADA67C-F28A-48AE-85C4-54A952B6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E6AE97-FD8E-41AB-A3B0-21B7998E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1D6483-DC98-49DA-9DDE-24DE2862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287219-5195-49C2-82A1-C5FA8D8B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A32EFD-1230-4795-8013-BD8CF186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F581-0C94-4B34-A69F-9967FDB9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294A-FBCA-481A-9C48-B4038209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FAE8-08CC-4287-9471-8E08F6D8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C63-E844-4C14-AD94-C702F825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774A-0C75-4A3C-ABF1-CFB32C51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A9E3-B51A-47BB-91EE-F77001B1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DDA2-1240-44B3-A4B2-99AB99F5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E95E-CA2A-4E5F-ACD3-7822476D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7C9C-38B5-49E6-BEE1-B1BDAB83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E4149-CEA8-448B-AC15-726E79A6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68A3F-0B30-4381-B2C2-4FE38841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F6846-B76A-449A-A0E6-A23DC628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EA730-7096-4EC4-A81F-63E3AAEC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5225A-1605-460F-B6C8-7AACF40A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0397-590E-4788-9998-E68FC765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9CB11-1769-4835-9FC9-C65728CC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6444C-18B8-495E-8CDE-4137D2F8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F5E52-CC74-42A1-A010-4006953A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E7EB8-A214-44CB-8428-498AA0AE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643FC-0202-4B11-BD70-9009932C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51E7C-E69C-4AAC-A248-B6ACED78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C1433-B7E0-42D5-BDEB-C9E2D79B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87FF5-2CEE-49E2-9EDD-95A7F512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7BA25-57F6-4012-8DC2-C74B1DF3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90214-DE92-4E1C-AD54-FCE217B7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728C-8DD4-449F-AB57-57E0B0FD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7A7F1-A21B-4D92-86F5-463E2B1C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57F4B-E972-43D9-AA93-9B187F3D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17AAA-E35B-4B44-A925-263630E2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D5329-7F2E-41FC-BBF2-F40B80F4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20266-A982-448C-AEFB-9A446B27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29165-13D6-46F8-873E-AF107C73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6FB71-1DA0-4155-B9EA-542826B9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19C87-90C8-4503-8FEA-E242E5D9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0AE6B-B430-4AB6-8AB0-3AC52BFA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EA8E0-216A-458E-BADE-DA04CC57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D4C7-D845-4292-B564-1B6F8AA8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394A1-21D8-4DFA-8088-68B5FAB5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D3216-AD9E-4064-9FF8-D952AA32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B035A-EFC3-42B2-8CC0-14E3ED1B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93415-5038-4222-9341-DB7D2561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6F6BA-2BBE-4F1A-B3F3-15CF18F9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CCBD7-4A5E-4C4A-9BEE-444418AC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F6641-12AC-4119-B926-1738D851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5C105-CE8C-4D69-8DA0-BBBD6787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42649-B4FE-4717-9B60-121254E6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F0995-702B-48A1-86DA-C3F0E67F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8CE9-8833-4510-9132-EEA3418C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096FD-FEA0-4DFF-B387-B9FB5A8F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33829-671B-4E2C-8096-8218FB63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BC64E-81A3-472C-BE35-ED6F85F5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C12C0-CD25-4C4F-B028-2520D393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1E668-FF5E-4C4A-8F27-ED7AF83F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8B7FA-0CC9-47E1-84D2-A9DFEFB3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45217-6A52-495D-8AB4-3FA78392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AD38D-1803-4187-933F-33C4C745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1C5AB-3C5E-4367-BB77-BA424B05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1BDE4-8676-4D8C-9AA4-85DF6EA3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6CA3-D87A-46C9-A391-A215F79D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A45C0-7BB1-4884-BBD5-63B14778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9E7CB-222D-40EC-B05A-9745AD94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702CD-38EE-4BFC-BEE4-6B93D44E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CC717-9E39-4F28-9B9C-7000DB3C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3EABB-B0AC-429F-A0B5-A68A7849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F0390-8413-45D5-8D17-689DAA3E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DD23E-58A4-4265-8469-73B640E7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8BD81-31A2-468A-BB3C-1CABAD5E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1F16E-016D-48FE-9138-4F1109C7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0AD60-0252-41FF-92B4-A06E94AC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CF41-6361-4AE4-BF89-696D7694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C59D0-A298-4079-AD52-1CD70C1F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186CF-95E6-49D0-A5ED-57B9C0A4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32A95-62AA-4027-BA07-661B46F9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5D819-DD16-4663-8E04-C868581B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573E9-247C-4A72-98F2-FC504306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E7D0D-8CC9-4023-8FC0-AC6C5B74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05515-E8EF-4CB9-A8E5-207CB728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10AE1-4702-4EF3-B951-38CFC603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B66E8-E968-4425-BAC0-374E26EB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3024D-4FBD-4736-B38F-E9F97BA1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162F-0464-4F22-A361-9C5575EB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10C9B-702A-4FFB-9144-59C96FBC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5A6C0-0AB5-40B2-952A-A6F228CE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6CFD3-91A3-4404-8DD0-2285A936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954DA-85DB-4BD7-9109-447D8B4B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ED6D7-C6C9-435D-AE5B-6884C528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6C18D-7A81-4FF1-9B5C-A1AFA2C6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E5CD3-583E-4408-9C28-013DE3F9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00B81-C318-409E-9924-87A84D4B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1ECB0-BE6B-41A9-BE1B-4778709C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CFC2E-FDC7-46E9-9297-A079C1D0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711A6D-6581-452A-9714-79A11A53AFF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6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themegallery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4FDDD6-21A3-4CB7-AB8E-6350BDC722F5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2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2352C5-712E-4B65-87E6-AA57C698D9A3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7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3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3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3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44E6CA-4C5D-4C81-9ACF-AC039E45184D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2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themegallery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13379F-2070-4E2B-8087-EF797B95B056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8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themegallery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4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4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FA7A80-B27E-4368-84FD-11430F864BC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themegallery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690470-D8B2-4EFE-8587-B7595447FB6D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themegallery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1DCE8C-6974-4937-A848-E2E301C9A901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themegallery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E8B21B-6EC0-4590-A613-9AA8874291FE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themegallery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2BC8AB-255D-4276-8A6C-1CD18271B4EF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themegallery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CFD009-E40B-411A-A09D-5306A3F8829F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themegallery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AC9938-E087-4619-89AB-EBD877E18A6E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themegallery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1AFD9F-2314-4B71-B1BF-AED4021CAFA3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1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themegallery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6C1460-81D6-4EEF-B9EB-FCDD81427956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urse-crystal.narod.ru/p31aa1.html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746100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467ce8"/>
                </a:solidFill>
                <a:latin typeface="Trebuchet MS"/>
              </a:rPr>
              <a:t> </a:t>
            </a:r>
            <a:r>
              <a:rPr b="0" lang="ru-RU" sz="5400" spc="-1" strike="noStrike">
                <a:solidFill>
                  <a:srgbClr val="00b050"/>
                </a:solidFill>
                <a:latin typeface="Trebuchet MS"/>
              </a:rPr>
              <a:t>Выращивание кристаллов </a:t>
            </a:r>
            <a:br>
              <a:rPr sz="5400"/>
            </a:br>
            <a:r>
              <a:rPr b="0" lang="ru-RU" sz="5400" spc="-1" strike="noStrike">
                <a:solidFill>
                  <a:srgbClr val="00b050"/>
                </a:solidFill>
                <a:latin typeface="Trebuchet MS"/>
              </a:rPr>
              <a:t>в домашних условиях 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3419640" y="5157360"/>
            <a:ext cx="3970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Выполнили: обучающиеся 2е клас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43" name="Picture 7" descr=""/>
          <p:cNvPicPr/>
          <p:nvPr/>
        </p:nvPicPr>
        <p:blipFill>
          <a:blip r:embed="rId1"/>
          <a:stretch/>
        </p:blipFill>
        <p:spPr>
          <a:xfrm>
            <a:off x="324000" y="4624560"/>
            <a:ext cx="2357280" cy="1785600"/>
          </a:xfrm>
          <a:prstGeom prst="rect">
            <a:avLst/>
          </a:prstGeom>
          <a:ln w="0">
            <a:noFill/>
          </a:ln>
        </p:spPr>
      </p:pic>
      <p:sp>
        <p:nvSpPr>
          <p:cNvPr id="744" name="TextBox 4"/>
          <p:cNvSpPr/>
          <p:nvPr/>
        </p:nvSpPr>
        <p:spPr>
          <a:xfrm>
            <a:off x="2124000" y="2095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МОУ Усть-Ордынская СОШ №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Как проходил наш эксперимент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779" name="Picture 2" descr="https://pp.userapi.com/c845523/v845523650/210499/plq4SUwUvXk.jpg"/>
          <p:cNvPicPr/>
          <p:nvPr/>
        </p:nvPicPr>
        <p:blipFill>
          <a:blip r:embed="rId1"/>
          <a:stretch/>
        </p:blipFill>
        <p:spPr>
          <a:xfrm>
            <a:off x="609480" y="1484280"/>
            <a:ext cx="1584360" cy="211284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6" descr="https://pp.userapi.com/c845523/v845523650/2104a2/TTJT9KGSFK0.jpg"/>
          <p:cNvPicPr/>
          <p:nvPr/>
        </p:nvPicPr>
        <p:blipFill>
          <a:blip r:embed="rId2"/>
          <a:stretch/>
        </p:blipFill>
        <p:spPr>
          <a:xfrm>
            <a:off x="5364000" y="1571760"/>
            <a:ext cx="2040120" cy="271908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8" descr="https://nauchitsya-sdelat.ru/wp-content/uploads/2016/05/growing-crystals1.jpg"/>
          <p:cNvPicPr/>
          <p:nvPr/>
        </p:nvPicPr>
        <p:blipFill>
          <a:blip r:embed="rId3"/>
          <a:stretch/>
        </p:blipFill>
        <p:spPr>
          <a:xfrm>
            <a:off x="395280" y="4005360"/>
            <a:ext cx="3960720" cy="26683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10" descr="https://ds03.infourok.ru/uploads/ex/09c1/000414e8-e4baee28/hello_html_m2535bffb.jpg"/>
          <p:cNvPicPr/>
          <p:nvPr/>
        </p:nvPicPr>
        <p:blipFill>
          <a:blip r:embed="rId4"/>
          <a:stretch/>
        </p:blipFill>
        <p:spPr>
          <a:xfrm>
            <a:off x="5097600" y="4773600"/>
            <a:ext cx="29080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 Box 1"/>
          <p:cNvSpPr/>
          <p:nvPr/>
        </p:nvSpPr>
        <p:spPr>
          <a:xfrm>
            <a:off x="1714680" y="0"/>
            <a:ext cx="5881680" cy="21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лава 2. Практическая ча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2. Опыт № 2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2"/>
          <p:cNvSpPr/>
          <p:nvPr/>
        </p:nvSpPr>
        <p:spPr>
          <a:xfrm>
            <a:off x="0" y="3645000"/>
            <a:ext cx="6624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250920" y="692280"/>
            <a:ext cx="7670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Опыт № 2. Выращивание кристалла медного купоро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Медный купорос применяют в сельском хозяйстве для борьбы вредителями и болезнями раст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1. Для выращивания кристалла медного купороса необходим порошок медного купороса, стеклянная баночка, горячая в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2. К баночку налили горячую воду, размешали порошок до полного раствор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3. Привязали на палочку нитку и опустили ее в раствор. Поставили раствор охлаждать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4.  Через 7 дней наши кристалл выглядел вот та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5. Через </a:t>
            </a:r>
            <a:r>
              <a:rPr b="1" lang="en-US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14 </a:t>
            </a:r>
            <a:r>
              <a:rPr b="1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дней у нас вырос кристалл медного купоро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Вывод: кристалл медного купороса растет быстрее соли, сам кристалл очень красивый с четкими гран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Как проходил наш эксперимент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787" name="Picture 2" descr="https://qwizz.ru/wp-content/uploads/2018/04/udivitelnye-opyty-5.jpg"/>
          <p:cNvPicPr/>
          <p:nvPr/>
        </p:nvPicPr>
        <p:blipFill>
          <a:blip r:embed="rId1"/>
          <a:stretch/>
        </p:blipFill>
        <p:spPr>
          <a:xfrm>
            <a:off x="357120" y="2060640"/>
            <a:ext cx="3425760" cy="264636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4" descr="http://ndiezel.name/uploads/posts/2011-02/1296990364_dsc00205.jpg"/>
          <p:cNvPicPr/>
          <p:nvPr/>
        </p:nvPicPr>
        <p:blipFill>
          <a:blip r:embed="rId2"/>
          <a:srcRect l="0" t="0" r="0" b="5765"/>
          <a:stretch/>
        </p:blipFill>
        <p:spPr>
          <a:xfrm>
            <a:off x="4067280" y="1930320"/>
            <a:ext cx="3408120" cy="240984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6" descr="http://knowledgeblog.ru/-agYagq4DXwA/UQbw7HxLSYI/AAAAAAAASAc/6gbOpA3P1kI/s1600/25.01.2013%2014-16-32_0016.JPG"/>
          <p:cNvPicPr/>
          <p:nvPr/>
        </p:nvPicPr>
        <p:blipFill>
          <a:blip r:embed="rId3"/>
          <a:srcRect l="0" t="0" r="8947" b="0"/>
          <a:stretch/>
        </p:blipFill>
        <p:spPr>
          <a:xfrm>
            <a:off x="3924360" y="4683240"/>
            <a:ext cx="264168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1"/>
          <p:cNvSpPr/>
          <p:nvPr/>
        </p:nvSpPr>
        <p:spPr>
          <a:xfrm>
            <a:off x="1714680" y="0"/>
            <a:ext cx="5881680" cy="21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лава 2. Практическая ча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3. Опыт № 3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Text Box 2"/>
          <p:cNvSpPr/>
          <p:nvPr/>
        </p:nvSpPr>
        <p:spPr>
          <a:xfrm>
            <a:off x="0" y="3645000"/>
            <a:ext cx="6624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3"/>
          <p:cNvSpPr/>
          <p:nvPr/>
        </p:nvSpPr>
        <p:spPr>
          <a:xfrm>
            <a:off x="324000" y="620640"/>
            <a:ext cx="6885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Опыт № 3. Выращивание кристалла из набора «Волшебные кристаллы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1. Для эксперимента  мы взяли кристаллический порошок (из набора), пластиковый стаканчи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2. Кипящую воду налили в  стаканчик с порошком, размешали до полного   раствор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3.  Накрыли крышкой, оставили на 24 ча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4. Открыли через 24 часа и стали жд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5.  Через 10 дней у нас выросла вот такая красота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Вывод: кристалл растет быстро, очень красивый и похож  на самоцв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Выставка кристаллов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794" name="Picture 5" descr="https://fs00.infourok.ru/images/doc/143/166639/img30.jpg"/>
          <p:cNvPicPr/>
          <p:nvPr/>
        </p:nvPicPr>
        <p:blipFill>
          <a:blip r:embed="rId1"/>
          <a:stretch/>
        </p:blipFill>
        <p:spPr>
          <a:xfrm>
            <a:off x="1197000" y="2160720"/>
            <a:ext cx="5173560" cy="3881160"/>
          </a:xfrm>
          <a:prstGeom prst="rect">
            <a:avLst/>
          </a:prstGeom>
          <a:ln w="0">
            <a:noFill/>
          </a:ln>
        </p:spPr>
      </p:pic>
      <p:cxnSp>
        <p:nvCxnSpPr>
          <p:cNvPr id="795" name="Соединительная линия уступом 2"/>
          <p:cNvCxnSpPr/>
          <p:nvPr/>
        </p:nvCxnSpPr>
        <p:spPr>
          <a:xfrm>
            <a:off x="3059280" y="2420640"/>
            <a:ext cx="218160" cy="13320"/>
          </a:xfrm>
          <a:prstGeom prst="bentConnector3">
            <a:avLst>
              <a:gd name="adj1" fmla="val 49917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"/>
          <p:cNvSpPr/>
          <p:nvPr/>
        </p:nvSpPr>
        <p:spPr>
          <a:xfrm>
            <a:off x="633240" y="190440"/>
            <a:ext cx="78962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Заключ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 Box 2"/>
          <p:cNvSpPr/>
          <p:nvPr/>
        </p:nvSpPr>
        <p:spPr>
          <a:xfrm>
            <a:off x="123840" y="1285920"/>
            <a:ext cx="558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100000"/>
              </a:lnSpc>
              <a:spcBef>
                <a:spcPts val="451"/>
              </a:spcBef>
              <a:buClr>
                <a:srgbClr val="28bfee"/>
              </a:buClr>
              <a:buFont typeface="Wingdings" charset="2"/>
              <a:buChar char="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Times New Roman"/>
              </a:rPr>
              <a:t>Наш</a:t>
            </a:r>
            <a:r>
              <a:rPr b="1" lang="ru-RU" sz="20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эксперимент показал, что кристаллы можно вырастить самому в домашних условия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Bef>
                <a:spcPts val="451"/>
              </a:spcBef>
              <a:buClr>
                <a:srgbClr val="28bfee"/>
              </a:buClr>
              <a:buFont typeface="Wingdings" charset="2"/>
              <a:buChar char="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В результате проведенных исследований гипотеза полностью подтверждается: нам удалось вырастить кристалл из поваренной соли, кристалл из медного купороса, кристалл из набора «Волшебный кристалл» в домашних услов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Bef>
                <a:spcPts val="451"/>
              </a:spcBef>
              <a:buClr>
                <a:srgbClr val="28bfee"/>
              </a:buClr>
              <a:buFont typeface="Wingdings" charset="2"/>
              <a:buChar char="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Благодаря полученному эксперименту, мы устроили выставку кристал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Picture 5" descr=""/>
          <p:cNvPicPr/>
          <p:nvPr/>
        </p:nvPicPr>
        <p:blipFill>
          <a:blip r:embed="rId1"/>
          <a:stretch/>
        </p:blipFill>
        <p:spPr>
          <a:xfrm>
            <a:off x="6643800" y="1285920"/>
            <a:ext cx="1962000" cy="142884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6" descr=""/>
          <p:cNvPicPr/>
          <p:nvPr/>
        </p:nvPicPr>
        <p:blipFill>
          <a:blip r:embed="rId2"/>
          <a:stretch/>
        </p:blipFill>
        <p:spPr>
          <a:xfrm>
            <a:off x="5715000" y="3857760"/>
            <a:ext cx="3079800" cy="207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Список литературы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Голубев А.Д. Энциклопедический словарь юного химика. М.: Педагогика. 2013 г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Закулов А.П., Калинина Л.В. Универсальная школьная энциклопедия для детей «Аванта +». М.: Просвещение. 2004 г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Леенсон И.А. «Хочу всё знать. Занимательная химия». Ростов на Дону: ДОН. 2018 г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Шасколинская М.П. Кристаллы. М.: Наука, 2017 г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ru-RU" sz="20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http://course-crystal.narod.ru/p31aa1.html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«Мир кристаллов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4" descr="https://im0-tub-ru.yandex.net/i?id=b1c1148a4985b17c8f28d27d1b1511cf&amp;n=13"/>
          <p:cNvPicPr/>
          <p:nvPr/>
        </p:nvPicPr>
        <p:blipFill>
          <a:blip r:embed="rId1"/>
          <a:stretch/>
        </p:blipFill>
        <p:spPr>
          <a:xfrm>
            <a:off x="3635280" y="3645000"/>
            <a:ext cx="2627280" cy="261936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1"/>
          <p:cNvSpPr/>
          <p:nvPr/>
        </p:nvSpPr>
        <p:spPr>
          <a:xfrm>
            <a:off x="611280" y="692280"/>
            <a:ext cx="806436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Trebuchet MS"/>
              </a:rPr>
              <a:t>    </a:t>
            </a:r>
            <a:r>
              <a:rPr b="1" lang="ru-RU" sz="1800" spc="-1" strike="noStrike">
                <a:solidFill>
                  <a:srgbClr val="666699"/>
                </a:solidFill>
                <a:latin typeface="Trebuchet MS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spcBef>
                <a:spcPts val="451"/>
              </a:spcBef>
              <a:buClr>
                <a:srgbClr val="28bfee"/>
              </a:buClr>
              <a:buFont typeface="Wingdings" charset="2"/>
              <a:buChar char="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Актуальность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Кристаллы – поразительные создания природы, а их выращивание очень интересное и увлекательное занятие, которое сохраняет природное богатств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Прямоугольник 3"/>
          <p:cNvSpPr/>
          <p:nvPr/>
        </p:nvSpPr>
        <p:spPr>
          <a:xfrm>
            <a:off x="611280" y="1268280"/>
            <a:ext cx="7848360" cy="54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28bfee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Гипотеза: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мы предполагаем, что в домашних условиях действительно можно вырастить некоторые виды кристал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28bfee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Цель проекта: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ровести исследование по выращиванию кристал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28bfee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28bfee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Задачи исследов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. Узнать, что такое кристалл и познакомиться с его вид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. Создать условия для роста кристаллов и провести эксперимен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. Организовать выставку кристал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4. Проанализировать полученные результа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28bfee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1"/>
          <p:cNvSpPr/>
          <p:nvPr/>
        </p:nvSpPr>
        <p:spPr>
          <a:xfrm>
            <a:off x="395280" y="1071720"/>
            <a:ext cx="83199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spcBef>
                <a:spcPts val="451"/>
              </a:spcBef>
              <a:buClr>
                <a:srgbClr val="28bfee"/>
              </a:buClr>
              <a:buFont typeface="Wingdings" charset="2"/>
              <a:buChar char="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Объект исследования: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кристал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spcBef>
                <a:spcPts val="451"/>
              </a:spcBef>
              <a:buClr>
                <a:srgbClr val="28bfee"/>
              </a:buClr>
              <a:buFont typeface="Wingdings" charset="2"/>
              <a:buChar char="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редмет исследования: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роцесс изготовления кристалл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spcBef>
                <a:spcPts val="451"/>
              </a:spcBef>
              <a:buClr>
                <a:srgbClr val="28bfee"/>
              </a:buClr>
              <a:buFont typeface="Wingdings" charset="2"/>
              <a:buChar char="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Методы исследов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1.Изучение литератур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.Изучение информации в интернет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. Наблюдение, эксперимент, анали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9" name="Picture 5" descr=""/>
          <p:cNvPicPr/>
          <p:nvPr/>
        </p:nvPicPr>
        <p:blipFill>
          <a:blip r:embed="rId1"/>
          <a:stretch/>
        </p:blipFill>
        <p:spPr>
          <a:xfrm>
            <a:off x="7224840" y="5084640"/>
            <a:ext cx="1941480" cy="164304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6" descr=""/>
          <p:cNvPicPr/>
          <p:nvPr/>
        </p:nvPicPr>
        <p:blipFill>
          <a:blip r:embed="rId2"/>
          <a:stretch/>
        </p:blipFill>
        <p:spPr>
          <a:xfrm>
            <a:off x="7224840" y="620640"/>
            <a:ext cx="1704960" cy="1257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 Box 1"/>
          <p:cNvSpPr/>
          <p:nvPr/>
        </p:nvSpPr>
        <p:spPr>
          <a:xfrm>
            <a:off x="633240" y="190440"/>
            <a:ext cx="78962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Введ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438120" y="1266840"/>
            <a:ext cx="8569440" cy="68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Многие из самых обычных веществ вокруг нас представляют из себя кристаллы. Замерзающая вода превращается в кристаллы льда или снежинки. Каждая отдельная частица соли или сахара — тоже кристалл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3" name="Picture 4" descr=""/>
          <p:cNvPicPr/>
          <p:nvPr/>
        </p:nvPicPr>
        <p:blipFill>
          <a:blip r:embed="rId1"/>
          <a:stretch/>
        </p:blipFill>
        <p:spPr>
          <a:xfrm>
            <a:off x="8191440" y="495288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5" descr=""/>
          <p:cNvPicPr/>
          <p:nvPr/>
        </p:nvPicPr>
        <p:blipFill>
          <a:blip r:embed="rId2"/>
          <a:stretch/>
        </p:blipFill>
        <p:spPr>
          <a:xfrm>
            <a:off x="128520" y="1247760"/>
            <a:ext cx="619200" cy="628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 Box 1"/>
          <p:cNvSpPr/>
          <p:nvPr/>
        </p:nvSpPr>
        <p:spPr>
          <a:xfrm>
            <a:off x="633240" y="0"/>
            <a:ext cx="78962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лава 1. Мир кристаллов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1. Что такое кристалл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2"/>
          <p:cNvSpPr/>
          <p:nvPr/>
        </p:nvSpPr>
        <p:spPr>
          <a:xfrm>
            <a:off x="144360" y="1655640"/>
            <a:ext cx="517860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Название «кристалл» произошло от двух греческих слов – «холод» и «застывать», т.е. в древности это означало «застывший лед». По данным энциклопедии, кристалл – это твердое тел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7" name="Picture 4" descr=""/>
          <p:cNvPicPr/>
          <p:nvPr/>
        </p:nvPicPr>
        <p:blipFill>
          <a:blip r:embed="rId1"/>
          <a:stretch/>
        </p:blipFill>
        <p:spPr>
          <a:xfrm>
            <a:off x="6084720" y="1287360"/>
            <a:ext cx="2786400" cy="178596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5" descr=""/>
          <p:cNvPicPr/>
          <p:nvPr/>
        </p:nvPicPr>
        <p:blipFill>
          <a:blip r:embed="rId2"/>
          <a:stretch/>
        </p:blipFill>
        <p:spPr>
          <a:xfrm>
            <a:off x="7013520" y="4714920"/>
            <a:ext cx="1857600" cy="192888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6" descr=""/>
          <p:cNvPicPr/>
          <p:nvPr/>
        </p:nvPicPr>
        <p:blipFill>
          <a:blip r:embed="rId3"/>
          <a:stretch/>
        </p:blipFill>
        <p:spPr>
          <a:xfrm>
            <a:off x="7380360" y="3130560"/>
            <a:ext cx="1676160" cy="142884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7" descr=""/>
          <p:cNvPicPr/>
          <p:nvPr/>
        </p:nvPicPr>
        <p:blipFill>
          <a:blip r:embed="rId4"/>
          <a:stretch/>
        </p:blipFill>
        <p:spPr>
          <a:xfrm>
            <a:off x="5511960" y="3179880"/>
            <a:ext cx="1714320" cy="1428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1"/>
          <p:cNvSpPr/>
          <p:nvPr/>
        </p:nvSpPr>
        <p:spPr>
          <a:xfrm>
            <a:off x="1763640" y="0"/>
            <a:ext cx="58327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Какие бывают кристаллы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2"/>
          <p:cNvSpPr/>
          <p:nvPr/>
        </p:nvSpPr>
        <p:spPr>
          <a:xfrm>
            <a:off x="0" y="3645000"/>
            <a:ext cx="6624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0" y="1357200"/>
            <a:ext cx="662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666699"/>
                </a:solidFill>
                <a:latin typeface="Trebuchet MS"/>
                <a:ea typeface="Times New Roman"/>
              </a:rPr>
              <a:t>Кристаллы бывают очень разны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Trebuchet MS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666699"/>
                </a:solidFill>
                <a:latin typeface="Trebuchet MS"/>
                <a:ea typeface="Times New Roman"/>
              </a:rPr>
              <a:t>Существуют кристаллы, которые находятся глубоко в земле. Размеры таких кристаллов иногда достигают человеческого рос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Trebuchet MS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666699"/>
                </a:solidFill>
                <a:latin typeface="Trebuchet MS"/>
                <a:ea typeface="Times New Roman"/>
              </a:rPr>
              <a:t>Встречаются также очень тонкие кристаллы, толщина которых меньше чем у листка бумаги. Но бывают и огромные пласты, толщина которых достигает несколько мет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Trebuchet MS"/>
                <a:ea typeface="Times New Roman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4" name="Picture 4" descr=""/>
          <p:cNvPicPr/>
          <p:nvPr/>
        </p:nvPicPr>
        <p:blipFill>
          <a:blip r:embed="rId1"/>
          <a:stretch/>
        </p:blipFill>
        <p:spPr>
          <a:xfrm>
            <a:off x="6624720" y="1181160"/>
            <a:ext cx="2452680" cy="142884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5" descr=""/>
          <p:cNvPicPr/>
          <p:nvPr/>
        </p:nvPicPr>
        <p:blipFill>
          <a:blip r:embed="rId2"/>
          <a:stretch/>
        </p:blipFill>
        <p:spPr>
          <a:xfrm>
            <a:off x="6929280" y="3143160"/>
            <a:ext cx="1619280" cy="100008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6" descr=""/>
          <p:cNvPicPr/>
          <p:nvPr/>
        </p:nvPicPr>
        <p:blipFill>
          <a:blip r:embed="rId3"/>
          <a:stretch/>
        </p:blipFill>
        <p:spPr>
          <a:xfrm>
            <a:off x="6667560" y="4508640"/>
            <a:ext cx="2143080" cy="1428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1"/>
          <p:cNvSpPr/>
          <p:nvPr/>
        </p:nvSpPr>
        <p:spPr>
          <a:xfrm>
            <a:off x="1763640" y="0"/>
            <a:ext cx="58327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3. Применение кристалл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Text Box 2"/>
          <p:cNvSpPr/>
          <p:nvPr/>
        </p:nvSpPr>
        <p:spPr>
          <a:xfrm>
            <a:off x="0" y="3645000"/>
            <a:ext cx="6624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3"/>
          <p:cNvSpPr/>
          <p:nvPr/>
        </p:nvSpPr>
        <p:spPr>
          <a:xfrm>
            <a:off x="0" y="1357200"/>
            <a:ext cx="5715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Применение кристаллов очень разнообразно и встречается в таких сферах ка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66699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Пищев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66699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Строите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66699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Информацио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0" name="Picture 4" descr=""/>
          <p:cNvPicPr/>
          <p:nvPr/>
        </p:nvPicPr>
        <p:blipFill>
          <a:blip r:embed="rId1"/>
          <a:stretch/>
        </p:blipFill>
        <p:spPr>
          <a:xfrm>
            <a:off x="6429240" y="1357200"/>
            <a:ext cx="1667160" cy="135756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" descr=""/>
          <p:cNvPicPr/>
          <p:nvPr/>
        </p:nvPicPr>
        <p:blipFill>
          <a:blip r:embed="rId2"/>
          <a:stretch/>
        </p:blipFill>
        <p:spPr>
          <a:xfrm>
            <a:off x="4964040" y="2865600"/>
            <a:ext cx="1928880" cy="113652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6" descr=""/>
          <p:cNvPicPr/>
          <p:nvPr/>
        </p:nvPicPr>
        <p:blipFill>
          <a:blip r:embed="rId3"/>
          <a:stretch/>
        </p:blipFill>
        <p:spPr>
          <a:xfrm>
            <a:off x="865080" y="545292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7" descr=""/>
          <p:cNvPicPr/>
          <p:nvPr/>
        </p:nvPicPr>
        <p:blipFill>
          <a:blip r:embed="rId4"/>
          <a:stretch/>
        </p:blipFill>
        <p:spPr>
          <a:xfrm>
            <a:off x="5786280" y="4357800"/>
            <a:ext cx="2428920" cy="12142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8" descr=""/>
          <p:cNvPicPr/>
          <p:nvPr/>
        </p:nvPicPr>
        <p:blipFill>
          <a:blip r:embed="rId5"/>
          <a:stretch/>
        </p:blipFill>
        <p:spPr>
          <a:xfrm>
            <a:off x="2700360" y="5000760"/>
            <a:ext cx="1785960" cy="1143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 Box 1"/>
          <p:cNvSpPr/>
          <p:nvPr/>
        </p:nvSpPr>
        <p:spPr>
          <a:xfrm>
            <a:off x="1714680" y="0"/>
            <a:ext cx="5881680" cy="21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лава 2. Практическая ча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1. Опыт № 1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2"/>
          <p:cNvSpPr/>
          <p:nvPr/>
        </p:nvSpPr>
        <p:spPr>
          <a:xfrm>
            <a:off x="0" y="3645000"/>
            <a:ext cx="6624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Rectangle 3"/>
          <p:cNvSpPr/>
          <p:nvPr/>
        </p:nvSpPr>
        <p:spPr>
          <a:xfrm>
            <a:off x="214200" y="1143000"/>
            <a:ext cx="8390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Опыт № 1. Выращивание кристалла поваренной со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1. Для эксперимента  мы взяли пластиковый стаканчик, горячую воду  и соль.  Соль добавляли до тех пор, пока она не перестала растворять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2. К палочке привяли нитку, на которую потом будут собираться кристаллы. Опустили ее в раствор с сол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3. Поставили раствор охлаждаться. Чем медленнее он будет остывать, тем крупнее получатся кристал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4.  Через 7 дней наш кристалл выглядел вот та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5. Через 14 дней у нас вырос кристалл поваренной со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Вывод: кристалл соли растет за счет нарастания на него из водного раствора соли других кристал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0:40:29Z</dcterms:created>
  <dc:creator>Admin</dc:creator>
  <dc:description/>
  <dc:language>en-US</dc:language>
  <cp:lastModifiedBy>АНАСТАСИЯ</cp:lastModifiedBy>
  <dcterms:modified xsi:type="dcterms:W3CDTF">2019-10-18T11:55:09Z</dcterms:modified>
  <cp:revision>93</cp:revision>
  <dc:subject/>
  <dc:title>Мастер-класс блоки Дьенеша и палочки Кюизенера</dc:title>
</cp:coreProperties>
</file>