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2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FFD-A160-413B-B95C-8F41E1EC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5D2-A664-43D2-AB85-90C85C2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806-AC0A-42A0-898F-A6A8CF07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254-B2D8-47D6-98D6-4F117612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984-7B69-46CD-A408-AD45F194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C5B6-A9C6-4E7D-A98B-BC4EF0A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A75-A327-4A55-BBE3-71407DF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7A08-753C-45A4-8B5A-8C09760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31B0-36FB-4BA2-89D1-C6AAABB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5D4-D7CD-42CC-A2F5-EE0B4D8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A9AD-C2B4-4279-80FB-40F7442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8AA-5FC0-467E-B2D7-2E4A50D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75CB-52AB-40F3-8ED8-10E00C1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69F-FF8E-4DD7-AE6C-88883D8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7D37-EBC9-449C-A475-C41CE6C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43A-B1EE-4D07-A10F-73A120F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3D5-A376-4F4C-8AED-750249A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CE3C-9E29-498F-80CD-937F079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CE2E-8A9D-4898-8617-83543E2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AEDA-A6B0-4D75-A9E3-BADE545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9042-5678-49A7-A4D6-E29C25FD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FB6E-44E9-48D0-9427-AB111F0F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9E5-DD6C-41D5-A1D8-97E92A1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8212-3DC2-4339-B914-DCC2DADD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7787-1DCD-49F3-A8FD-184C630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24B9-A369-4AF4-8719-D563106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B6CF-8091-4FF8-945E-2B60E5B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4C12-1A49-4FE7-8CC6-07384F5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45E9-F5E3-4DE3-8A80-EBD3C851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33AB-28F4-4EC7-8594-933A96E8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9095-0796-40BF-AB17-CA00CF62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DB38-7E17-4A28-A03D-4FAA225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A5E0-75C1-4A54-BFE9-16A042F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F56-F6EA-4717-9A09-53DED6BE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5052-6204-4DB9-B71D-942BD6F9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CC02-FB36-4163-8514-3B4E72C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BA88-FC22-4EB2-8952-70525B0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3134-8F5E-4BF0-AF1C-925A642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DA0E-6B2B-450F-B47A-1A032F4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489C-C15B-4121-90D9-2BC4C39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49B9-3A3B-4661-A928-728FF18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BDDF-16A4-4E26-B7C1-127AF051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18C3-0A97-49BB-AE96-D1DD9821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6B64-CB6E-4B1E-A444-FF6A813C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60F-A006-4987-80EA-770377E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5DB3-DE6F-4641-A918-8E4D8B3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D973-CD76-4A77-BC48-57461162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83354-5FFA-44DE-BD47-BB8DEEDE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C219-101E-4825-AB2F-9776FEF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C8E4-2A77-4742-9E9E-C8D624B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0F95-7853-48F5-B00F-B79C1DE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7A1C-4FE6-47AF-8A29-6676ECD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2981-C43C-4C80-B650-611C424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634BD-0676-4E8A-B3D3-C146306F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C34C-0C44-4345-AE85-336AE17C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A97-6717-4B69-9FA5-7D8E1A1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337F-4D37-4410-A94D-C81C5F32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1CF-609A-4BFB-B9BF-E766586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F2E-BC77-49C4-AC8C-BC5D852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B35-52A3-4F1D-9540-17D7DDC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7C37-EF94-4309-BB8B-ECB3639E1C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2E3A-F19D-4ABA-867F-78E736C75DC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17F-79B5-4603-82EB-D34DBFB9A20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83BC-213D-4DBE-8BB7-C0D1A2F4D70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802-143F-4BC4-8C4B-21B585D380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109440" y="603360"/>
            <a:ext cx="9541080" cy="354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4076640"/>
            <a:ext cx="799308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11280" y="2133720"/>
            <a:ext cx="58878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Дегалогенирование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5" descr="реакция"/>
          <p:cNvPicPr/>
          <p:nvPr/>
        </p:nvPicPr>
        <p:blipFill>
          <a:blip r:embed="rId2"/>
          <a:stretch/>
        </p:blipFill>
        <p:spPr>
          <a:xfrm>
            <a:off x="684360" y="2781360"/>
            <a:ext cx="6480000" cy="216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4"/>
          <p:cNvPicPr/>
          <p:nvPr/>
        </p:nvPicPr>
        <p:blipFill>
          <a:blip r:embed="rId3"/>
          <a:stretch/>
        </p:blipFill>
        <p:spPr>
          <a:xfrm>
            <a:off x="6948360" y="333360"/>
            <a:ext cx="1784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Этен,пропен, бутен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газ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5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10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 – 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16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32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- жидкост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Высшие алкены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тв.вещества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502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23640" y="201744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1.Гидрирование :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+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2.Галогенирова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+Cl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-CHCl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3.Гидрогалогенирова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+НCl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CHCl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4" descr="images1"/>
          <p:cNvPicPr/>
          <p:nvPr/>
        </p:nvPicPr>
        <p:blipFill>
          <a:blip r:embed="rId2"/>
          <a:stretch/>
        </p:blipFill>
        <p:spPr>
          <a:xfrm>
            <a:off x="7236000" y="62064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4.Гидратац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5.Полимеризац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5" descr="реакция"/>
          <p:cNvPicPr/>
          <p:nvPr/>
        </p:nvPicPr>
        <p:blipFill>
          <a:blip r:embed="rId2"/>
          <a:stretch/>
        </p:blipFill>
        <p:spPr>
          <a:xfrm>
            <a:off x="539640" y="3500280"/>
            <a:ext cx="5327640" cy="129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реакция"/>
          <p:cNvPicPr/>
          <p:nvPr/>
        </p:nvPicPr>
        <p:blipFill>
          <a:blip r:embed="rId3"/>
          <a:stretch/>
        </p:blipFill>
        <p:spPr>
          <a:xfrm>
            <a:off x="611280" y="5516640"/>
            <a:ext cx="532908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4"/>
          <a:stretch/>
        </p:blipFill>
        <p:spPr>
          <a:xfrm>
            <a:off x="6732720" y="3284640"/>
            <a:ext cx="1871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78920" y="2276280"/>
            <a:ext cx="8775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I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Реакции окисления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1.Полное окисление (горение)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+ 3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2С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+ 2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Trebuchet MS"/>
              </a:rPr>
              <a:t>2.Неполное окисление</a:t>
            </a:r>
            <a:r>
              <a:rPr b="0" i="1" lang="ru-RU" sz="2800" spc="-1" strike="noStrike">
                <a:solidFill>
                  <a:srgbClr val="b13f9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+ 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Mn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+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HO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2Mn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+ 2KO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4" descr="FOB79CAXKHPPNCAF0CMGECAK92GDCCAA0EM3ICAH3A9F4CA0Y1RTJCAR76CZ4CAXQ68FDCA3B9Z28CALF0R8GCAOXZUNECA3PYWK0CA7V5L5ECAOEUA91CAZW1KGGCAGEO1Y0CACBJIXGCA38F8N4CAPPZ5JM"/>
          <p:cNvPicPr/>
          <p:nvPr/>
        </p:nvPicPr>
        <p:blipFill>
          <a:blip r:embed="rId2"/>
          <a:stretch/>
        </p:blipFill>
        <p:spPr>
          <a:xfrm>
            <a:off x="7308720" y="47628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178920" y="2017440"/>
            <a:ext cx="8775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4" descr="резин"/>
          <p:cNvPicPr/>
          <p:nvPr/>
        </p:nvPicPr>
        <p:blipFill>
          <a:blip r:embed="rId2"/>
          <a:stretch/>
        </p:blipFill>
        <p:spPr>
          <a:xfrm>
            <a:off x="324000" y="2205000"/>
            <a:ext cx="1584000" cy="1727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формула полиэтилена"/>
          <p:cNvPicPr/>
          <p:nvPr/>
        </p:nvPicPr>
        <p:blipFill>
          <a:blip r:embed="rId3"/>
          <a:stretch/>
        </p:blipFill>
        <p:spPr>
          <a:xfrm>
            <a:off x="2195640" y="2060640"/>
            <a:ext cx="4321080" cy="187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полипропилен"/>
          <p:cNvPicPr/>
          <p:nvPr/>
        </p:nvPicPr>
        <p:blipFill>
          <a:blip r:embed="rId4"/>
          <a:stretch/>
        </p:blipFill>
        <p:spPr>
          <a:xfrm>
            <a:off x="539640" y="4508640"/>
            <a:ext cx="1681200" cy="15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полиэтилен"/>
          <p:cNvPicPr/>
          <p:nvPr/>
        </p:nvPicPr>
        <p:blipFill>
          <a:blip r:embed="rId5"/>
          <a:stretch/>
        </p:blipFill>
        <p:spPr>
          <a:xfrm>
            <a:off x="3635280" y="4437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плащи"/>
          <p:cNvPicPr/>
          <p:nvPr/>
        </p:nvPicPr>
        <p:blipFill>
          <a:blip r:embed="rId6"/>
          <a:stretch/>
        </p:blipFill>
        <p:spPr>
          <a:xfrm>
            <a:off x="7020000" y="2205000"/>
            <a:ext cx="1366920" cy="1655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пленка"/>
          <p:cNvPicPr/>
          <p:nvPr/>
        </p:nvPicPr>
        <p:blipFill>
          <a:blip r:embed="rId7"/>
          <a:stretch/>
        </p:blipFill>
        <p:spPr>
          <a:xfrm>
            <a:off x="6732720" y="4508640"/>
            <a:ext cx="15699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Определ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Номенклатура алкен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Изомерия алкен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Строение алкен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.Получение алкен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6.Физические свойст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.Химические свойст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8.Применение алкен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CA89A749"/>
          <p:cNvPicPr/>
          <p:nvPr/>
        </p:nvPicPr>
        <p:blipFill>
          <a:blip r:embed="rId2"/>
          <a:stretch/>
        </p:blipFill>
        <p:spPr>
          <a:xfrm>
            <a:off x="6300720" y="2997360"/>
            <a:ext cx="174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684360" y="2421000"/>
            <a:ext cx="827064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Алкены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непредельные углеводороды, в молекулах которых между атомами углерода имеется одна двойная связ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Общая форму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ffde66"/>
                </a:solidFill>
                <a:latin typeface="Trebuchet MS"/>
              </a:rPr>
              <a:t>С</a:t>
            </a:r>
            <a:r>
              <a:rPr b="0" lang="en-US" sz="2400" spc="-1" strike="noStrike">
                <a:solidFill>
                  <a:srgbClr val="ffde66"/>
                </a:solidFill>
                <a:latin typeface="Trebuchet MS"/>
              </a:rPr>
              <a:t>n</a:t>
            </a:r>
            <a:r>
              <a:rPr b="0" lang="en-US" sz="3600" spc="-1" strike="noStrike">
                <a:solidFill>
                  <a:srgbClr val="ffde66"/>
                </a:solidFill>
                <a:latin typeface="Trebuchet MS"/>
              </a:rPr>
              <a:t>H</a:t>
            </a:r>
            <a:r>
              <a:rPr b="0" lang="en-US" sz="2400" spc="-1" strike="noStrike">
                <a:solidFill>
                  <a:srgbClr val="ffde66"/>
                </a:solidFill>
                <a:latin typeface="Trebuchet MS"/>
              </a:rPr>
              <a:t>2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, где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≥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DOUZSCA0V3ILMCA7DX3NMCA9AAJB6CAV49TNWCANQ2GQ3CA8NT95SCA3YVL0ZCAK3CY69CA5DO5EECA2WT889CAHM3XOHCAIVCIN4CAR13PD6CAQU0CGICAJMO9JBCAQG32G9CARGNR05CA5Q3JC0CA57D0J9"/>
          <p:cNvPicPr/>
          <p:nvPr/>
        </p:nvPicPr>
        <p:blipFill>
          <a:blip r:embed="rId2"/>
          <a:stretch/>
        </p:blipFill>
        <p:spPr>
          <a:xfrm>
            <a:off x="6877080" y="47628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э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п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проп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de66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de66"/>
                </a:solidFill>
                <a:latin typeface="Trebuchet MS"/>
              </a:rPr>
              <a:t>4                   3                   2                 1                      1                  2                 3                 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 = СН –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у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бу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илен-1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          бу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бу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илен-2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de66"/>
                </a:solidFill>
                <a:latin typeface="Trebuchet MS"/>
              </a:rPr>
              <a:t>       </a:t>
            </a:r>
            <a:r>
              <a:rPr b="0" lang="en-US" sz="1400" spc="-1" strike="noStrike">
                <a:solidFill>
                  <a:srgbClr val="ffde66"/>
                </a:solidFill>
                <a:latin typeface="Trebuchet MS"/>
              </a:rPr>
              <a:t>5                   4             3                2          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CH=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|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 –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етилпент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78920" y="2421000"/>
            <a:ext cx="877572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1orgvesh7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mage3"/>
          <p:cNvPicPr/>
          <p:nvPr/>
        </p:nvPicPr>
        <p:blipFill>
          <a:blip r:embed="rId2"/>
          <a:stretch/>
        </p:blipFill>
        <p:spPr>
          <a:xfrm>
            <a:off x="250920" y="486900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= СН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этилен (этен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Двойная связь: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+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ип гибридизации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Валентный угол: 12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Форма молекул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плоскостная (треугольная)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7" descr="image6"/>
          <p:cNvPicPr/>
          <p:nvPr/>
        </p:nvPicPr>
        <p:blipFill>
          <a:blip r:embed="rId3"/>
          <a:stretch/>
        </p:blipFill>
        <p:spPr>
          <a:xfrm>
            <a:off x="7307280" y="3933720"/>
            <a:ext cx="183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6" descr="1orgvesh5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Крекинг нефтепродукт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Дегидрирование алкан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images"/>
          <p:cNvPicPr/>
          <p:nvPr/>
        </p:nvPicPr>
        <p:blipFill>
          <a:blip r:embed="rId2"/>
          <a:stretch/>
        </p:blipFill>
        <p:spPr>
          <a:xfrm>
            <a:off x="7093080" y="404640"/>
            <a:ext cx="1428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Дегидратация спирт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Дегидрогалогенирова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Br +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aOH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спирт.р-р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NaBr+ 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O +  + 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-CH=CH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5" descr="РЕАКЦИЯ"/>
          <p:cNvPicPr/>
          <p:nvPr/>
        </p:nvPicPr>
        <p:blipFill>
          <a:blip r:embed="rId2"/>
          <a:stretch/>
        </p:blipFill>
        <p:spPr>
          <a:xfrm>
            <a:off x="324000" y="2708280"/>
            <a:ext cx="6553080" cy="129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36Y31CA8IHQNHCARC3UXOCAVYKCQ3CANA3OUPCAMPTP7XCATAJ3HMCAH8162NCAYZ9RHZCAWIDY3OCAM7F6U4CAPVAT15CAESKO4VCA6LCNKBCA43HFQRCAKMO285CAY0TW6DCACN0AZXCANWMXHSCAN0F196"/>
          <p:cNvPicPr/>
          <p:nvPr/>
        </p:nvPicPr>
        <p:blipFill>
          <a:blip r:embed="rId3"/>
          <a:stretch/>
        </p:blipFill>
        <p:spPr>
          <a:xfrm>
            <a:off x="6948360" y="549360"/>
            <a:ext cx="14320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37:51Z</dcterms:created>
  <dc:creator>М</dc:creator>
  <dc:description/>
  <dc:language>en-US</dc:language>
  <cp:lastModifiedBy>Wadimus Wadimus</cp:lastModifiedBy>
  <dcterms:modified xsi:type="dcterms:W3CDTF">2017-11-02T09:12:31Z</dcterms:modified>
  <cp:revision>27</cp:revision>
  <dc:subject/>
  <dc:title> Непредельные углеводород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