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61C-9061-4686-8F95-4B70C62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9C9-8144-482B-AAEE-2739331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D9E-EBF1-4F37-9FF9-26DB5B7E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608-DE90-4ABA-8936-2FEB413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D7E-FE2E-433D-A90E-A345B9F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F22-EE21-46EC-84CD-A948D1BD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016-A3FB-4A63-8D16-E520A8BE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EB4-6548-4030-9024-3076C95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47F-D57D-4A4B-A881-ED823A3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59B-ECDF-429C-9B26-F73FAB4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DA7-1C7F-4E47-896B-B91F894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B38-FCDE-471E-BFC9-82958EE9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7465-94A9-47FE-9AD9-FCA77FA23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5400000">
            <a:off x="-1261080" y="2780280"/>
            <a:ext cx="55450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ервым первенством страны принято считать турнир баскетболистов, состоявшийся в 1923г. на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ервом Всесоюзном празднике физкультуры. В этом же 1923г. появились в СССР и первы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фициальные правила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вая жизнь баскетбола в России начинается в начале двадцатых годов. Как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амостоятельный предмет баскетбол вводится сначала в Главной военной школе физического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разования трудящихся, а чуть позже - в Московском институте физической культуры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ускники этих учебных заведений стали первыми специалистами по баскетболу в нашей ст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торой раз первенство СССР было разыграно в 1924г., а третьим считается турнир на 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сесоюзной спартакиаде 1928г. Только с 1934г. первенство СССР по баскетболу стало 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водится ежегод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402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 1940г. к СССР были присоединены страны Прибал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 этих странах баскетбол был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традиционно силен, эти команды имели большой опыт проведения международных встре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Школа,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тиль баскетбола этих стран, несомненно, оказали большое влияние на его развитие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720" y="148428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пециалисты баскетбола считают, что в будущем приоритет получат игры сложные, быстрые,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асив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 таким относится и баскетбол, где есть главно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зультатив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епредсказу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релищность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а находится на высоте чуть больше 3 метров от пола. Большинство попаданий оценивается двумя о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дачные броски из-за полукруга – 6,25 м приносят три 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abec3a7alho2_desenh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068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одиной баскетбол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являются Соединенные Штаты Америки.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гра была придумана в 1891 году в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чебном центре Христианской молодежной ассоциации в Спрингфилде, штат Массачусетс.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Чтобы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живить уроки по гимнастике, молодой преподаватель, уроженец Канады, доктор Дисеймс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йсмит придумал новую игру. Он прикрепил к перилам балкона две фруктовые корзины без дн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которые нужно было забрасывать футбольный мяч (basket - корзина, boll - мяч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рез год Нейсмит разработал первые 13 пунктов баскетбольных правил.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1628280"/>
            <a:ext cx="50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чти первые же матчи по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им правилам вызвали и первые их изменения. Болельщики на балконах ловили улетавшие мячи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пытались их забросить в корзину противника, поэтому появляются щиты, которые стали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щитой корз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720" y="259920"/>
            <a:ext cx="241128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же в 1893г. появляются железные кольца с сеткой. Новая игра оказалась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столько интересной и динамичной, что в 1894г. в США были изданы первые официальные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ави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d6"/>
          <p:cNvPicPr/>
          <p:nvPr/>
        </p:nvPicPr>
        <p:blipFill>
          <a:blip r:embed="rId1"/>
          <a:stretch/>
        </p:blipFill>
        <p:spPr>
          <a:xfrm>
            <a:off x="0" y="0"/>
            <a:ext cx="665496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2" descr="f_8073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71640" y="1700280"/>
            <a:ext cx="19573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 пол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443640" y="1700280"/>
            <a:ext cx="20574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 пол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5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395280" y="5229360"/>
            <a:ext cx="863640" cy="93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971640" y="2421000"/>
            <a:ext cx="1008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900000" y="2421000"/>
            <a:ext cx="93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0"/>
          <p:cNvSpPr/>
          <p:nvPr/>
        </p:nvSpPr>
        <p:spPr>
          <a:xfrm flipH="1">
            <a:off x="5508720" y="2421000"/>
            <a:ext cx="1800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1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1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6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100"/>
                            </p:stCondLst>
                            <p:childTnLst>
                              <p:par>
                                <p:cTn id="12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600"/>
                            </p:stCondLst>
                            <p:childTnLst>
                              <p:par>
                                <p:cTn id="13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1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6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600"/>
                            </p:stCondLst>
                            <p:childTnLst>
                              <p:par>
                                <p:cTn id="1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8100"/>
                            </p:stCondLst>
                            <p:childTnLst>
                              <p:par>
                                <p:cTn id="15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6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1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5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двадцатые годы начинают активно создаваться национальные федерации баскетбола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одятся первые международные встре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Баскетбол из США проникает сначала на Восток - Японию, Китай, Филиппины, а также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Европу, Южную Америку. Через 10 лет на Олимпийских играх в Сент-Луисе (США) американцы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рганизовали показательный турнир между командами нескольких городов. Баскетбол был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казательным также на Олимпиадах 1924, 1928 г.г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2920" y="1628640"/>
            <a:ext cx="40388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к в 1919г. состоялся баскетбольный турнир между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мейскими командами США, Италии и Франции. В 1923г. во Франции проводится первы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ждународный женский турнир. Участие в нем приняли команды трех стран: Англии, Италии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ША. Игра завоевывает все большую популярность и признание в мире, и в 1932г. была созда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ждународная федерация баскетбола (FIBA). В ее первом составе 8 стран - Аргентина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еция, Италия, Латвия, Португалия, Румыния, Швеция, Чехословакия. В 1935 году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ждународный Олимпийский Комитет вынес решение о признании баскетбола олимпийским видом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порта. В 1936г. на Олимпийских играх в Берлине в программе появился баскетб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той зарождения баскетбола в России считается 1906г. Место рождения - Петербург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ивное общество "Маяк". Гимнасты этого общества создали первые баскетбольные команды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ем команды появились в обществе "Богатырь", некоторых других. Но до Октябрьск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волюции 1917г. эта игра культивировалась практически только в столице России -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sketball_game"/>
          <p:cNvPicPr/>
          <p:nvPr/>
        </p:nvPicPr>
        <p:blipFill>
          <a:blip r:embed="rId1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user</cp:lastModifiedBy>
  <dcterms:modified xsi:type="dcterms:W3CDTF">2014-03-22T09:59:25Z</dcterms:modified>
  <cp:revision>8</cp:revision>
  <dc:subject/>
  <dc:title>Слайд 1</dc:title>
</cp:coreProperties>
</file>