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36C-059B-40EB-8D00-1DAC66E1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0E8-4CAD-4069-805A-68C81AF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227-EE7D-4186-BF3C-F19D4929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385-4FC9-440E-AAE8-B9B7B121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C4E-A7E1-4090-85FD-2F62651A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251-4A1C-46F4-8443-5BDF114A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291-E72B-42FD-AD9B-8913B8A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90E-5403-40C5-ABAF-376E8AC2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2B9-8055-4DE3-96F4-F1C8C4B1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747-1F7C-4766-A5E1-1DD9D97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7EE-AC22-4E6A-A11D-A332424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16B-760B-41A5-96E1-8A1319BB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51D-3F13-4A85-A5DE-5546A3061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mitropolia-spb.ru/vedomosty/n30/50_1.gi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7.jpg"/>
          <p:cNvPicPr/>
          <p:nvPr/>
        </p:nvPicPr>
        <p:blipFill>
          <a:blip r:embed="rId1"/>
          <a:stretch/>
        </p:blipFill>
        <p:spPr>
          <a:xfrm>
            <a:off x="0" y="0"/>
            <a:ext cx="328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3203640" y="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рыли в блокаду око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ляли, не били вр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ы жили, мы жили в блока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 верой в Победу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Корех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239px-Medal_Leningrad_USSR.jpg"/>
          <p:cNvPicPr/>
          <p:nvPr/>
        </p:nvPicPr>
        <p:blipFill>
          <a:blip r:embed="rId2"/>
          <a:stretch/>
        </p:blipFill>
        <p:spPr>
          <a:xfrm>
            <a:off x="7596360" y="2060640"/>
            <a:ext cx="119664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200px-%D0%96%D0%B8%D0%BB%D0%B0-%D0%B1%D1%8B%D0%BB%D0%B0_%D0%B4%D0%B5%D0%B2%D0%BE%D1%87%D0%BA%D0%B0_%28%D1%84%D0%B8%D0%BB%D1%8C%D0%BC%29.jpg"/>
          <p:cNvPicPr/>
          <p:nvPr/>
        </p:nvPicPr>
        <p:blipFill>
          <a:blip r:embed="rId3"/>
          <a:stretch/>
        </p:blipFill>
        <p:spPr>
          <a:xfrm>
            <a:off x="3059280" y="1341360"/>
            <a:ext cx="3620880" cy="387216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2987640" y="4221000"/>
            <a:ext cx="5823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70-й годовщине снятия 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блокады  Лениград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посвящается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pic>
        <p:nvPicPr>
          <p:cNvPr id="46" name="Picture 10" descr="t"/>
          <p:cNvPicPr/>
          <p:nvPr/>
        </p:nvPicPr>
        <p:blipFill>
          <a:blip r:embed="rId4"/>
          <a:stretch/>
        </p:blipFill>
        <p:spPr>
          <a:xfrm>
            <a:off x="2700360" y="6343560"/>
            <a:ext cx="64436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14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5651640" y="18936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января 1944 г. советские войска полностью сняли длившуюся 900 дней фашистскую блокаду город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shema%20len"/>
          <p:cNvPicPr/>
          <p:nvPr/>
        </p:nvPicPr>
        <p:blipFill>
          <a:blip r:embed="rId2"/>
          <a:stretch/>
        </p:blipFill>
        <p:spPr>
          <a:xfrm>
            <a:off x="5580000" y="2852640"/>
            <a:ext cx="356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Рисунок3"/>
          <p:cNvPicPr/>
          <p:nvPr/>
        </p:nvPicPr>
        <p:blipFill>
          <a:blip r:embed="rId1"/>
          <a:stretch/>
        </p:blipFill>
        <p:spPr>
          <a:xfrm>
            <a:off x="395280" y="3933720"/>
            <a:ext cx="3960720" cy="2664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80" name="WordArt 5"/>
          <p:cNvSpPr txBox="1"/>
          <p:nvPr/>
        </p:nvSpPr>
        <p:spPr>
          <a:xfrm>
            <a:off x="971640" y="692280"/>
            <a:ext cx="648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лют 27 января 1944год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громом салюта над Балтикой воздух раскол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полнеба сияет заря разноцветных огней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трижды великий и трижды прославленный город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ашей мечты, город самых высоких страстей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598920" y="-396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победой мы, прежде всего, обязаны героям, имена которых навечно остались в летописи блокады. Людям, которые под непрерывной канонадой вражеских орудий проложили «Дорогу жизни», а также труженикам тыла, без повседневной работы которых невозможно было бы выдержать суровые испы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lokada_leningrad_diorama"/>
          <p:cNvPicPr/>
          <p:nvPr/>
        </p:nvPicPr>
        <p:blipFill>
          <a:blip r:embed="rId1"/>
          <a:stretch/>
        </p:blipFill>
        <p:spPr>
          <a:xfrm>
            <a:off x="3419640" y="3716280"/>
            <a:ext cx="5724360" cy="31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0_e35_adb6a55e_XL"/>
          <p:cNvPicPr/>
          <p:nvPr/>
        </p:nvPicPr>
        <p:blipFill>
          <a:blip r:embed="rId2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332000" y="260280"/>
            <a:ext cx="6840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скаревское мемориальное кладбищ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620640"/>
            <a:ext cx="9144000" cy="4359960"/>
          </a:xfrm>
          <a:prstGeom prst="rect">
            <a:avLst/>
          </a:prstGeom>
          <a:solidFill>
            <a:srgbClr val="4f81bd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лежат ленинградцы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горожане - мужчины, женщины, де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ю жизнью своею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 защищали тебя, Ленинград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имен благородных мы здесь перечислить не сможем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их много под вечной охраной гранит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знай, внимающий этим кам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1116000" y="5084640"/>
            <a:ext cx="691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кто не забыт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ничто не забыто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60280"/>
            <a:ext cx="889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Bookman Old Style"/>
              </a:rPr>
              <a:t>Мемориал </a:t>
            </a:r>
            <a:r>
              <a:rPr b="1" i="1" lang="ru-RU" sz="5400" spc="-1" strike="noStrike">
                <a:solidFill>
                  <a:srgbClr val="ff3300"/>
                </a:solidFill>
                <a:latin typeface="Calibri"/>
              </a:rPr>
              <a:t>«</a:t>
            </a:r>
            <a:r>
              <a:rPr b="1" i="1" lang="ru-RU" sz="5400" spc="-1" strike="noStrike">
                <a:solidFill>
                  <a:srgbClr val="ff3300"/>
                </a:solidFill>
                <a:latin typeface="Bookman Old Style"/>
              </a:rPr>
              <a:t>Журавли</a:t>
            </a:r>
            <a:r>
              <a:rPr b="1" i="1" lang="ru-RU" sz="5400" spc="-1" strike="noStrike">
                <a:solidFill>
                  <a:srgbClr val="ff3300"/>
                </a:solidFill>
                <a:latin typeface="Calibri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4329000"/>
            <a:ext cx="85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е кажется порою, что солдат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ровавых не пришедшие поле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землю эту полегли когда-т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евратились в белых журавле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ул Гамз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341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5"/>
          <p:cNvPicPr/>
          <p:nvPr/>
        </p:nvPicPr>
        <p:blipFill>
          <a:blip r:embed="rId1"/>
          <a:stretch/>
        </p:blipFill>
        <p:spPr>
          <a:xfrm>
            <a:off x="324000" y="404640"/>
            <a:ext cx="4500360" cy="532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65cnatiaabloAVb1"/>
          <p:cNvPicPr/>
          <p:nvPr/>
        </p:nvPicPr>
        <p:blipFill>
          <a:blip r:embed="rId2"/>
          <a:stretch/>
        </p:blipFill>
        <p:spPr>
          <a:xfrm>
            <a:off x="4859280" y="404640"/>
            <a:ext cx="388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s2.jpg"/>
          <p:cNvPicPr/>
          <p:nvPr/>
        </p:nvPicPr>
        <p:blipFill>
          <a:blip r:embed="rId1"/>
          <a:stretch/>
        </p:blipFill>
        <p:spPr>
          <a:xfrm>
            <a:off x="2571840" y="3397320"/>
            <a:ext cx="6572160" cy="3460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s1.jpg"/>
          <p:cNvPicPr/>
          <p:nvPr/>
        </p:nvPicPr>
        <p:blipFill>
          <a:blip r:embed="rId2"/>
          <a:stretch/>
        </p:blipFill>
        <p:spPr>
          <a:xfrm>
            <a:off x="0" y="0"/>
            <a:ext cx="25718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2987640" y="981000"/>
            <a:ext cx="59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latin typeface="Bookman Old Style"/>
              </a:rPr>
              <a:t>ВЕЧНАЯ СЛАВА ГЕРОЯМ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5000"/>
                </a:srgbClr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latin typeface="Bookman Old Style"/>
              </a:rPr>
              <a:t>ЗАЩИТИВШИМ ЛЕНИНГРАД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5000"/>
                </a:srgbClr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3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95280" y="4752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воинской славы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снятия блокады Ленинграда (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в соответствии с Федеральным законом от 13.03.95 № 32-ФЗ «О днях воинской славы (победных днях)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t"/>
          <p:cNvPicPr/>
          <p:nvPr/>
        </p:nvPicPr>
        <p:blipFill>
          <a:blip r:embed="rId2"/>
          <a:stretch/>
        </p:blipFill>
        <p:spPr>
          <a:xfrm>
            <a:off x="826920" y="333360"/>
            <a:ext cx="7417080" cy="51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41_ht12"/>
          <p:cNvPicPr/>
          <p:nvPr/>
        </p:nvPicPr>
        <p:blipFill>
          <a:blip r:embed="rId3"/>
          <a:stretch/>
        </p:blipFill>
        <p:spPr>
          <a:xfrm>
            <a:off x="2987640" y="1700280"/>
            <a:ext cx="2738520" cy="396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"/>
          <p:cNvPicPr/>
          <p:nvPr/>
        </p:nvPicPr>
        <p:blipFill>
          <a:blip r:embed="rId1"/>
          <a:srcRect l="0" t="0" r="0" b="6035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-360"/>
            <a:ext cx="6012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 Ленинграда был составной частью плана «Барбаросса». Главные силы группы армий «Север» должны были разгромить советские войска на подступах к Ленинграду и овладеть городо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Картинка 36 из 7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4149720"/>
            <a:ext cx="46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611280" y="404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8 сентября 1941 года враг терзал осажденный город. Его население пережило две трудные военные зимы. Но ни неоднократные штурмы, ни варварские бомбардировки и артиллерийские обстрелы, ни костлявая рука голода - ничто не помогло фашистам сломить волю мужественных ленинградце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5918270_DSCN0861"/>
          <p:cNvPicPr/>
          <p:nvPr/>
        </p:nvPicPr>
        <p:blipFill>
          <a:blip r:embed="rId1"/>
          <a:stretch/>
        </p:blipFill>
        <p:spPr>
          <a:xfrm>
            <a:off x="0" y="357336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329_1211580479"/>
          <p:cNvPicPr/>
          <p:nvPr/>
        </p:nvPicPr>
        <p:blipFill>
          <a:blip r:embed="rId2"/>
          <a:stretch/>
        </p:blipFill>
        <p:spPr>
          <a:xfrm>
            <a:off x="3780000" y="3573360"/>
            <a:ext cx="221112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День воинской славы России (День снятия блокады города Ленинграда)"/>
          <p:cNvPicPr/>
          <p:nvPr/>
        </p:nvPicPr>
        <p:blipFill>
          <a:blip r:embed="rId3"/>
          <a:stretch/>
        </p:blipFill>
        <p:spPr>
          <a:xfrm>
            <a:off x="6012000" y="3573360"/>
            <a:ext cx="313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7 из 6999"/>
          <p:cNvPicPr/>
          <p:nvPr/>
        </p:nvPicPr>
        <p:blipFill>
          <a:blip r:embed="rId1"/>
          <a:stretch/>
        </p:blipFill>
        <p:spPr>
          <a:xfrm>
            <a:off x="7956720" y="189000"/>
            <a:ext cx="900000" cy="1582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95280" y="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я в Мюнхене 8 ноября 1941 года,  Гитлер зая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нинграду рассчитывать не на что. Он падет рано или поздно. Кольцо блокады не разорвать никому.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нинграду суждено погибнуть от голод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локада1"/>
          <p:cNvPicPr/>
          <p:nvPr/>
        </p:nvPicPr>
        <p:blipFill>
          <a:blip r:embed="rId2"/>
          <a:stretch/>
        </p:blipFill>
        <p:spPr>
          <a:xfrm>
            <a:off x="611280" y="4005360"/>
            <a:ext cx="2160360" cy="2852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462240" y="1941480"/>
            <a:ext cx="803376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съели хлеб, что был отложен на день,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дин платок закутались вдвоем,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тихо-тихо стало в Ленинграде.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, стуча, трудился метроно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.Ф.Берголь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Картинка 1 из 27"/>
          <p:cNvPicPr/>
          <p:nvPr/>
        </p:nvPicPr>
        <p:blipFill>
          <a:blip r:embed="rId3"/>
          <a:stretch/>
        </p:blipFill>
        <p:spPr>
          <a:xfrm>
            <a:off x="5796000" y="4869000"/>
            <a:ext cx="2160720" cy="158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32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t"/>
          <p:cNvPicPr/>
          <p:nvPr/>
        </p:nvPicPr>
        <p:blipFill>
          <a:blip r:embed="rId1"/>
          <a:stretch/>
        </p:blipFill>
        <p:spPr>
          <a:xfrm>
            <a:off x="2124000" y="6021360"/>
            <a:ext cx="6767640" cy="51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09"/>
          <p:cNvPicPr/>
          <p:nvPr/>
        </p:nvPicPr>
        <p:blipFill>
          <a:blip r:embed="rId2"/>
          <a:stretch/>
        </p:blipFill>
        <p:spPr>
          <a:xfrm>
            <a:off x="250920" y="260280"/>
            <a:ext cx="2808360" cy="4105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5" name="Picture 7" descr="011"/>
          <p:cNvPicPr/>
          <p:nvPr/>
        </p:nvPicPr>
        <p:blipFill>
          <a:blip r:embed="rId3"/>
          <a:stretch/>
        </p:blipFill>
        <p:spPr>
          <a:xfrm>
            <a:off x="6084720" y="333360"/>
            <a:ext cx="2676600" cy="3743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6" name="Picture 8" descr="1210011128_2"/>
          <p:cNvPicPr/>
          <p:nvPr/>
        </p:nvPicPr>
        <p:blipFill>
          <a:blip r:embed="rId4"/>
          <a:stretch/>
        </p:blipFill>
        <p:spPr>
          <a:xfrm>
            <a:off x="3276720" y="2349360"/>
            <a:ext cx="4464000" cy="331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7" name="Picture 9" descr="007"/>
          <p:cNvPicPr/>
          <p:nvPr/>
        </p:nvPicPr>
        <p:blipFill>
          <a:blip r:embed="rId5"/>
          <a:stretch/>
        </p:blipFill>
        <p:spPr>
          <a:xfrm>
            <a:off x="395280" y="4869000"/>
            <a:ext cx="1512720" cy="1800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24000" y="13824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город был в дремучий убран иней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ездные сугробы, тишина..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тыскать в снегах трамвайных линий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их полозьев жалоба слыш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414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очное воющее небо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ожь земли, обвал невдалеке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дный ленинградский ломтик хлеба -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почти не весит на рук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за водой"/>
          <p:cNvPicPr/>
          <p:nvPr/>
        </p:nvPicPr>
        <p:blipFill>
          <a:blip r:embed="rId1"/>
          <a:stretch/>
        </p:blipFill>
        <p:spPr>
          <a:xfrm>
            <a:off x="6516720" y="1844640"/>
            <a:ext cx="2371680" cy="331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13427"/>
          <p:cNvPicPr/>
          <p:nvPr/>
        </p:nvPicPr>
        <p:blipFill>
          <a:blip r:embed="rId2"/>
          <a:stretch/>
        </p:blipFill>
        <p:spPr>
          <a:xfrm>
            <a:off x="684360" y="2349360"/>
            <a:ext cx="2286000" cy="1819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артинка 7 из 27"/>
          <p:cNvPicPr/>
          <p:nvPr/>
        </p:nvPicPr>
        <p:blipFill>
          <a:blip r:embed="rId1"/>
          <a:stretch/>
        </p:blipFill>
        <p:spPr>
          <a:xfrm>
            <a:off x="6062760" y="189000"/>
            <a:ext cx="2541600" cy="32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5040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 блокадного хл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люлоза - 25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Шроты - 2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ука ячневая - 5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лод - 10 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мых (при наличии заменить целлюлоз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труби  (при наличии заменить шроты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только 40% - ржаная мука!.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Изображение:Leningrad bread ration stamp.jpg"/>
          <p:cNvPicPr/>
          <p:nvPr/>
        </p:nvPicPr>
        <p:blipFill>
          <a:blip r:embed="rId2"/>
          <a:stretch/>
        </p:blipFill>
        <p:spPr>
          <a:xfrm>
            <a:off x="7308720" y="4076640"/>
            <a:ext cx="158436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6:34:04Z</dcterms:created>
  <dc:creator>Лариса Николаевна</dc:creator>
  <dc:description/>
  <dc:language>en-US</dc:language>
  <cp:lastModifiedBy>Марина Карайченцева</cp:lastModifiedBy>
  <dcterms:modified xsi:type="dcterms:W3CDTF">2018-01-31T17:03:36Z</dcterms:modified>
  <cp:revision>36</cp:revision>
  <dc:subject/>
  <dc:title>Слайд 1</dc:title>
</cp:coreProperties>
</file>