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DA3-01B7-416A-A33D-EA12222E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EFD-EBE1-4A82-8684-E3B14E4A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B9E-A74C-4FCD-A917-B7D71B1A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190-8AD0-4AB1-BD7F-C8305CB4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FA2-D344-4151-91AF-A9E34613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F8B-25BC-4521-94C5-FD641DA9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2E3-F715-4A2A-90C6-295F0853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C84-8E9C-4CFD-9E87-0AE9C0AA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595-65BA-4B13-91E5-B225FB0C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BCE-377D-460C-A946-48D5745B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7E6-8C9B-4E29-97CD-F39D6758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032-B231-4DF0-A304-27492258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75D6-5BFE-4723-B89F-8F2174640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omic Sans MS"/>
              </a:rPr>
              <a:t>Сравнение чисе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32000" y="2276640"/>
            <a:ext cx="2808360" cy="2322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95640" y="335772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26920" y="692280"/>
            <a:ext cx="741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2944800" cy="422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иведите примеры положительных чисел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Приведите примеры отрицательных чисе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Чем отличаются друг от друга положительные и отрицательные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Что можно сказать про число 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Как можно назвать все целые числа и все дроб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0" y="0"/>
            <a:ext cx="909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Положительные и отрицательные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flipH="1">
            <a:off x="7637040" y="0"/>
            <a:ext cx="1327320" cy="148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Задание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Из чисел      </a:t>
            </a:r>
            <a:r>
              <a:rPr b="1" i="1" lang="en-US" sz="4000" spc="-1" strike="noStrike">
                <a:solidFill>
                  <a:srgbClr val="666633"/>
                </a:solidFill>
                <a:latin typeface="Arial"/>
              </a:rPr>
              <a:t>13;  -7.2;  0;  46;  -46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  выпишите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а) положительные чи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б) отрицательные чи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в) число, которое не относится ни к положительным, ни к отрицательным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35280" y="5084640"/>
            <a:ext cx="1943280" cy="160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Координатная прям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28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а) Запишите координаты отмеченных точ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б) Отметьте на координатной прямой точки  </a:t>
            </a:r>
            <a:r>
              <a:rPr b="1" i="1" lang="ru-RU" sz="4000" spc="-1" strike="noStrike">
                <a:solidFill>
                  <a:srgbClr val="666633"/>
                </a:solidFill>
                <a:latin typeface="Arial"/>
              </a:rPr>
              <a:t>М(4); </a:t>
            </a:r>
            <a:r>
              <a:rPr b="1" i="1" lang="en-US" sz="4000" spc="-1" strike="noStrike">
                <a:solidFill>
                  <a:srgbClr val="666633"/>
                </a:solidFill>
                <a:latin typeface="Arial"/>
              </a:rPr>
              <a:t>N</a:t>
            </a:r>
            <a:r>
              <a:rPr b="1" i="1" lang="ru-RU" sz="4000" spc="-1" strike="noStrike">
                <a:solidFill>
                  <a:srgbClr val="666633"/>
                </a:solidFill>
                <a:latin typeface="Arial"/>
              </a:rPr>
              <a:t>(-3,5);  Р(2,5);  К(-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18900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Задание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8207640" cy="862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564000" y="5013360"/>
            <a:ext cx="1942920" cy="1606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50920" y="2997360"/>
            <a:ext cx="8459640" cy="82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Противоположные числа.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Модуль чис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181440" y="1412640"/>
            <a:ext cx="9325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Дайте определение противоположных чисел и приведите примеры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Что называется модулем числа 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Чему равен модуль положительного числа?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Чему равен модуль отрицательного числа?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Чему равен модуль 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flipH="1">
            <a:off x="7494480" y="5013360"/>
            <a:ext cx="1649520" cy="184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Задание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5760" y="980640"/>
            <a:ext cx="88678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а) Запишите точки, которые имеют противоположные координ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б) Из данных чисел   -</a:t>
            </a:r>
            <a:r>
              <a:rPr b="1" i="1" lang="en-US" sz="4000" spc="-1" strike="noStrike">
                <a:solidFill>
                  <a:srgbClr val="666633"/>
                </a:solidFill>
                <a:latin typeface="Arial"/>
              </a:rPr>
              <a:t>2,6;  2,05;  2,2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666633"/>
                </a:solidFill>
                <a:latin typeface="Arial"/>
              </a:rPr>
              <a:t>-2,22;  2,53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 выберите то, котор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имеет наибольший моду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в) Вычисли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Arial"/>
              </a:rPr>
              <a:t>|-4| ∙ 1,5;     34 - |- 16|;     |+23| + |-8|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7777080" cy="76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631280" y="0"/>
            <a:ext cx="1512720" cy="125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Сравнение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15  и  28;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13,7  и  8,6;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и        ;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12,3  и  12,29;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-8  и  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981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Сравнить 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16360" y="3284640"/>
            <a:ext cx="117612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32360" y="3284640"/>
            <a:ext cx="1049400" cy="122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877080" y="5013360"/>
            <a:ext cx="194292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284720" y="27082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284720" y="191628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4284720" y="364500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4284720" y="450864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Arial"/>
              </a:rPr>
              <a:t>-8  и 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8459640" cy="825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3357360"/>
            <a:ext cx="8569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66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33"/>
                </a:solidFill>
                <a:latin typeface="Arial"/>
              </a:rPr>
              <a:t>Из двух положительных чисел больше то, которое на координатной прямой расположено правее, меньше то – которое лев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 flipH="1">
            <a:off x="7380360" y="189000"/>
            <a:ext cx="1481040" cy="1655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27640" y="620640"/>
            <a:ext cx="649080" cy="649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71640" y="2133720"/>
            <a:ext cx="7200720" cy="79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Выполните те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Из двух рациональных чисел больше то, которое на координатной прямой расположено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) правее;   б) лев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з двух рациональных чисел меньше то, которое на координатной прямой расположено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) правее;   б) левее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Какое из данных чисел 0, -10, 12, -6 на координатной прямой расположено лев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) 0;             б) -10;              в )12;         г) 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Какое из данных чисел 0, -8, -14, 5  имеет наименьший моду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) 0;             б) -8;                в )-14;        г)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Запишите числа -5, 0, 11, - 2 в порядке возрас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) 0, 12, -5, 11;          б) 11, 0, -2, -5;           в ) -5, -2, 0,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2133720"/>
            <a:ext cx="158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3284640"/>
            <a:ext cx="158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4437000"/>
            <a:ext cx="1224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516640"/>
            <a:ext cx="1008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43640" y="6453360"/>
            <a:ext cx="20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5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07:39Z</dcterms:created>
  <dc:creator>Телиус</dc:creator>
  <dc:description/>
  <dc:language>en-US</dc:language>
  <cp:lastModifiedBy>Галя</cp:lastModifiedBy>
  <dcterms:modified xsi:type="dcterms:W3CDTF">2011-11-21T00:00:45Z</dcterms:modified>
  <cp:revision>12</cp:revision>
  <dc:subject/>
  <dc:title>Повторение</dc:title>
</cp:coreProperties>
</file>