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61E-0FA4-4CD3-BE9B-D6E46733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414-F04C-4FCC-8BD1-2CA6A24B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EC5-5268-4A42-971C-AD33A290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CC9-5867-43D6-9895-49EFC310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F504-0E5F-48F4-8461-D74B3BDB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B85C-DC0F-4AB2-B8C0-1B8455C0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AEF4-F9CA-438D-AD15-5E9BA5E6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3501-01F5-4DCA-B3A5-B8C44634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FCF8-2BBF-44F2-89B5-D3376B13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D2B9-599F-4B51-9AC0-29A5E5AF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02A8-3715-4637-81E9-B11721C9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088-6B9B-4F0C-B1C6-42F5814B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5C0A-DC1B-469F-B6C5-6044159E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48EF-CA12-4D26-B61F-6146E6FB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CABC-C26F-4C9C-A47C-0256FA69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1801-9748-4A6C-BCD8-87BC17AC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3D9A-0428-4586-9D53-E4A9774A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154-EA3C-43A4-8A40-66EEB5AB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0C1-7A63-4EB4-84E3-6C90F5FD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E47-55DC-4CB1-A713-076794A5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182-8331-4783-A4A6-2FC05380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7B0-844A-4F90-8AFE-4E3A579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D2A-49C0-4789-86B3-F82F86DB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540-19C8-4702-857B-06106053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117D-2D48-454F-87A8-FBDEB9F095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5DB0-FA9D-48CD-AF54-4AE42D59E48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276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«Дикие животные Мордовии»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зентацию подготовил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спитател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ушукина Надежда Викторовн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6560" y="285480"/>
            <a:ext cx="8074080" cy="912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арсу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арсук – типичный представитель смешанных лесов. Это всеядный зверь, живущий в норах. По размерам он больше лисицы, но меньше волка. Широкие лапы с длинными когтями позволяют ему хорошо рыть нор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ольшую часть жизни они проводят в норе, впадая на полгода в зимнюю спячку, а остальное время днём прячутся в норе, ночью – охотятся на мышевидных грызунов и вредных насекомых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255920" cy="3384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об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обр – самый крупный грызун. Бобры – ночные животные, тесно связанные с водоёмами. Они любят тихие лесные речки с высокими берегами и зарослями кустарников и деревьев. Ивы, осины, тополя, берёзы – основной их корм. Бобры едят корни  и стебли кувшинок, различных водяных растений и сочные трав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обр хорошо плавает благодаря своему хвосту. На суше хвост служит ему опорой при сидении, в воде – веслом, хвостом бобр уплотняет глину, строя свою хатк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Рисунок 1" descr="бобер строит плотину"/>
          <p:cNvPicPr/>
          <p:nvPr/>
        </p:nvPicPr>
        <p:blipFill>
          <a:blip r:embed="rId1"/>
          <a:stretch/>
        </p:blipFill>
        <p:spPr>
          <a:xfrm>
            <a:off x="250920" y="2133720"/>
            <a:ext cx="4255920" cy="302400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л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2764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У белки удлинённое тело с пушистым длинным хвостом, уши длинные, цвет темно-бурый с белым брюшком, иногда серый (особенно зимой). Водятся повсюду, кроме Австралии. Белка является источником ценного меха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Белки запасают на зиму орехи. Некоторые  закапывают их  в землю, другие прячут их в дуплах деревьев. Плохая память некоторых видов белок помогает сохранять леса, так как они закапывают орехи в землю и забывают про них, а из проросших семян появляются новые деревь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Белки всеядны: кроме орехов, семян, плодов, грибов и зелёной растительности они также употребляют в пищу насекомых, яйца и даже небольших птиц, млекопитающих и лягушек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11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2808360" cy="268956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  <p:pic>
        <p:nvPicPr>
          <p:cNvPr id="247" name="Picture 12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784240" cy="251964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Ё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Ёж – хищное ночное животное. Обитает в смешанных лесах. В поисках корма за ночь проходит иногда до 3 км. Пищей ему служат жуки, дождевые черви, тритоны, лягушки, жабы, ящерицы, змеи, мыши, а также ягоды, жёлуди, опавшие спелые плоды яблонь, груш и других деревье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 зиме ежи жиреют и впадают в глубокую спячку, находя себе убежище в густых кустах, в углублениях почвы, засыпанных опавшей листвой. Просыпается ёж только с прекращением заморозк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Рисунок 1" descr="Еж"/>
          <p:cNvPicPr/>
          <p:nvPr/>
        </p:nvPicPr>
        <p:blipFill>
          <a:blip r:embed="rId1"/>
          <a:stretch/>
        </p:blipFill>
        <p:spPr>
          <a:xfrm>
            <a:off x="250920" y="2060640"/>
            <a:ext cx="4255920" cy="360036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жи – неядовитые змеи – обитатели лесной зоны. Их отличительная черта -           наличие по бокам жёлтых                                       (иногда белых) пятен полулунной формы, получившие названия «щёк». Места обитания – влажные леса, берега тихих рек, озёр, прудов, травяные болота, кустарник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ища ужей – лягушки и жабы, молодые ящерицы, мелкие птицы. Добычу глотают целико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зиму ужи впадают в оцепенение, спрятавшись в укромные мест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Рисунок 1" descr="Обыкновенный уж"/>
          <p:cNvPicPr/>
          <p:nvPr/>
        </p:nvPicPr>
        <p:blipFill>
          <a:blip r:embed="rId1"/>
          <a:stretch/>
        </p:blipFill>
        <p:spPr>
          <a:xfrm>
            <a:off x="538200" y="1627200"/>
            <a:ext cx="3886200" cy="192888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  <p:pic>
        <p:nvPicPr>
          <p:cNvPr id="254" name="Рисунок 6" descr="http://upload.wikimedia.org/wikipedia/commons/thumb/7/73/Ringelnatter_%28Natrix_natrix%29_head.jpg/250px-Ringelnatter_%28Natrix_natrix%29_head.jpg"/>
          <p:cNvPicPr/>
          <p:nvPr/>
        </p:nvPicPr>
        <p:blipFill>
          <a:blip r:embed="rId2"/>
          <a:stretch/>
        </p:blipFill>
        <p:spPr>
          <a:xfrm>
            <a:off x="538200" y="3987720"/>
            <a:ext cx="3886200" cy="207504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адю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адюки – ядовитые змеи. Их укус болезненный, но не смертельный (если вовремя оказана медицинская помощь). Обитают в болотистых местах, на полянах с высокой травой, по  берегам рек и озё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жаркий день гадюки греются на солнце, лежа на старых пнях или на лесных тропинках. Ночью становятся активными и охотятся на грызунов и других животных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имуют гадюки в почве, забираясь в норы кротов и грызунов, под корни деревьев. Оцепенение длится около полугода.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Рисунок 1" descr="http://freeforce.info/files/images/%201.jpg"/>
          <p:cNvPicPr/>
          <p:nvPr/>
        </p:nvPicPr>
        <p:blipFill>
          <a:blip r:embed="rId1"/>
          <a:stretch/>
        </p:blipFill>
        <p:spPr>
          <a:xfrm>
            <a:off x="538200" y="1627200"/>
            <a:ext cx="3886200" cy="198432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  <p:pic>
        <p:nvPicPr>
          <p:cNvPr id="258" name="Рисунок 2" descr="http://freeforce.info/files/images/%202.jpg"/>
          <p:cNvPicPr/>
          <p:nvPr/>
        </p:nvPicPr>
        <p:blipFill>
          <a:blip r:embed="rId2"/>
          <a:stretch/>
        </p:blipFill>
        <p:spPr>
          <a:xfrm>
            <a:off x="538200" y="3917880"/>
            <a:ext cx="3886200" cy="217332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арта Мордов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898560" y="1770120"/>
            <a:ext cx="7269120" cy="386388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оведники Мордов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95280" y="907560"/>
            <a:ext cx="829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рдовский государственный природный заповедник имени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.Г.Смидовича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— заповедник, расположенный в Темниковском районе Республики Мордовия, на правом берегу реки Мокша, на границе зоны хвойно-широколиственных лесов и лесостепи. Заповедник создан 5 марта 1936 года. Назван в честь государственного деятеля Петра Гермогеновича Смидовича, уделявшего много внимания вопросам охраны природы. Заповедник расположен на лесистом правобережье реки Мокши, левого притока Оки. Основными задачами заповедника являлись сохранение и восстановление лесного массива южного отрога таежной зоны, сохранение и обогащение животного мир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циональный парк «Смольный»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иродный парк Смольный расположен на территории Ичалковского и Больше-Игнатовского районов Республики Мордовия. Создан с целью сохранения природного комплекса, представляющего типичные для Мордовии экологические системы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я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йцы придерживаются кустарниковых зарослей или редкого леса, избегая открытых пространств. У них нет  постоянного убежища. Кормятся по ночам,  в сумерки и на рассвете. Летом поедают злаки, бобовые растения, осоку, хвою лиственниц. Зимой – мелкие ветки и кору деревьев и кустарников, а также сено вокруг стог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уществует поговорка – «труслив, как заяц». Но заяц не столько труслив, сколько осторожен. Эта осторожность спасает его от враг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Рисунок 1" descr="Заяц"/>
          <p:cNvPicPr/>
          <p:nvPr/>
        </p:nvPicPr>
        <p:blipFill>
          <a:blip r:embed="rId1"/>
          <a:stretch/>
        </p:blipFill>
        <p:spPr>
          <a:xfrm>
            <a:off x="466560" y="2046240"/>
            <a:ext cx="4037040" cy="36594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и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лавная особенность лисицы – её пушистый хвост. Им она действует, как рулем во время преследований. Им же она укрывается, свернувшись во время отдыха клубочко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охоту лисы выходят в любое время суток. Основной добычей им служат мелкие грызуны. Летом лисицы поедают насекомых, ягоды и плоды растени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любое время года лисица мышкует: отыскивает норы полевых и лесных мышей, разрывает их и съедает этих вредных зверьк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Рисунок 1" descr="Лиса"/>
          <p:cNvPicPr/>
          <p:nvPr/>
        </p:nvPicPr>
        <p:blipFill>
          <a:blip r:embed="rId1"/>
          <a:stretch/>
        </p:blipFill>
        <p:spPr>
          <a:xfrm>
            <a:off x="777960" y="1598760"/>
            <a:ext cx="3392280" cy="449712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л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072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олки зимой ведут бродячую жизнь, выходя на поиски добычи в сумерки и по ночам. Днем они прячутся в зарослях кустарников и по оврагам. Охотятся на оленей, лосей, коров, куропаток и тетеревов, преследуют зайцев, а когда нет живой добычи, питаются падаль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олки охотятся не в одиночку, а сообща. В поисках добычи волки рыщут по открытым пространствам, совершая переходы без отдыха до 50 км. Волк съедает в сутки 2 кг мяса, остатки пищи прячет в укромном месте про запа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Рисунок 1" descr="http://s43.radikal.ru/i102/1004/14/6a29f01d9666.jpg"/>
          <p:cNvPicPr/>
          <p:nvPr/>
        </p:nvPicPr>
        <p:blipFill>
          <a:blip r:embed="rId1"/>
          <a:stretch/>
        </p:blipFill>
        <p:spPr>
          <a:xfrm>
            <a:off x="466560" y="2371680"/>
            <a:ext cx="4037040" cy="300852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едвед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2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амец бурого медведя весит 500-750 кг. С виду он неуклюж, хотя в действительности очень подвижный и ловкий: может быстро бегать, прыгать, плавать,  влезать на деревь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ыходит на поиски корма вечером. Поедает молодые побеги, коренья, луковицы, грибы, ягоды, жёлуди, орехи. В лесу разворачивает муравьиные кучи, съедает яйца птенцов из гнёзд на земле, ловит мелких грызунов, лягушек. Нападает на крупных звере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 осени медведи жиреют и ложатся в спячк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Рисунок 1" descr="Медведь"/>
          <p:cNvPicPr/>
          <p:nvPr/>
        </p:nvPicPr>
        <p:blipFill>
          <a:blip r:embed="rId1"/>
          <a:stretch/>
        </p:blipFill>
        <p:spPr>
          <a:xfrm>
            <a:off x="466560" y="2371680"/>
            <a:ext cx="4037040" cy="300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ос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33480" y="1653840"/>
            <a:ext cx="41022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Лось – лесной великан с красивыми лопатообразными рогами. Самки безроги. Быстро двигая ушами во все стороны, лось быстро улавливает шорохи леса и уходит в заросл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Летом лоси питаются сочными болотными растениями и корневищами, листвой, молодыми побегами. Любят иван-чай и одуванчики, но не едят ягод и грибов, не трогают злаки и картофел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имой переходят на грубые корма – ветки осины и ивы, кору, лишайники и хво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Рисунок 1" descr="Лось"/>
          <p:cNvPicPr/>
          <p:nvPr/>
        </p:nvPicPr>
        <p:blipFill>
          <a:blip r:embed="rId1"/>
          <a:stretch/>
        </p:blipFill>
        <p:spPr>
          <a:xfrm>
            <a:off x="466560" y="2381400"/>
            <a:ext cx="4037040" cy="2844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л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788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лени обитают в широколиственных лесах, предпочитая дубовые насаждения, где кормятся желудями. Летом едят различные травы, листья деревьев и кустарник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лени становятся добычей волков, особенно весной, когда они ослаблены и не могут быстро бегат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олодые неокостеневшие рога – панты пятнистых оленей используют для приготовления лекарственного препарат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Рисунок 1" descr="Олень"/>
          <p:cNvPicPr/>
          <p:nvPr/>
        </p:nvPicPr>
        <p:blipFill>
          <a:blip r:embed="rId1"/>
          <a:stretch/>
        </p:blipFill>
        <p:spPr>
          <a:xfrm>
            <a:off x="455760" y="2324160"/>
            <a:ext cx="4037040" cy="304632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уб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Зубр – лесной гигант, когда-то был широко распространен в Европе. Сегодня этот вид сохранился, да и, то, только в заповедниках Белоруссии, Польши и России. Голова зубра, в соотношении к телу небольшая. Глаза темно- коричневые, нос крупный, с большими ноздрями. Рога зубра, а их два, растут всю жизнь и не меняются, как например у оленя. Горб, покатая спина, мощное телосложение, крепкие невысокие ноги и длинный хвост – вот такой он, зубр. Под подбородком густая борода. Окраска меха у животного каштанового цвета, бока бурые. Пушистая и мягкая подшерстка зубра сохраняет тело животного в тепле и защищает от намокания. У зубра хорошо развито обоняние, а слух и зрение чуть хуже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.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Рисунок 2" descr="Зубр животное "/>
          <p:cNvPicPr/>
          <p:nvPr/>
        </p:nvPicPr>
        <p:blipFill>
          <a:blip r:embed="rId1"/>
          <a:stretch/>
        </p:blipFill>
        <p:spPr>
          <a:xfrm>
            <a:off x="250920" y="2276640"/>
            <a:ext cx="4255920" cy="295272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аб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Кабан – очень распространенное дикое животное. Ближайшим родственником кабана является свинья. Длина тела матерого кабана может составлять от 130 сантиметров до 170 сантиметров. Высота кабана может составлять 1 метр. Масса тела обычно достигает шестидесяти килограммов. Кабаны имеют огромную голову, немного вытянутую вперед,  большие и длинные уши, глаза совсем маленькие, рыло имеет пятачок. Тело летом покрыто грубой щетиной, ближе к зиме становится толще и нежнее, с более большим подшерстком. Зависимость распространения кабанов на той или иной территории зависит от наличия на ней большого количества пищ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Рисунок 1" descr="Кабан"/>
          <p:cNvPicPr/>
          <p:nvPr/>
        </p:nvPicPr>
        <p:blipFill>
          <a:blip r:embed="rId1"/>
          <a:stretch/>
        </p:blipFill>
        <p:spPr>
          <a:xfrm>
            <a:off x="476280" y="2058840"/>
            <a:ext cx="4029120" cy="320688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1:25:23Z</dcterms:created>
  <dc:creator>admin</dc:creator>
  <dc:description/>
  <dc:language>en-US</dc:language>
  <cp:lastModifiedBy>Алексей</cp:lastModifiedBy>
  <dcterms:modified xsi:type="dcterms:W3CDTF">2019-10-20T19:17:09Z</dcterms:modified>
  <cp:revision>17</cp:revision>
  <dc:subject/>
  <dc:title>Зая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80000000000010243100207f6000400038000</vt:lpwstr>
  </property>
</Properties>
</file>