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4E7C0-C3FE-4238-8B08-2B3126568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F958C-4E94-4EC3-B2B2-4B836F91C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FF813-1BAE-4121-B997-5CE3004E6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A4E41-3B51-496B-B37A-76CA2D3F2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AD72D-7005-4CBA-BA40-5A00FC01A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51FE7-328F-4FFA-8463-7FDC6796D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C3256-2CB5-4DCC-BFF5-C897FF798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DFE0C-3FC2-4BBB-AE7B-38DB352DF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A22EB-B464-46B0-A359-BFEABB431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2C938-08AC-4F6F-865F-5103FA747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FB4AD-F52D-4099-90BD-9E78CC42F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129EA-4E39-4183-B088-EF4842944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03845-3790-4723-B9BC-9AB71D7B97D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6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4055760" cy="2703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3492360" y="2781360"/>
            <a:ext cx="5318280" cy="37702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148360" y="692280"/>
            <a:ext cx="30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9999"/>
                </a:solidFill>
                <a:uFillTx/>
                <a:latin typeface="Arial"/>
              </a:rPr>
              <a:t>Вся земля наша-земля мастеров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3716280"/>
            <a:ext cx="215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9999"/>
                </a:solidFill>
                <a:uFillTx/>
                <a:latin typeface="Arial"/>
              </a:rPr>
              <a:t>Все может наш человек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8351640" cy="58881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24000" y="333360"/>
            <a:ext cx="8351640" cy="58881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8351640" cy="588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332000" y="333360"/>
            <a:ext cx="654372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90440" y="142920"/>
            <a:ext cx="8763120" cy="657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843120" y="19080"/>
            <a:ext cx="7457760" cy="681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116000" y="189000"/>
            <a:ext cx="6213600" cy="621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263680" cy="22766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2916360" y="0"/>
            <a:ext cx="3174840" cy="24098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1547640" y="3429000"/>
            <a:ext cx="3098880" cy="30988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5148360" y="3068640"/>
            <a:ext cx="2876400" cy="33400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6156360" y="549360"/>
            <a:ext cx="2525760" cy="191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700360" y="260280"/>
            <a:ext cx="369900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4143240" cy="31082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3635280" y="3483000"/>
            <a:ext cx="4645080" cy="29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79280" y="404640"/>
            <a:ext cx="8280360" cy="652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070000" y="0"/>
            <a:ext cx="3917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90440" y="142920"/>
            <a:ext cx="8763120" cy="657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10-15T04:49:13Z</dcterms:created>
  <dc:creator>Windows 7</dc:creator>
  <dc:description/>
  <dc:language>en-US</dc:language>
  <cp:lastModifiedBy>Windows 7</cp:lastModifiedBy>
  <dcterms:modified xsi:type="dcterms:W3CDTF">2019-10-20T17:44:22Z</dcterms:modified>
  <cp:revision>12</cp:revision>
  <dc:subject/>
  <dc:title>Слайд 1</dc:title>
</cp:coreProperties>
</file>