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D39-83C6-4717-A635-8967F334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9C5-F3C3-4EFC-9928-5BF2D879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120-29BC-4857-821F-0C56D019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9C8-BD86-49D0-A3D7-B303D23C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B80-A9DE-492C-9703-EB264763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486-8AEE-43C8-91F2-AA0DAE87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4E0-18D4-4824-B7D3-E344AA4C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30B-9062-46B6-B21B-D07151E8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D6E-0FD0-407C-BAA2-24768E49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431-730A-4727-8FC5-ED74FF2E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0CF-E136-429F-8985-52CAEB34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A65-B417-4C9D-8158-C5C3F340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93BC-37CD-43E3-BC72-613AC757A0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image" Target="../media/image15.jpe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7439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</a:rPr>
              <a:t>Муниципальное бюджетное дошкольное образовательное учреждение города Мценска « Детский сад №4»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зентация на тему :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 Психологическая готовность ребёнка к школ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Содержимое 3" descr="7194de04-17ab-4cac-a68b-b5ee6ce0d47f.jpg"/>
          <p:cNvPicPr/>
          <p:nvPr/>
        </p:nvPicPr>
        <p:blipFill>
          <a:blip r:embed="rId1"/>
          <a:stretch/>
        </p:blipFill>
        <p:spPr>
          <a:xfrm>
            <a:off x="357120" y="2428920"/>
            <a:ext cx="4324320" cy="235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TextBox 4"/>
          <p:cNvSpPr/>
          <p:nvPr/>
        </p:nvSpPr>
        <p:spPr>
          <a:xfrm>
            <a:off x="5143680" y="5072040"/>
            <a:ext cx="371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дготовил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дагог-психолог Кулябина Т.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отивационная гото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    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          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39640" y="3859200"/>
            <a:ext cx="81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539640" y="4046400"/>
            <a:ext cx="8280360" cy="2837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казывать о своих школьных годах, вспоминая смешные и поучительные случаи, читать вместе с ребенком книги о школе, рассказывать о школьных порядках, устроить малышу экскурсию по будущей школе, показав ему, где он будет учиться. Полезны занятия, которые развивают фантазию и воображение:  рисование, лепка, конструирование, а также самостоятельность  и упорство: занятия в кружках и секция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324000" y="1052640"/>
            <a:ext cx="4564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знавательный интерес, желание узнавать что -то нов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формированность  положительного отношения к школе, учителю, учебной деятельности, к самому себ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5" descr="смешные девочки"/>
          <p:cNvPicPr/>
          <p:nvPr/>
        </p:nvPicPr>
        <p:blipFill>
          <a:blip r:embed="rId1"/>
          <a:stretch/>
        </p:blipFill>
        <p:spPr>
          <a:xfrm>
            <a:off x="4932360" y="765000"/>
            <a:ext cx="3809880" cy="2881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4" descr="psy.gif"/>
          <p:cNvPicPr/>
          <p:nvPr/>
        </p:nvPicPr>
        <p:blipFill>
          <a:blip r:embed="rId2"/>
          <a:stretch/>
        </p:blipFill>
        <p:spPr>
          <a:xfrm>
            <a:off x="179280" y="4221000"/>
            <a:ext cx="4320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моционально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олевая готовность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к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шко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39640" y="5910120"/>
            <a:ext cx="8882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Девочка под партой"/>
          <p:cNvPicPr/>
          <p:nvPr/>
        </p:nvPicPr>
        <p:blipFill>
          <a:blip r:embed="rId5"/>
          <a:stretch/>
        </p:blipFill>
        <p:spPr>
          <a:xfrm>
            <a:off x="5572080" y="785880"/>
            <a:ext cx="3143160" cy="3600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395280" y="907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539640" y="62064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пособность управлять своими эмоциями и поведение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*Умение организовывать рабочее место и поддерживать порядок в не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*Стремление преодолевать трудности;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*Стремление к достижению результата свое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320760" y="4437000"/>
            <a:ext cx="8643960" cy="207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ю этих качеств поможет игра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ы учат спокойно дожидаться своей очереди, своего хода, с достоинством проигрывать, выстраивать свою стратегию и при этом учитывать постоянно меняющиеся обстоятельства и т.д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же необходимо приучать ребенка к смене деятельности, режиму дн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жно проявлять веру в ребенка, искренне поощрять, помогать  и  поддерживать. Потихоньку ребенок разовьет в себе способность к волевому усилию, но не сразу. Помогите ему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14" descr="psy.gif"/>
          <p:cNvPicPr/>
          <p:nvPr/>
        </p:nvPicPr>
        <p:blipFill>
          <a:blip r:embed="rId6"/>
          <a:stretch/>
        </p:blipFill>
        <p:spPr>
          <a:xfrm>
            <a:off x="0" y="4292640"/>
            <a:ext cx="4316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1720" y="533520"/>
            <a:ext cx="7439040" cy="7524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c00000"/>
                </a:solidFill>
                <a:latin typeface="Times New Roman"/>
              </a:rPr>
              <a:t>Готовы ли родители к школе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00280" y="1571400"/>
            <a:ext cx="5010480" cy="4714920"/>
          </a:xfrm>
          <a:prstGeom prst="rect">
            <a:avLst/>
          </a:prstGeom>
          <a:solidFill>
            <a:srgbClr val="c2fff0"/>
          </a:solidFill>
          <a:ln w="9360">
            <a:solidFill>
              <a:srgbClr val="009973"/>
            </a:solidFill>
            <a:miter/>
          </a:ln>
        </p:spPr>
        <p:txBody>
          <a:bodyPr tIns="91440" anchor="t">
            <a:normAutofit/>
          </a:bodyPr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ть щедрым на похвалу за достигнутые результ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ртвовать своим личным временем  и некоторыми привыч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держивать свои эмо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кричать, не унижать и не обиж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сравнивать своего ребенка с другими деть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наказывать ребенка без прич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сегда встречать ребенка из школы с улыб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Содержимое 8" descr="5972282e64cbt.jpg"/>
          <p:cNvPicPr/>
          <p:nvPr/>
        </p:nvPicPr>
        <p:blipFill>
          <a:blip r:embed="rId1"/>
          <a:stretch/>
        </p:blipFill>
        <p:spPr>
          <a:xfrm>
            <a:off x="571680" y="1714680"/>
            <a:ext cx="271440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3860640"/>
            <a:ext cx="5219640" cy="26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 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помощь родителей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выражается–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в понимании ребенка, в умении направить его и поддержать</a:t>
            </a:r>
            <a:r>
              <a:rPr b="1" i="1" lang="ru-RU" sz="36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0" i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693800" y="26028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Школа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– это естественный этап в жизни ребенка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итература для чтения родителям будущих первокласс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«Психологическая готовность ребенка к школе»  под ред. Маклакова П.А., ДЕТСТВО-ПРЕСС,2013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«Ваш ребенок идет в школу. Проверяем готовность ребенка к школе. Советы родителям первоклашек»,Е.Корнеева, Мир и образование,2013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«Не хочу идти в школу!Советы и рекомендации родителям будущих первоклассников», Е.Н. Балышова, изд-во «Литер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«Пора в школу!Подготовка будущего первоклассника», Н.Богачкина, «Феникс»,2013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«Памятка первоклассника. Первый раз в первый класс!» ,С. Гордиенко, «Феникс-Премьер», 2013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. «Работа с семьей при подготовке детей к школе. Лекторий для родителей будущих первоклассников»,О.Бережнова, «Детство-Пресс», 2011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.  «Предшкольный бум. Что нужно знать родителям будущих первоклассников», Монина Г., Панасюк Е., «Речь»,2008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ниги можно приобрести в книжном интернет –магазин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http://www.labirint.ru/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i?id=332674939-04-72&amp;n=21"/>
          <p:cNvPicPr/>
          <p:nvPr/>
        </p:nvPicPr>
        <p:blipFill>
          <a:blip r:embed="rId1"/>
          <a:stretch/>
        </p:blipFill>
        <p:spPr>
          <a:xfrm>
            <a:off x="1835280" y="1700280"/>
            <a:ext cx="5473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1187280" y="192240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«Быть готовым к школе – не значит уметь читать, писать и счит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Быть готовым к школе –  значит быть готовым всему этому научиться»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доктор психологических нау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Леонид Абрамович Венгер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971640" y="1052640"/>
            <a:ext cx="81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«Быть готовым к школе – не значит уметь читать, писать и счит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Быть готовым к школе –  значит быть гоовым всему этому научиться».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доктор психологических нау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Леонид Абрамович Венг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4" descr="fd5767743f7af87748fc0ceaccabb3f3.jpg"/>
          <p:cNvPicPr/>
          <p:nvPr/>
        </p:nvPicPr>
        <p:blipFill>
          <a:blip r:embed="rId2"/>
          <a:stretch/>
        </p:blipFill>
        <p:spPr>
          <a:xfrm>
            <a:off x="-100080" y="0"/>
            <a:ext cx="9247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428760" y="357120"/>
            <a:ext cx="8286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«Быть готовым к школе не значит уметь читать, писать и счит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Быть готовым к школе значит быть готовым всему этому научитьс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.Венг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426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сихологическая гото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66"/>
                </a:solidFill>
                <a:latin typeface="Times New Roman"/>
              </a:rPr>
              <a:t>Интеллектуальная, мотивационная, волевая, коммуникативна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Физическая гото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66"/>
                </a:solidFill>
                <a:latin typeface="Times New Roman"/>
              </a:rPr>
              <a:t>Здоровье, моторика рук, движения, возра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пециальная гото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66"/>
                </a:solidFill>
                <a:latin typeface="Times New Roman"/>
              </a:rPr>
              <a:t>Чтение, счет, учебные ум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Девочка с поднятой рукой"/>
          <p:cNvPicPr/>
          <p:nvPr/>
        </p:nvPicPr>
        <p:blipFill>
          <a:blip r:embed="rId1"/>
          <a:stretch/>
        </p:blipFill>
        <p:spPr>
          <a:xfrm>
            <a:off x="5078520" y="333360"/>
            <a:ext cx="3460680" cy="4254480"/>
          </a:xfrm>
          <a:prstGeom prst="rect">
            <a:avLst/>
          </a:prstGeom>
          <a:ln w="0">
            <a:noFill/>
          </a:ln>
        </p:spPr>
      </p:pic>
      <p:grpSp>
        <p:nvGrpSpPr>
          <p:cNvPr id="50" name="Oval 5"/>
          <p:cNvGrpSpPr/>
          <p:nvPr/>
        </p:nvGrpSpPr>
        <p:grpSpPr>
          <a:xfrm>
            <a:off x="237960" y="4870440"/>
            <a:ext cx="8740800" cy="1811520"/>
            <a:chOff x="237960" y="4870440"/>
            <a:chExt cx="8740800" cy="1811520"/>
          </a:xfrm>
        </p:grpSpPr>
        <p:pic>
          <p:nvPicPr>
            <p:cNvPr id="51" name="Oval 5" descr=""/>
            <p:cNvPicPr/>
            <p:nvPr/>
          </p:nvPicPr>
          <p:blipFill>
            <a:blip r:embed="rId2"/>
            <a:stretch/>
          </p:blipFill>
          <p:spPr>
            <a:xfrm>
              <a:off x="237960" y="4870440"/>
              <a:ext cx="874080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528920" y="5143680"/>
              <a:ext cx="615924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Arial"/>
                </a:rPr>
                <a:t>Оправдание детских и родительских ожидани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Arial"/>
                </a:rPr>
                <a:t>зависят от того, как ребенок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Arial"/>
                </a:rPr>
                <a:t>психологически подготовлен к школ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2000" y="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ологически не готовый к школе ребёнок</a:t>
            </a:r>
            <a:r>
              <a:rPr b="1" lang="ru-RU" sz="28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4190760" cy="2735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ытывает затруднения в общении со взрослыми и сверстниками по поводу учебных за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Грусный мальчик"/>
          <p:cNvPicPr/>
          <p:nvPr/>
        </p:nvPicPr>
        <p:blipFill>
          <a:blip r:embed="rId1"/>
          <a:stretch/>
        </p:blipFill>
        <p:spPr>
          <a:xfrm>
            <a:off x="4500720" y="3716280"/>
            <a:ext cx="4390920" cy="2951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4716360" y="2133720"/>
            <a:ext cx="4248360" cy="1512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может включи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бщий реж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ы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716360" y="836640"/>
            <a:ext cx="4248360" cy="10796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яготеет к шаблонн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м и решени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52360" y="836640"/>
            <a:ext cx="4318200" cy="11523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может сосредоточи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уроке, часто отвлека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24000" y="5157720"/>
            <a:ext cx="4176720" cy="936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явля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о инициати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187280" y="5373720"/>
            <a:ext cx="7086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468360" y="1628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79280" y="2997360"/>
            <a:ext cx="4321440" cy="1512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Личностно – социальная гото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отов к обще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 взаимодействию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как  со взрослым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и со сверстн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786200" y="3645000"/>
            <a:ext cx="4143600" cy="1511280"/>
          </a:xfrm>
          <a:prstGeom prst="rect">
            <a:avLst/>
          </a:prstGeom>
          <a:solidFill>
            <a:srgbClr val="ff505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теллектуальная гото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меет широкий кругозор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запас конкретных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252360" y="4869000"/>
            <a:ext cx="4248360" cy="165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Мотивационная гото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Желание идти в школ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ызван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адекватными причина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(учебными мотивам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4786200" y="5373720"/>
            <a:ext cx="414360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Эмоционально – волевая гото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Умеет контролиров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эмоции и пове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8" descr="Успешный мальчик"/>
          <p:cNvPicPr/>
          <p:nvPr/>
        </p:nvPicPr>
        <p:blipFill>
          <a:blip r:embed="rId1"/>
          <a:stretch/>
        </p:blipFill>
        <p:spPr>
          <a:xfrm>
            <a:off x="5003640" y="189000"/>
            <a:ext cx="374508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4"/>
          <p:cNvSpPr/>
          <p:nvPr/>
        </p:nvSpPr>
        <p:spPr>
          <a:xfrm>
            <a:off x="611280" y="47628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сихологически готовый к школе ребе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Что же тогда такое психологическая готовность к школе и можно ли ее сформиро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84360" y="51570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4000" y="1613520"/>
            <a:ext cx="8496000" cy="1410120"/>
          </a:xfrm>
          <a:prstGeom prst="rect">
            <a:avLst/>
          </a:prstGeom>
          <a:solidFill>
            <a:srgbClr val="ccff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сихологическая готовность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это необходимый и достаточный уровень психического развития ребенка для начала освоения школьной учебной программы в условиях обучения в группе сверстников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252360" y="371628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сихологическая готовность к школе возникает у детей не сама по себ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 образуется постепенно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4500720" y="3357720"/>
            <a:ext cx="4105080" cy="29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 игра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 труд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 общении со взрослы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 сверстникам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 процессе форм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традицион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школьных навы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(письма, счет, чтения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1" descr="Мальчикбезфона"/>
          <p:cNvPicPr/>
          <p:nvPr/>
        </p:nvPicPr>
        <p:blipFill>
          <a:blip r:embed="rId1"/>
          <a:stretch/>
        </p:blipFill>
        <p:spPr>
          <a:xfrm rot="342000">
            <a:off x="826920" y="1413000"/>
            <a:ext cx="2178360" cy="4419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оставляющие психологической гото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5"/>
          <p:cNvSpPr/>
          <p:nvPr/>
        </p:nvSpPr>
        <p:spPr>
          <a:xfrm>
            <a:off x="3733920" y="5105520"/>
            <a:ext cx="4572000" cy="990360"/>
          </a:xfrm>
          <a:prstGeom prst="ellipse">
            <a:avLst/>
          </a:prstGeom>
          <a:solidFill>
            <a:srgbClr val="a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моционально-волевая гото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>
            <a:off x="3809880" y="3809880"/>
            <a:ext cx="449604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онная гото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7"/>
          <p:cNvSpPr/>
          <p:nvPr/>
        </p:nvSpPr>
        <p:spPr>
          <a:xfrm>
            <a:off x="3809880" y="2590920"/>
            <a:ext cx="4572000" cy="990360"/>
          </a:xfrm>
          <a:prstGeom prst="ellipse">
            <a:avLst/>
          </a:prstGeom>
          <a:solidFill>
            <a:srgbClr val="e27f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ллектуальная готовность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809880" y="1295280"/>
            <a:ext cx="457200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о-социальная гото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С глобусом"/>
          <p:cNvPicPr/>
          <p:nvPr/>
        </p:nvPicPr>
        <p:blipFill>
          <a:blip r:embed="rId1"/>
          <a:stretch/>
        </p:blipFill>
        <p:spPr>
          <a:xfrm>
            <a:off x="5078520" y="765000"/>
            <a:ext cx="3590640" cy="3456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468360" y="836640"/>
            <a:ext cx="482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68360" y="6922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меет ли ребенок общаться с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ть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являет ли инициативу в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щении или ждет, когда его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зовут другие ребя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увствует ли принятые в обществ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ормы общен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отов ли учитывать интересы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ругих детей или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ллективные интересы,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меет ли отстаивать сво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нени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увствует ли разницу в общении с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тьми, учителями и другими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зрослыми, родителями.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479960" y="189000"/>
            <a:ext cx="55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ичностно-социальная готов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26920" y="5013360"/>
            <a:ext cx="8064720" cy="1618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У малыша к моменту поступления в школу должен  быть достаточно разнообразный опыт общения с незнакомыми людьми. Необходимо дать ему возможность самому установить контакты с окружающими в поликлинике, на детской площадке, в магазине и п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Рисунок 14" descr="psy.gif"/>
          <p:cNvPicPr/>
          <p:nvPr/>
        </p:nvPicPr>
        <p:blipFill>
          <a:blip r:embed="rId2"/>
          <a:stretch/>
        </p:blipFill>
        <p:spPr>
          <a:xfrm>
            <a:off x="468360" y="5013360"/>
            <a:ext cx="3618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Интеллектуальная гото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4719600"/>
            <a:ext cx="8497800" cy="2138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ение писать, читать, считать, решать элементарные задачки, это лишь навыки, которым можно научить.  Не подавляйте исследовательский интерес юного естествоиспытателя, тогда к моменту поступления в школу ему многое удастся постичь на собственном опыте. Учите ребенка самого искать ответы на свои бесконечные «почему»,  выстраивать причинно-следственные связи – одним словом, активно интересоваться окружающим миром. 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52360" y="1341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964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мение думать, анализировать, делать выво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витие речи, словарный запас и способность рассказывать что-то на доступные темы, в том числе и элементарные сведения о себ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пособность к концентрации внимания, умение строить логические связи, развитие памяти, мелкая моторика.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2" descr="Дети за компьютером"/>
          <p:cNvPicPr/>
          <p:nvPr/>
        </p:nvPicPr>
        <p:blipFill>
          <a:blip r:embed="rId1"/>
          <a:stretch/>
        </p:blipFill>
        <p:spPr>
          <a:xfrm>
            <a:off x="4716360" y="907920"/>
            <a:ext cx="4105440" cy="3313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4" descr="psy.gif"/>
          <p:cNvPicPr/>
          <p:nvPr/>
        </p:nvPicPr>
        <p:blipFill>
          <a:blip r:embed="rId2"/>
          <a:stretch/>
        </p:blipFill>
        <p:spPr>
          <a:xfrm>
            <a:off x="324000" y="4797360"/>
            <a:ext cx="4316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1:22:16Z</dcterms:created>
  <dc:creator>МедКомп</dc:creator>
  <dc:description/>
  <dc:language>en-US</dc:language>
  <cp:lastModifiedBy>User</cp:lastModifiedBy>
  <dcterms:modified xsi:type="dcterms:W3CDTF">2019-10-20T13:35:58Z</dcterms:modified>
  <cp:revision>153</cp:revision>
  <dc:subject/>
  <dc:title>Презентация PowerPoint</dc:title>
</cp:coreProperties>
</file>