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0C43B-C625-4253-A996-4E0A9CA9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C0A86-DC46-4433-8E9B-CB5D75C3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8F450-1A1B-443A-948D-322165B7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EA1F0-E190-4448-A559-043A1A26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4EBB-62EF-4B6E-855D-A8FDD6E7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5995-E0C2-4A93-A698-73A296A3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BCB2-4C27-4178-A970-BFBC22EE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C7A7-2022-4E45-B488-5A6D525D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BC91-2C69-4801-BD03-9B6F70D8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857F-4DF4-41FB-AD2C-85E2CA6E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B569-B0ED-4B05-8DD2-06BEA358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E39D2-98B9-4000-8D8C-39052C93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B508-B937-4540-AAA0-241F3722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4D92-1F15-4D06-AC31-A050CF8D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31D8-DAD3-499B-88B2-73437F92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AC1C-4FC8-4F88-937D-C4965060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528F-3EA9-4ED4-8920-EFD214DA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069DE-AE6F-4FE8-A638-C2D15304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5E202-340A-4893-95B6-66859F5E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99CFE-E4A6-4883-8C5D-F78E3CEB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A4F68-4BB2-4861-B6A1-46F83ADE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12E8C-0423-4BE1-AA74-F59C131D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227F8-554E-4D4F-B856-9F9B185F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19DA3-1419-42B3-9A8D-5CA6024E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401D-B847-4B73-BD6C-7C1ECEA067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471D-71EB-449E-A52E-33A129CC58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Как помочь ребенку справиться с эмоциями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аще всего я злюсь, когд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аю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я вынуждают что-то сдел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меня что-то не получ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я довод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обижен на кого-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я разозл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стают вопросами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меня ор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аще всего я обижен, когд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ворят что-нибудь неприятное про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 сделали плох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ня отруг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отпускают погу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у ребенка вызывает отрицательные эмоц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иворечие между сильным желанием и невозможностью удовлетворить его (очень ярко проявляется у маленьких дете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фликт, заключающийся в повышенных требованиях к ребенку, неуверенному в собственных силах (наблюдается в ситуации, когда родители предъявляют к ребенку завышенные требования в учении, которые ему явно не по сила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у ребенка вызывает отрицательные эмоц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иворечивость требований родителей и педагогов (например, тренер воспитывает дисциплину, требует соблюдение определенного режима спортсменом, родители же тренера в этом не поддерживают), в результате формируется злоба, недоверие, поэтому так важна согласованность действий родителей и педаг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у ребенка вызывает отрицательные эмоц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ые негативные эмоциональные состояния взрослых и отсутствие навыков контроля и саморегуляции с их стороны. В психологии существует такое понятие как заражение, т.е. непроизвольная передача эмоционального состояния от одного человека другому. Поэтому важно научиться самому и научить ребенка справляться со своими эмо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приказов, обвинений, угроз, оскорблений вместо доверительной беседы и совместного анализа возникше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Агрессия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Условия предотвращения агрессивного по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бовательность родителей по отношению к себе и своему ребе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бовательность должна быть разумной и доброжелате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Условия предотвращения агрессивного по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следует уступать капризам ребенка и делать поблажки без нужды, но и не нужно издеваться над ребенком и необдуманно его наказ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Условия предотвращения агрессивного по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создавать ситуации, которые впоследствии становятся поводом для агр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грессивность ребенка проявляется, есл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бенка бь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 ребенком издева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 ребенком зло шут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ители заставляют испытывать чувство незаслуженного сты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ители заведомо лг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кета для родителей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ен ли ваш ребен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их случаях ваш ребенок проявляет радость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тор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их случаях ваш ребенок проявляет негативные эмо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помогаете своему ребенку преодолевать негативные эмо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ит ли вам ребенок о своих неуспех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грессивность ребенка проявляется, есл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ители пьют и устраивают дебо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ители воспитывают ребенка двойной мора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ители нетребовательны и неавторитетны для своего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ители не умеют одинаково любить своих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грессивность ребенка проявляется, есл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ители ребенку не довер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ители настраивают детей друг против др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ители не общаются со своим ребен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ход в дом закрыт для друзей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грессивность ребенка проявляется, есл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ители проявляют по отношению к ребенку мелочную опеку и з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ители живут своей жизнью, и в этой жизни нет места их ребе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бенок чувствует, что его не люб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предотвращения детской агрессии в своем арсенале родители должны им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чув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пережи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бова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ов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яза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р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2920" y="1844640"/>
            <a:ext cx="40388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с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вер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рде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увство ю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ние уди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ежду и любо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о предупреждению детской агресс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амятка для родителей по предупреждению детской агре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арайтесь сохранить в своей семье атмосферу открытости и дов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давайте своему ребенку несбыточных обещ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ставьте своему ребенку каких бы то ни было усло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дьте тактичны в проявлении мер воздействия на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наказывайте своего ребенка за то, что позволяете делать с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изменяйте своим требованиям по отношению к ребенку в угоду чему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шантажируйте ребенка своими отношениями друг с дру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бойтесь поделиться с ребенком своими чувствами и слабост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ставьте свои отношения с ребенком в зависимость от его учебных усп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эмоц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моции – это внутренние переживан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 эмоциональным состояниям человека относя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9280" y="1971720"/>
            <a:ext cx="8713440" cy="4264200"/>
            <a:chOff x="179280" y="1971720"/>
            <a:chExt cx="8713440" cy="4264200"/>
          </a:xfrm>
        </p:grpSpPr>
        <p:cxnSp>
          <p:nvCxnSpPr>
            <p:cNvPr id="113" name="_s18450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902920" y="2309040"/>
              <a:ext cx="853560" cy="3588480"/>
            </a:xfrm>
            <a:prstGeom prst="bentConnector3">
              <a:avLst>
                <a:gd name="adj1" fmla="val 14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8448"/>
            <p:cNvCxnSpPr>
              <a:stCxn id="117" idx="0"/>
              <a:endCxn id="115" idx="2"/>
            </p:cNvCxnSpPr>
            <p:nvPr/>
          </p:nvCxnSpPr>
          <p:spPr>
            <a:xfrm flipV="1" rot="16200000">
              <a:off x="5005800" y="3206160"/>
              <a:ext cx="853560" cy="1794600"/>
            </a:xfrm>
            <a:prstGeom prst="bentConnector3">
              <a:avLst>
                <a:gd name="adj1" fmla="val 14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8446"/>
            <p:cNvCxnSpPr>
              <a:stCxn id="119" idx="0"/>
              <a:endCxn id="115" idx="2"/>
            </p:cNvCxnSpPr>
            <p:nvPr/>
          </p:nvCxnSpPr>
          <p:spPr>
            <a:xfrm flipV="1">
              <a:off x="4535640" y="3676680"/>
              <a:ext cx="2520" cy="85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18445"/>
            <p:cNvCxnSpPr>
              <a:stCxn id="121" idx="0"/>
              <a:endCxn id="115" idx="2"/>
            </p:cNvCxnSpPr>
            <p:nvPr/>
          </p:nvCxnSpPr>
          <p:spPr>
            <a:xfrm flipH="1" flipV="1" rot="5400000">
              <a:off x="3212280" y="3206160"/>
              <a:ext cx="853560" cy="1794600"/>
            </a:xfrm>
            <a:prstGeom prst="bentConnector3">
              <a:avLst>
                <a:gd name="adj1" fmla="val 14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8444"/>
            <p:cNvCxnSpPr>
              <a:stCxn id="123" idx="0"/>
              <a:endCxn id="115" idx="2"/>
            </p:cNvCxnSpPr>
            <p:nvPr/>
          </p:nvCxnSpPr>
          <p:spPr>
            <a:xfrm flipH="1" flipV="1" rot="5400000">
              <a:off x="2316240" y="2310120"/>
              <a:ext cx="853560" cy="3586680"/>
            </a:xfrm>
            <a:prstGeom prst="bentConnector3">
              <a:avLst>
                <a:gd name="adj1" fmla="val 14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8440"/>
            <p:cNvSpPr/>
            <p:nvPr/>
          </p:nvSpPr>
          <p:spPr>
            <a:xfrm>
              <a:off x="3767040" y="1971720"/>
              <a:ext cx="1537560" cy="1705680"/>
            </a:xfrm>
            <a:custGeom>
              <a:avLst/>
              <a:gdLst>
                <a:gd name="textAreaLeft" fmla="*/ 74880 w 1537560"/>
                <a:gd name="textAreaRight" fmla="*/ 1462680 w 1537560"/>
                <a:gd name="textAreaTop" fmla="*/ 74880 h 1705680"/>
                <a:gd name="textAreaBottom" fmla="*/ 1630800 h 1705680"/>
              </a:gdLst>
              <a:ahLst/>
              <a:rect l="textAreaLeft" t="textAreaTop" r="textAreaRight" b="textAreaBottom"/>
              <a:pathLst>
                <a:path w="21600" h="23961">
                  <a:moveTo>
                    <a:pt x="3600" y="0"/>
                  </a:moveTo>
                  <a:arcTo wR="3600" hR="3600" stAng="16200000" swAng="-5400000"/>
                  <a:lnTo>
                    <a:pt x="0" y="20361"/>
                  </a:lnTo>
                  <a:arcTo wR="3600" hR="3600" stAng="10800000" swAng="-5400000"/>
                  <a:lnTo>
                    <a:pt x="18000" y="239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Эмоциональные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состояния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человек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8441"/>
            <p:cNvSpPr/>
            <p:nvPr/>
          </p:nvSpPr>
          <p:spPr>
            <a:xfrm>
              <a:off x="179280" y="4530240"/>
              <a:ext cx="1537560" cy="1705680"/>
            </a:xfrm>
            <a:custGeom>
              <a:avLst/>
              <a:gdLst>
                <a:gd name="textAreaLeft" fmla="*/ 74880 w 1537560"/>
                <a:gd name="textAreaRight" fmla="*/ 1462680 w 1537560"/>
                <a:gd name="textAreaTop" fmla="*/ 74880 h 1705680"/>
                <a:gd name="textAreaBottom" fmla="*/ 1630800 h 1705680"/>
              </a:gdLst>
              <a:ahLst/>
              <a:rect l="textAreaLeft" t="textAreaTop" r="textAreaRight" b="textAreaBottom"/>
              <a:pathLst>
                <a:path w="21600" h="23961">
                  <a:moveTo>
                    <a:pt x="3600" y="0"/>
                  </a:moveTo>
                  <a:arcTo wR="3600" hR="3600" stAng="16200000" swAng="-5400000"/>
                  <a:lnTo>
                    <a:pt x="0" y="20361"/>
                  </a:lnTo>
                  <a:arcTo wR="3600" hR="3600" stAng="10800000" swAng="-5400000"/>
                  <a:lnTo>
                    <a:pt x="18000" y="239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Настроен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8442"/>
            <p:cNvSpPr/>
            <p:nvPr/>
          </p:nvSpPr>
          <p:spPr>
            <a:xfrm>
              <a:off x="1973160" y="4530240"/>
              <a:ext cx="1537560" cy="1705680"/>
            </a:xfrm>
            <a:custGeom>
              <a:avLst/>
              <a:gdLst>
                <a:gd name="textAreaLeft" fmla="*/ 74880 w 1537560"/>
                <a:gd name="textAreaRight" fmla="*/ 1462680 w 1537560"/>
                <a:gd name="textAreaTop" fmla="*/ 74880 h 1705680"/>
                <a:gd name="textAreaBottom" fmla="*/ 1630800 h 1705680"/>
              </a:gdLst>
              <a:ahLst/>
              <a:rect l="textAreaLeft" t="textAreaTop" r="textAreaRight" b="textAreaBottom"/>
              <a:pathLst>
                <a:path w="21600" h="23961">
                  <a:moveTo>
                    <a:pt x="3600" y="0"/>
                  </a:moveTo>
                  <a:arcTo wR="3600" hR="3600" stAng="16200000" swAng="-5400000"/>
                  <a:lnTo>
                    <a:pt x="0" y="20361"/>
                  </a:lnTo>
                  <a:arcTo wR="3600" hR="3600" stAng="10800000" swAng="-5400000"/>
                  <a:lnTo>
                    <a:pt x="18000" y="239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Страс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8443"/>
            <p:cNvSpPr/>
            <p:nvPr/>
          </p:nvSpPr>
          <p:spPr>
            <a:xfrm>
              <a:off x="3767040" y="4530240"/>
              <a:ext cx="1537560" cy="1705680"/>
            </a:xfrm>
            <a:custGeom>
              <a:avLst/>
              <a:gdLst>
                <a:gd name="textAreaLeft" fmla="*/ 74880 w 1537560"/>
                <a:gd name="textAreaRight" fmla="*/ 1462680 w 1537560"/>
                <a:gd name="textAreaTop" fmla="*/ 74880 h 1705680"/>
                <a:gd name="textAreaBottom" fmla="*/ 1630800 h 1705680"/>
              </a:gdLst>
              <a:ahLst/>
              <a:rect l="textAreaLeft" t="textAreaTop" r="textAreaRight" b="textAreaBottom"/>
              <a:pathLst>
                <a:path w="21600" h="23961">
                  <a:moveTo>
                    <a:pt x="3600" y="0"/>
                  </a:moveTo>
                  <a:arcTo wR="3600" hR="3600" stAng="16200000" swAng="-5400000"/>
                  <a:lnTo>
                    <a:pt x="0" y="20361"/>
                  </a:lnTo>
                  <a:arcTo wR="3600" hR="3600" stAng="10800000" swAng="-5400000"/>
                  <a:lnTo>
                    <a:pt x="18000" y="239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Аффект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8447"/>
            <p:cNvSpPr/>
            <p:nvPr/>
          </p:nvSpPr>
          <p:spPr>
            <a:xfrm>
              <a:off x="5561280" y="4530240"/>
              <a:ext cx="1537560" cy="1705680"/>
            </a:xfrm>
            <a:custGeom>
              <a:avLst/>
              <a:gdLst>
                <a:gd name="textAreaLeft" fmla="*/ 74880 w 1537560"/>
                <a:gd name="textAreaRight" fmla="*/ 1462680 w 1537560"/>
                <a:gd name="textAreaTop" fmla="*/ 74880 h 1705680"/>
                <a:gd name="textAreaBottom" fmla="*/ 1630800 h 1705680"/>
              </a:gdLst>
              <a:ahLst/>
              <a:rect l="textAreaLeft" t="textAreaTop" r="textAreaRight" b="textAreaBottom"/>
              <a:pathLst>
                <a:path w="21600" h="23961">
                  <a:moveTo>
                    <a:pt x="3600" y="0"/>
                  </a:moveTo>
                  <a:arcTo wR="3600" hR="3600" stAng="16200000" swAng="-5400000"/>
                  <a:lnTo>
                    <a:pt x="0" y="20361"/>
                  </a:lnTo>
                  <a:arcTo wR="3600" hR="3600" stAng="10800000" swAng="-5400000"/>
                  <a:lnTo>
                    <a:pt x="18000" y="239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Чувства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8449"/>
            <p:cNvSpPr/>
            <p:nvPr/>
          </p:nvSpPr>
          <p:spPr>
            <a:xfrm>
              <a:off x="7355160" y="4530240"/>
              <a:ext cx="1537560" cy="1705680"/>
            </a:xfrm>
            <a:custGeom>
              <a:avLst/>
              <a:gdLst>
                <a:gd name="textAreaLeft" fmla="*/ 74880 w 1537560"/>
                <a:gd name="textAreaRight" fmla="*/ 1462680 w 1537560"/>
                <a:gd name="textAreaTop" fmla="*/ 74880 h 1705680"/>
                <a:gd name="textAreaBottom" fmla="*/ 1630800 h 1705680"/>
              </a:gdLst>
              <a:ahLst/>
              <a:rect l="textAreaLeft" t="textAreaTop" r="textAreaRight" b="textAreaBottom"/>
              <a:pathLst>
                <a:path w="21600" h="23961">
                  <a:moveTo>
                    <a:pt x="3600" y="0"/>
                  </a:moveTo>
                  <a:arcTo wR="3600" hR="3600" stAng="16200000" swAng="-5400000"/>
                  <a:lnTo>
                    <a:pt x="0" y="20361"/>
                  </a:lnTo>
                  <a:arcTo wR="3600" hR="3600" stAng="10800000" swAng="-5400000"/>
                  <a:lnTo>
                    <a:pt x="18000" y="239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Стресс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моции могут бы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31640" y="1971720"/>
            <a:ext cx="8208000" cy="4193280"/>
            <a:chOff x="431640" y="1971720"/>
            <a:chExt cx="8208000" cy="4193280"/>
          </a:xfrm>
        </p:grpSpPr>
        <p:cxnSp>
          <p:nvCxnSpPr>
            <p:cNvPr id="126" name="_s21521"/>
            <p:cNvCxnSpPr>
              <a:stCxn id="127" idx="0"/>
              <a:endCxn id="128" idx="2"/>
            </p:cNvCxnSpPr>
            <p:nvPr/>
          </p:nvCxnSpPr>
          <p:spPr>
            <a:xfrm flipV="1">
              <a:off x="2325240" y="4592160"/>
              <a:ext cx="5400" cy="524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1519"/>
            <p:cNvCxnSpPr>
              <a:stCxn id="130" idx="0"/>
              <a:endCxn id="131" idx="2"/>
            </p:cNvCxnSpPr>
            <p:nvPr/>
          </p:nvCxnSpPr>
          <p:spPr>
            <a:xfrm flipV="1">
              <a:off x="6745320" y="4592160"/>
              <a:ext cx="5400" cy="524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1516"/>
            <p:cNvCxnSpPr>
              <a:stCxn id="131" idx="0"/>
              <a:endCxn id="133" idx="2"/>
            </p:cNvCxnSpPr>
            <p:nvPr/>
          </p:nvCxnSpPr>
          <p:spPr>
            <a:xfrm flipV="1" rot="16200000">
              <a:off x="5378400" y="2176920"/>
              <a:ext cx="524880" cy="2210040"/>
            </a:xfrm>
            <a:prstGeom prst="bentConnector3">
              <a:avLst>
                <a:gd name="adj1" fmla="val 217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1515"/>
            <p:cNvCxnSpPr>
              <a:stCxn id="128" idx="0"/>
              <a:endCxn id="133" idx="2"/>
            </p:cNvCxnSpPr>
            <p:nvPr/>
          </p:nvCxnSpPr>
          <p:spPr>
            <a:xfrm flipH="1" flipV="1" rot="5400000">
              <a:off x="3168360" y="2176560"/>
              <a:ext cx="524880" cy="2210760"/>
            </a:xfrm>
            <a:prstGeom prst="bentConnector3">
              <a:avLst>
                <a:gd name="adj1" fmla="val 217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21511"/>
            <p:cNvSpPr/>
            <p:nvPr/>
          </p:nvSpPr>
          <p:spPr>
            <a:xfrm>
              <a:off x="2642040" y="1971720"/>
              <a:ext cx="3788280" cy="1048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Эмоци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1512"/>
            <p:cNvSpPr/>
            <p:nvPr/>
          </p:nvSpPr>
          <p:spPr>
            <a:xfrm>
              <a:off x="431640" y="3544200"/>
              <a:ext cx="3788280" cy="1048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Положительные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1513"/>
            <p:cNvSpPr/>
            <p:nvPr/>
          </p:nvSpPr>
          <p:spPr>
            <a:xfrm>
              <a:off x="4851360" y="3544200"/>
              <a:ext cx="3788280" cy="1048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Отрицательные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1518"/>
            <p:cNvSpPr/>
            <p:nvPr/>
          </p:nvSpPr>
          <p:spPr>
            <a:xfrm>
              <a:off x="4851360" y="5116680"/>
              <a:ext cx="3788280" cy="1048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ешают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напрягают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елают нас уязвимым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1520"/>
            <p:cNvSpPr/>
            <p:nvPr/>
          </p:nvSpPr>
          <p:spPr>
            <a:xfrm>
              <a:off x="431640" y="5116680"/>
              <a:ext cx="3788280" cy="1048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нас устраивают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х хочетс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хранить подольш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аще всего я радуюсь, когд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аю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е делают что-нибудь прия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дравляют с празд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хорош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я хвал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рят пода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пускают гул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в хорошей комп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по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аще всего я смеюсь, когд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ня весел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казывают анекд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рошее настро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 хорош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аще всего у меня хорошее настроение, когд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рошие отм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 мне не лезет б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 мной отпускают гулять мою подру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 его никто не пор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меня нет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гуляю с друзь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аще всего я плачу, когд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 бо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-то у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емье руга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 плох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ня наказывают, бь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04:04:43Z</dcterms:created>
  <dc:creator>Вера</dc:creator>
  <dc:description/>
  <dc:language>en-US</dc:language>
  <cp:lastModifiedBy>Вера</cp:lastModifiedBy>
  <dcterms:modified xsi:type="dcterms:W3CDTF">2009-01-29T11:00:09Z</dcterms:modified>
  <cp:revision>25</cp:revision>
  <dc:subject/>
  <dc:title>Эмоции ребенка и что их вызывает</dc:title>
</cp:coreProperties>
</file>