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png" ContentType="image/png"/>
  <Override PartName="/ppt/media/drumroll.wav" ContentType="audio/x-wav"/>
  <Override PartName="/ppt/media/image15.png" ContentType="image/png"/>
  <Override PartName="/ppt/media/image6.wmf" ContentType="image/x-wmf"/>
  <Override PartName="/ppt/media/image11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3.png" ContentType="image/png"/>
  <Override PartName="/ppt/media/image2.png" ContentType="image/png"/>
  <Override PartName="/ppt/media/image4.png" ContentType="image/png"/>
  <Override PartName="/ppt/media/camera.wav" ContentType="audio/x-wav"/>
  <Override PartName="/ppt/media/chimes.wav" ContentType="audio/x-wav"/>
  <Override PartName="/ppt/media/image1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0321-9E2B-4512-84ED-62AADF3E8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2718-CFF6-42AC-8B0B-0ED926D8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3FF5-5E11-4CBF-AF3F-B2874D7EB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D072-C71C-42D2-A6F9-50A1EB9C0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BE704-1320-4F2F-A8CB-88B5E9F00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E493F-BECA-467E-BF1D-2F78C5FB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678C-AFDA-474C-9071-53F6BFC4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FD08-DE18-4C5A-8886-9FBFF949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D024F-5B65-4528-90A1-8711E4DA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FD08-2377-4DF1-8273-F83BED21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E403-4C2C-45A7-BDF1-627D4C7A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3241-F012-41A6-AB20-FFE0360D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3176-FC3A-491D-B08D-09118856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B217A-B6B3-421A-8426-A523E559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F5B3-2E56-4B4A-BA3E-95ACA656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19D4-9C98-422C-BA23-AA518118A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AEE8-EFB6-4B08-AB32-2E0887831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8A5B2-B2F0-45FC-AF5F-1B85ED719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F6F57-61FB-4EBB-929C-DDF11AE5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9AB82-F9CA-47F6-8F3B-ACFE95A6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14AB6-3147-4B22-A184-0D8A3397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81C9B-9F6A-4054-AEAE-0DF9C757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CCF1-DC97-4E94-8C5E-961DBAD3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A9B36-A8FF-460E-AE25-00911E5A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62FB6-153F-42D7-A8B5-A5596C7C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6C4B2-AF97-4E8A-9347-7A103B02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A7AB1-0598-4EA3-910A-22BDE63F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2AD23-E505-4169-B149-D6BFA069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EA672-57FE-4126-A953-C85B812CF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447A4-C5B1-489C-9EE2-0E619F611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C339A-068F-435F-A263-D290A35D9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A57E9-6FC7-45B6-ABE4-0B5ADC6A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095BE-2344-4FAD-8A70-F4FFC053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86D5-7B31-44B0-93BD-9059C020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D6D99-CA78-49BD-85B7-108CB403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B18D7-3302-4ADB-A3FF-B01827FD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3AD9E-12C6-4770-9DA5-ABDEFDE6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EB0F6-7034-428C-AA80-2D74E884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01942-E766-4745-8FD2-82D01C07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663F4-0A6F-46D0-8B41-AFCF28AF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97528-4613-4238-A141-144BE918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8572F-8C63-43AE-8132-EFCA92A84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BD7D1-E7F6-45B0-A86A-D771E0096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C49DD-7848-4DD1-8EE6-47DC02533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65A8-14A5-42FB-84E2-56322B34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1F2FD-69E8-4B6C-9F34-06DD4879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A6BA2-9D19-4376-AD86-0A829B77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76301-916F-4E71-BD42-EA02A437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D594F-DFB0-45A3-97F2-B7A09342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DD403-2567-4E87-8737-B7D17139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11401-CA86-46E9-9BEE-A43CAD30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BE686-4367-4991-B009-EEDA4277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E7B66-BE48-4537-8C2B-22B869CF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95A15-F72A-4990-96F1-661837DA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9A082-01FA-4EE1-9C0D-A49BE5B5E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E949-13B9-4F09-A7BA-C7F2E552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80F5B-C82B-425C-BC39-2FE07C993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F76C-7EBB-4602-82D4-FA613F64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81C9-0593-4A51-A8F0-6E37D094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8CD7-803A-40E6-B1D7-DF4E2350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9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DCD2-9F54-4B2D-9AFF-299E98496910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9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8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8716-4306-4367-8640-3E2C50EEC2B8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9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EBFB-5F75-4AEF-A2C9-805A8CDE9475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2f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CE8B-B91F-472F-9F20-6BBA0777526B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9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8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06DC-CFF4-4A7E-BD36-2500F41596AF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8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wm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9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3" descr=""/>
          <p:cNvPicPr/>
          <p:nvPr/>
        </p:nvPicPr>
        <p:blipFill>
          <a:blip r:embed="rId1"/>
          <a:stretch/>
        </p:blipFill>
        <p:spPr>
          <a:xfrm>
            <a:off x="2620800" y="762120"/>
            <a:ext cx="6542280" cy="4400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6214680" y="5357880"/>
            <a:ext cx="2714760" cy="128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Мастер-класс подготовила учитель МОУ СОШ №3 Никитина С.Г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Picture 11" descr="j0241993"/>
          <p:cNvPicPr/>
          <p:nvPr/>
        </p:nvPicPr>
        <p:blipFill>
          <a:blip r:embed="rId2"/>
          <a:stretch/>
        </p:blipFill>
        <p:spPr>
          <a:xfrm>
            <a:off x="142920" y="428760"/>
            <a:ext cx="2428920" cy="626256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3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Скругленный прямоугольник 3"/>
          <p:cNvSpPr/>
          <p:nvPr/>
        </p:nvSpPr>
        <p:spPr>
          <a:xfrm>
            <a:off x="500040" y="357120"/>
            <a:ext cx="7143840" cy="1071720"/>
          </a:xfrm>
          <a:prstGeom prst="roundRect">
            <a:avLst>
              <a:gd name="adj" fmla="val 16667"/>
            </a:avLst>
          </a:prstGeom>
          <a:solidFill>
            <a:srgbClr val="f9b639"/>
          </a:solidFill>
          <a:ln w="38160">
            <a:solidFill>
              <a:srgbClr val="ffffff"/>
            </a:solidFill>
            <a:miter/>
          </a:ln>
          <a:effectLst>
            <a:outerShdw dist="25445" dir="1469311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Trebuchet MS"/>
              </a:rPr>
              <a:t>Цель: </a:t>
            </a:r>
            <a:r>
              <a:rPr b="1" lang="ru-RU" sz="2000" spc="-1" strike="noStrike">
                <a:solidFill>
                  <a:srgbClr val="0d0d0d"/>
                </a:solidFill>
                <a:latin typeface="Trebuchet MS"/>
              </a:rPr>
              <a:t>дать первичное представление о сущности конфликта и его роли в образовательном процес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Загнутый угол 4"/>
          <p:cNvSpPr/>
          <p:nvPr/>
        </p:nvSpPr>
        <p:spPr>
          <a:xfrm>
            <a:off x="500040" y="1643040"/>
            <a:ext cx="7215120" cy="4857840"/>
          </a:xfrm>
          <a:prstGeom prst="foldedCorner">
            <a:avLst>
              <a:gd name="adj" fmla="val 16666"/>
            </a:avLst>
          </a:prstGeom>
          <a:solidFill>
            <a:srgbClr val="b83d68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Trebuchet MS"/>
              </a:rPr>
              <a:t>Задачи</a:t>
            </a:r>
            <a:r>
              <a:rPr b="0" lang="ru-RU" sz="1800" spc="-1" strike="noStrike">
                <a:solidFill>
                  <a:srgbClr val="ffff00"/>
                </a:solidFill>
                <a:latin typeface="Trebuchet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познакомить участников со структурой конфликта и стратегиями поведения в н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отработать навыки анализа конфли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познакомить с различными способами профилактики конфликтов и работы с н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9" descr="j0384132"/>
          <p:cNvPicPr/>
          <p:nvPr/>
        </p:nvPicPr>
        <p:blipFill>
          <a:blip r:embed="rId1"/>
          <a:stretch/>
        </p:blipFill>
        <p:spPr>
          <a:xfrm>
            <a:off x="8429760" y="1143000"/>
            <a:ext cx="857160" cy="42861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ed00085_"/>
          <p:cNvPicPr/>
          <p:nvPr/>
        </p:nvPicPr>
        <p:blipFill>
          <a:blip r:embed="rId2"/>
          <a:stretch/>
        </p:blipFill>
        <p:spPr>
          <a:xfrm>
            <a:off x="5286240" y="1071720"/>
            <a:ext cx="2786040" cy="3143160"/>
          </a:xfrm>
          <a:prstGeom prst="rect">
            <a:avLst/>
          </a:prstGeom>
          <a:ln w="0">
            <a:noFill/>
          </a:ln>
        </p:spPr>
      </p:pic>
    </p:spTree>
  </p:cSld>
  <p:transition>
    <p:pull dir="l"/>
    <p:sndAc>
      <p:stSnd>
        <p:snd r:embed="rId3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9" descr="j0384132"/>
          <p:cNvPicPr/>
          <p:nvPr/>
        </p:nvPicPr>
        <p:blipFill>
          <a:blip r:embed="rId1"/>
          <a:stretch/>
        </p:blipFill>
        <p:spPr>
          <a:xfrm>
            <a:off x="8429760" y="1143000"/>
            <a:ext cx="857160" cy="4286160"/>
          </a:xfrm>
          <a:prstGeom prst="rect">
            <a:avLst/>
          </a:prstGeom>
          <a:ln w="0">
            <a:noFill/>
          </a:ln>
        </p:spPr>
      </p:pic>
      <p:sp>
        <p:nvSpPr>
          <p:cNvPr id="234" name="Загнутый угол 4"/>
          <p:cNvSpPr/>
          <p:nvPr/>
        </p:nvSpPr>
        <p:spPr>
          <a:xfrm>
            <a:off x="428760" y="1643040"/>
            <a:ext cx="7286400" cy="4857840"/>
          </a:xfrm>
          <a:prstGeom prst="foldedCorner">
            <a:avLst>
              <a:gd name="adj" fmla="val 16666"/>
            </a:avLst>
          </a:prstGeom>
          <a:solidFill>
            <a:srgbClr val="b83d68"/>
          </a:solidFill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это столкновение противоположно направленных целей, интересов, позиций, мнений и взглядов взаимодействующих между собой люд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Скругленный прямоугольник 5" descr=""/>
          <p:cNvPicPr/>
          <p:nvPr/>
        </p:nvPicPr>
        <p:blipFill>
          <a:blip r:embed="rId2"/>
          <a:stretch/>
        </p:blipFill>
        <p:spPr>
          <a:xfrm>
            <a:off x="255600" y="244440"/>
            <a:ext cx="7540560" cy="1309680"/>
          </a:xfrm>
          <a:prstGeom prst="rect">
            <a:avLst/>
          </a:prstGeom>
          <a:ln w="0">
            <a:noFill/>
          </a:ln>
        </p:spPr>
      </p:pic>
    </p:spTree>
  </p:cSld>
  <p:transition>
    <p:wipe dir="l"/>
    <p:sndAc>
      <p:stSnd>
        <p:snd r:embed="rId3" name="drumroll.wav"/>
      </p:stSnd>
    </p:sndAc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9" descr="j0384132"/>
          <p:cNvPicPr/>
          <p:nvPr/>
        </p:nvPicPr>
        <p:blipFill>
          <a:blip r:embed="rId1"/>
          <a:stretch/>
        </p:blipFill>
        <p:spPr>
          <a:xfrm>
            <a:off x="8429760" y="1143000"/>
            <a:ext cx="857160" cy="4286160"/>
          </a:xfrm>
          <a:prstGeom prst="rect">
            <a:avLst/>
          </a:prstGeom>
          <a:ln w="0">
            <a:noFill/>
          </a:ln>
        </p:spPr>
      </p:pic>
      <p:pic>
        <p:nvPicPr>
          <p:cNvPr id="237" name="Скругленный прямоугольник 4" descr=""/>
          <p:cNvPicPr/>
          <p:nvPr/>
        </p:nvPicPr>
        <p:blipFill>
          <a:blip r:embed="rId2"/>
          <a:stretch/>
        </p:blipFill>
        <p:spPr>
          <a:xfrm>
            <a:off x="396720" y="244440"/>
            <a:ext cx="7399440" cy="1236600"/>
          </a:xfrm>
          <a:prstGeom prst="rect">
            <a:avLst/>
          </a:prstGeom>
          <a:ln w="0">
            <a:noFill/>
          </a:ln>
        </p:spPr>
      </p:pic>
      <p:sp>
        <p:nvSpPr>
          <p:cNvPr id="238" name="Загнутый угол 5"/>
          <p:cNvSpPr/>
          <p:nvPr/>
        </p:nvSpPr>
        <p:spPr>
          <a:xfrm>
            <a:off x="428760" y="1643040"/>
            <a:ext cx="7286400" cy="4786200"/>
          </a:xfrm>
          <a:prstGeom prst="foldedCorner">
            <a:avLst>
              <a:gd name="adj" fmla="val 16666"/>
            </a:avLst>
          </a:prstGeom>
          <a:solidFill>
            <a:srgbClr val="b83d68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Скругленная прямоугольная выноска 6"/>
          <p:cNvGrpSpPr/>
          <p:nvPr/>
        </p:nvGrpSpPr>
        <p:grpSpPr>
          <a:xfrm>
            <a:off x="676440" y="1407960"/>
            <a:ext cx="3146400" cy="3986280"/>
            <a:chOff x="676440" y="1407960"/>
            <a:chExt cx="3146400" cy="3986280"/>
          </a:xfrm>
        </p:grpSpPr>
        <p:pic>
          <p:nvPicPr>
            <p:cNvPr id="240" name="Скругленная прямоугольная выноска 6" descr=""/>
            <p:cNvPicPr/>
            <p:nvPr/>
          </p:nvPicPr>
          <p:blipFill>
            <a:blip r:embed="rId3"/>
            <a:stretch/>
          </p:blipFill>
          <p:spPr>
            <a:xfrm>
              <a:off x="676440" y="1407960"/>
              <a:ext cx="3146400" cy="398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015920" y="3444840"/>
              <a:ext cx="2468520" cy="161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5c1f34"/>
                  </a:solidFill>
                  <a:latin typeface="Trebuchet MS"/>
                </a:rPr>
                <a:t>люди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Скругленная прямоугольная выноска 7"/>
          <p:cNvGrpSpPr/>
          <p:nvPr/>
        </p:nvGrpSpPr>
        <p:grpSpPr>
          <a:xfrm>
            <a:off x="4181400" y="1407960"/>
            <a:ext cx="3213000" cy="3986280"/>
            <a:chOff x="4181400" y="1407960"/>
            <a:chExt cx="3213000" cy="3986280"/>
          </a:xfrm>
        </p:grpSpPr>
        <p:pic>
          <p:nvPicPr>
            <p:cNvPr id="243" name="Скругленная прямоугольная выноска 7" descr=""/>
            <p:cNvPicPr/>
            <p:nvPr/>
          </p:nvPicPr>
          <p:blipFill>
            <a:blip r:embed="rId4"/>
            <a:stretch/>
          </p:blipFill>
          <p:spPr>
            <a:xfrm>
              <a:off x="4181400" y="1407960"/>
              <a:ext cx="3213000" cy="398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4516560" y="3444840"/>
              <a:ext cx="2539800" cy="161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210f17"/>
                  </a:solidFill>
                  <a:latin typeface="Trebuchet MS"/>
                </a:rPr>
                <a:t>группы люд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l"/>
    <p:sndAc>
      <p:stSnd>
        <p:snd r:embed="rId5" name="camera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9" descr="j0384132"/>
          <p:cNvPicPr/>
          <p:nvPr/>
        </p:nvPicPr>
        <p:blipFill>
          <a:blip r:embed="rId1"/>
          <a:stretch/>
        </p:blipFill>
        <p:spPr>
          <a:xfrm>
            <a:off x="8429760" y="1143000"/>
            <a:ext cx="857160" cy="42861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8" name="Скругленный прямоугольник 4" descr=""/>
          <p:cNvPicPr/>
          <p:nvPr/>
        </p:nvPicPr>
        <p:blipFill>
          <a:blip r:embed="rId2"/>
          <a:stretch/>
        </p:blipFill>
        <p:spPr>
          <a:xfrm>
            <a:off x="396720" y="244440"/>
            <a:ext cx="7399440" cy="1322280"/>
          </a:xfrm>
          <a:prstGeom prst="rect">
            <a:avLst/>
          </a:prstGeom>
          <a:ln w="0">
            <a:noFill/>
          </a:ln>
        </p:spPr>
      </p:pic>
      <p:sp>
        <p:nvSpPr>
          <p:cNvPr id="249" name="Загнутый угол 5"/>
          <p:cNvSpPr/>
          <p:nvPr/>
        </p:nvSpPr>
        <p:spPr>
          <a:xfrm>
            <a:off x="500040" y="1643040"/>
            <a:ext cx="7215120" cy="4786200"/>
          </a:xfrm>
          <a:prstGeom prst="foldedCorner">
            <a:avLst>
              <a:gd name="adj" fmla="val 16666"/>
            </a:avLst>
          </a:prstGeom>
          <a:solidFill>
            <a:srgbClr val="b83d68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Овальная выноска 6"/>
          <p:cNvSpPr/>
          <p:nvPr/>
        </p:nvSpPr>
        <p:spPr>
          <a:xfrm>
            <a:off x="785880" y="2714760"/>
            <a:ext cx="3000240" cy="1428480"/>
          </a:xfrm>
          <a:prstGeom prst="wedgeEllipseCallout">
            <a:avLst>
              <a:gd name="adj1" fmla="val 56504"/>
              <a:gd name="adj2" fmla="val -120611"/>
            </a:avLst>
          </a:prstGeom>
          <a:solidFill>
            <a:srgbClr val="df9307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rebuchet MS"/>
              </a:rPr>
              <a:t>межличнос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Овальная выноска 7"/>
          <p:cNvSpPr/>
          <p:nvPr/>
        </p:nvSpPr>
        <p:spPr>
          <a:xfrm>
            <a:off x="2428920" y="4429080"/>
            <a:ext cx="3571920" cy="1785960"/>
          </a:xfrm>
          <a:prstGeom prst="wedgeEllipseCallout">
            <a:avLst>
              <a:gd name="adj1" fmla="val -2300"/>
              <a:gd name="adj2" fmla="val -200907"/>
            </a:avLst>
          </a:prstGeom>
          <a:solidFill>
            <a:srgbClr val="df9307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rebuchet MS"/>
              </a:rPr>
              <a:t>межгрупп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Овальная выноска 8"/>
          <p:cNvSpPr/>
          <p:nvPr/>
        </p:nvSpPr>
        <p:spPr>
          <a:xfrm>
            <a:off x="4572000" y="2714760"/>
            <a:ext cx="3000240" cy="1428480"/>
          </a:xfrm>
          <a:prstGeom prst="wedgeEllipseCallout">
            <a:avLst>
              <a:gd name="adj1" fmla="val -50324"/>
              <a:gd name="adj2" fmla="val -119097"/>
            </a:avLst>
          </a:prstGeom>
          <a:solidFill>
            <a:srgbClr val="df9307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rebuchet MS"/>
              </a:rPr>
              <a:t>личностно-групп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  <p:sndAc>
      <p:stSnd>
        <p:snd r:embed="rId3" name="camera.wav"/>
      </p:stSnd>
    </p:sndAc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Скругленный прямоугольник 3" descr=""/>
          <p:cNvPicPr/>
          <p:nvPr/>
        </p:nvPicPr>
        <p:blipFill>
          <a:blip r:embed="rId1"/>
          <a:stretch/>
        </p:blipFill>
        <p:spPr>
          <a:xfrm>
            <a:off x="396720" y="244440"/>
            <a:ext cx="7399440" cy="12495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j0384132"/>
          <p:cNvPicPr/>
          <p:nvPr/>
        </p:nvPicPr>
        <p:blipFill>
          <a:blip r:embed="rId2"/>
          <a:stretch/>
        </p:blipFill>
        <p:spPr>
          <a:xfrm>
            <a:off x="8429760" y="1143000"/>
            <a:ext cx="857160" cy="4286160"/>
          </a:xfrm>
          <a:prstGeom prst="rect">
            <a:avLst/>
          </a:prstGeom>
          <a:ln w="0">
            <a:noFill/>
          </a:ln>
        </p:spPr>
      </p:pic>
      <p:sp>
        <p:nvSpPr>
          <p:cNvPr id="255" name="Загнутый угол 5"/>
          <p:cNvSpPr/>
          <p:nvPr/>
        </p:nvSpPr>
        <p:spPr>
          <a:xfrm>
            <a:off x="500040" y="1643040"/>
            <a:ext cx="7215120" cy="4786200"/>
          </a:xfrm>
          <a:prstGeom prst="foldedCorner">
            <a:avLst>
              <a:gd name="adj" fmla="val 16666"/>
            </a:avLst>
          </a:prstGeom>
          <a:solidFill>
            <a:srgbClr val="b83d68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00"/>
                </a:solidFill>
                <a:uFillTx/>
                <a:latin typeface="Trebuchet MS"/>
              </a:rPr>
              <a:t>1-я стадия. </a:t>
            </a: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Возникновение конфликтной ситуации- латентный, скрытый период, или предконфликтная стадия, как правило, протекает на неосознанном уров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00"/>
                </a:solidFill>
                <a:uFillTx/>
                <a:latin typeface="Trebuchet MS"/>
              </a:rPr>
              <a:t>2-я стадия. </a:t>
            </a: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Осознание конфликта- условия конфликта восприняты. Стороны знают о своем участии в конфликте. Условия конфликта- это те обстоятельства и факторы, которые влияют на возникновение конфли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00"/>
                </a:solidFill>
                <a:uFillTx/>
                <a:latin typeface="Trebuchet MS"/>
              </a:rPr>
              <a:t>3-я стадия. </a:t>
            </a: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Конфликтные действия- открытая антипатия, приклеивание ярлыков, негативная оценка противниками друг друга. Могут быть разные стратегии: сотрудничество, компромисс, избегание, противоборство, приспособл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00"/>
                </a:solidFill>
                <a:uFillTx/>
                <a:latin typeface="Trebuchet MS"/>
              </a:rPr>
              <a:t>4-я стадия. </a:t>
            </a: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Завершение конфликта- готовность к разрешению конфликта, выбор стратегии или стиля поведения, способов разрешения. Выделяется 3 варианта завершения конфликта: применение насилия, мирное урегулирование и уступ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  <p:sndAc>
      <p:stSnd>
        <p:snd r:embed="rId3" name="camera.wav"/>
      </p:stSnd>
    </p:sndAc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9" descr="j0384132"/>
          <p:cNvPicPr/>
          <p:nvPr/>
        </p:nvPicPr>
        <p:blipFill>
          <a:blip r:embed="rId1"/>
          <a:stretch/>
        </p:blipFill>
        <p:spPr>
          <a:xfrm>
            <a:off x="8429760" y="1143000"/>
            <a:ext cx="857160" cy="4286160"/>
          </a:xfrm>
          <a:prstGeom prst="rect">
            <a:avLst/>
          </a:prstGeom>
          <a:ln w="0">
            <a:noFill/>
          </a:ln>
        </p:spPr>
      </p:pic>
      <p:pic>
        <p:nvPicPr>
          <p:cNvPr id="257" name="Скругленный прямоугольник 4" descr=""/>
          <p:cNvPicPr/>
          <p:nvPr/>
        </p:nvPicPr>
        <p:blipFill>
          <a:blip r:embed="rId2"/>
          <a:stretch/>
        </p:blipFill>
        <p:spPr>
          <a:xfrm>
            <a:off x="324000" y="244440"/>
            <a:ext cx="7472160" cy="1249560"/>
          </a:xfrm>
          <a:prstGeom prst="rect">
            <a:avLst/>
          </a:prstGeom>
          <a:ln w="0">
            <a:noFill/>
          </a:ln>
        </p:spPr>
      </p:pic>
      <p:sp>
        <p:nvSpPr>
          <p:cNvPr id="258" name="Загнутый угол 5"/>
          <p:cNvSpPr/>
          <p:nvPr/>
        </p:nvSpPr>
        <p:spPr>
          <a:xfrm>
            <a:off x="500040" y="1643040"/>
            <a:ext cx="7215120" cy="4786200"/>
          </a:xfrm>
          <a:prstGeom prst="foldedCorner">
            <a:avLst>
              <a:gd name="adj" fmla="val 16666"/>
            </a:avLst>
          </a:prstGeom>
          <a:solidFill>
            <a:srgbClr val="b83d68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оценить обстановку – выяснить, кто участвует в конфликте и что произошл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позаботиться о поддержке – если необходима поддержка или помощь учащихся или колле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успокоить участников конфликта – несколько раз глубоко вздохнуть, развести в разные стороны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вмешаться в конфликт (если он представляет угрозу) и прервать акт насил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оказать помощь пострадавш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  <p:sndAc>
      <p:stSnd>
        <p:snd r:embed="rId3" name="camera.wav"/>
      </p:stSnd>
    </p:sndAc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"/>
                            </p:stCondLst>
                            <p:childTnLst>
                              <p:par>
                                <p:cTn id="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Скругленный прямоугольник 3" descr=""/>
          <p:cNvPicPr/>
          <p:nvPr/>
        </p:nvPicPr>
        <p:blipFill>
          <a:blip r:embed="rId1"/>
          <a:stretch/>
        </p:blipFill>
        <p:spPr>
          <a:xfrm>
            <a:off x="396720" y="244440"/>
            <a:ext cx="7399440" cy="1249560"/>
          </a:xfrm>
          <a:prstGeom prst="rect">
            <a:avLst/>
          </a:prstGeom>
          <a:ln w="0">
            <a:noFill/>
          </a:ln>
        </p:spPr>
      </p:pic>
      <p:sp>
        <p:nvSpPr>
          <p:cNvPr id="260" name="Загнутый угол 4"/>
          <p:cNvSpPr/>
          <p:nvPr/>
        </p:nvSpPr>
        <p:spPr>
          <a:xfrm>
            <a:off x="500040" y="1571760"/>
            <a:ext cx="7286760" cy="4786200"/>
          </a:xfrm>
          <a:prstGeom prst="foldedCorner">
            <a:avLst>
              <a:gd name="adj" fmla="val 16666"/>
            </a:avLst>
          </a:prstGeom>
          <a:solidFill>
            <a:srgbClr val="b83d68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9" descr="j0384132"/>
          <p:cNvPicPr/>
          <p:nvPr/>
        </p:nvPicPr>
        <p:blipFill>
          <a:blip r:embed="rId2"/>
          <a:stretch/>
        </p:blipFill>
        <p:spPr>
          <a:xfrm>
            <a:off x="8429760" y="1143000"/>
            <a:ext cx="857160" cy="4286160"/>
          </a:xfrm>
          <a:prstGeom prst="rect">
            <a:avLst/>
          </a:prstGeom>
          <a:ln w="0">
            <a:noFill/>
          </a:ln>
        </p:spPr>
      </p:pic>
      <p:grpSp>
        <p:nvGrpSpPr>
          <p:cNvPr id="262" name="Параллелограмм 16"/>
          <p:cNvGrpSpPr/>
          <p:nvPr/>
        </p:nvGrpSpPr>
        <p:grpSpPr>
          <a:xfrm>
            <a:off x="450720" y="1652760"/>
            <a:ext cx="2438640" cy="2011320"/>
            <a:chOff x="450720" y="1652760"/>
            <a:chExt cx="2438640" cy="2011320"/>
          </a:xfrm>
        </p:grpSpPr>
        <p:pic>
          <p:nvPicPr>
            <p:cNvPr id="263" name="Параллелограмм 16" descr=""/>
            <p:cNvPicPr/>
            <p:nvPr/>
          </p:nvPicPr>
          <p:blipFill>
            <a:blip r:embed="rId3"/>
            <a:stretch/>
          </p:blipFill>
          <p:spPr>
            <a:xfrm>
              <a:off x="450720" y="1652760"/>
              <a:ext cx="243864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941400" y="2084400"/>
              <a:ext cx="147492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rebuchet MS"/>
                </a:rPr>
                <a:t>Необходимо осознавать цель беседы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араллелограмм 17"/>
          <p:cNvGrpSpPr/>
          <p:nvPr/>
        </p:nvGrpSpPr>
        <p:grpSpPr>
          <a:xfrm>
            <a:off x="5237280" y="1652760"/>
            <a:ext cx="2584440" cy="2084040"/>
            <a:chOff x="5237280" y="1652760"/>
            <a:chExt cx="2584440" cy="2084040"/>
          </a:xfrm>
        </p:grpSpPr>
        <p:pic>
          <p:nvPicPr>
            <p:cNvPr id="266" name="Параллелограмм 17" descr=""/>
            <p:cNvPicPr/>
            <p:nvPr/>
          </p:nvPicPr>
          <p:blipFill>
            <a:blip r:embed="rId4"/>
            <a:stretch/>
          </p:blipFill>
          <p:spPr>
            <a:xfrm>
              <a:off x="5237280" y="1652760"/>
              <a:ext cx="2584440" cy="208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748480" y="2093760"/>
              <a:ext cx="1576080" cy="12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rebuchet MS"/>
                </a:rPr>
                <a:t>Важно определить количество детей, принимавших участие в разбор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араллелограмм 18"/>
          <p:cNvGrpSpPr/>
          <p:nvPr/>
        </p:nvGrpSpPr>
        <p:grpSpPr>
          <a:xfrm>
            <a:off x="2236680" y="2292480"/>
            <a:ext cx="3365640" cy="1944720"/>
            <a:chOff x="2236680" y="2292480"/>
            <a:chExt cx="3365640" cy="1944720"/>
          </a:xfrm>
        </p:grpSpPr>
        <p:pic>
          <p:nvPicPr>
            <p:cNvPr id="269" name="Параллелограмм 18" descr=""/>
            <p:cNvPicPr/>
            <p:nvPr/>
          </p:nvPicPr>
          <p:blipFill>
            <a:blip r:embed="rId5"/>
            <a:stretch/>
          </p:blipFill>
          <p:spPr>
            <a:xfrm>
              <a:off x="2236680" y="2292480"/>
              <a:ext cx="336564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2797200" y="2668680"/>
              <a:ext cx="226368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rebuchet MS"/>
                </a:rPr>
                <a:t>В начале беседы установить правила: не перебивать, не критиковать, не оскорбля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Параллелограмм 19"/>
          <p:cNvGrpSpPr/>
          <p:nvPr/>
        </p:nvGrpSpPr>
        <p:grpSpPr>
          <a:xfrm>
            <a:off x="450720" y="4224240"/>
            <a:ext cx="3225960" cy="1798560"/>
            <a:chOff x="450720" y="4224240"/>
            <a:chExt cx="3225960" cy="1798560"/>
          </a:xfrm>
        </p:grpSpPr>
        <p:pic>
          <p:nvPicPr>
            <p:cNvPr id="272" name="Параллелограмм 19" descr=""/>
            <p:cNvPicPr/>
            <p:nvPr/>
          </p:nvPicPr>
          <p:blipFill>
            <a:blip r:embed="rId6"/>
            <a:stretch/>
          </p:blipFill>
          <p:spPr>
            <a:xfrm>
              <a:off x="450720" y="4224240"/>
              <a:ext cx="322596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985680" y="4575240"/>
              <a:ext cx="2171880" cy="11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rebuchet MS"/>
                </a:rPr>
                <a:t>Беседа должна проходить в спокойной обстановке, все участники чувствуют себя комфортн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Параллелограмм 20"/>
          <p:cNvGrpSpPr/>
          <p:nvPr/>
        </p:nvGrpSpPr>
        <p:grpSpPr>
          <a:xfrm>
            <a:off x="4164120" y="4224240"/>
            <a:ext cx="3297240" cy="1798560"/>
            <a:chOff x="4164120" y="4224240"/>
            <a:chExt cx="3297240" cy="1798560"/>
          </a:xfrm>
        </p:grpSpPr>
        <p:pic>
          <p:nvPicPr>
            <p:cNvPr id="275" name="Параллелограмм 20" descr=""/>
            <p:cNvPicPr/>
            <p:nvPr/>
          </p:nvPicPr>
          <p:blipFill>
            <a:blip r:embed="rId7"/>
            <a:stretch/>
          </p:blipFill>
          <p:spPr>
            <a:xfrm>
              <a:off x="4164120" y="4224240"/>
              <a:ext cx="329724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4705200" y="4572000"/>
              <a:ext cx="2233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rebuchet MS"/>
                </a:rPr>
                <a:t>В беседе необходимо выслушать обе стороны, т.к. каждая из сторон имеет право изложить свою точку зр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l"/>
    <p:sndAc>
      <p:stSnd>
        <p:snd r:embed="rId8" name="camera.wav"/>
      </p:stSnd>
    </p:sndAc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15:42:29Z</dcterms:created>
  <dc:creator>User</dc:creator>
  <dc:description/>
  <dc:language>en-US</dc:language>
  <cp:lastModifiedBy>Никитина Светлана Геннадьевна</cp:lastModifiedBy>
  <dcterms:modified xsi:type="dcterms:W3CDTF">2014-01-14T07:21:00Z</dcterms:modified>
  <cp:revision>29</cp:revision>
  <dc:subject/>
  <dc:title>Слайд 1</dc:title>
</cp:coreProperties>
</file>