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0F9-5413-40C8-8755-AF5BFDA418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A0F2-8C1A-4AB5-B4F3-7A3CF34248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1325-6B4F-4325-BB07-0C612EAFA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849-E50E-41C7-B005-4AE3137AAB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635-181D-4D95-A80E-10F1A895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38A-7928-4A2C-823A-F9FE5349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FF8-8F9A-48DA-B453-C259E14C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FFD-58C0-4E83-BA70-B336EA50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296-AE86-4458-B8BA-A349FA8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ED3-6FBE-48A2-8307-8D470BB4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294-0887-4BD1-97C1-F908F52C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5BA-CA71-4EBF-84BE-2E4798D8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79A-C934-4163-A846-E836B363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EAD-ABE8-480C-B110-A2A47289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E0B-B46E-4A88-88B9-633F337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FB3-EC65-46AB-B7C4-E17F7C9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0710-A9E5-42B3-AA12-59A45C19B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1"/>
          <p:cNvSpPr/>
          <p:nvPr/>
        </p:nvSpPr>
        <p:spPr>
          <a:xfrm>
            <a:off x="1116000" y="206064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рмативные основы организации и проведе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межуточной аттестации учащих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76720" y="5732640"/>
            <a:ext cx="3598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Цыбренкова А.В. –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меститель директора по УР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979640" y="189000"/>
            <a:ext cx="684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«Основная общеобразовательная школа» пгт Троицко-Печорс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206800" y="115920"/>
            <a:ext cx="6208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Формы и порядок проведения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омежуточной аттестаци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539640" y="1268280"/>
            <a:ext cx="828036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ая организация, практикующая различные формы промежуточной аттестации, может использовать по своему усмотрению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овую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межуточную аттестацию без аттестационных испыт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 которой по итогам учебного года выставляется «среднечетвертная» отмет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овую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межуточную аттестацию с аттестационными испытани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 которой отметка выставляется в зависимости от формы промежуточной аттестации (экзамен, зачет, реферат, тест и д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помнить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тоги промежуточной аттестации в выпускных классах должны выражаться исключительно в отметк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не в каком-либо ином формате (например, зачета), поскольку в соответствии с Порядком заполнения, учета и выдачи аттестатов об основном общем и среднем общем образовании и их дубликатов, утвержденным приказом Минобрнауки РФ от 14.02.2014 № 115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тоговая отметка, выставляемая в аттестат, выставляется в зависимости от годовой отметки выпуск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24000" y="17002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№ 273-ФЗ устанавливает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треб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положительной годовой отметке, но неудовлетворительной отметке за аттестационное испытание учащемуся не может быть выставлена положительная итоговая отме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2003760" y="333360"/>
            <a:ext cx="626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Академическая задолженност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84360" y="1125360"/>
            <a:ext cx="813564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атья 58 № 273-Ф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Неудовлетворительные результаты промежуточной аттестации по одному или нескольким учебным предмета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курсам, дисциплинам (модулям) образовательной программы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ли непрохождение промежуточной аттестации при отсутствии уважительных причин признаются академической задолженностью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я  из  этого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адемической  задолженностью  считается  как неудовлетворительный  годовой  результат  по  предмету,  по  которому  не проводится аттестационное испытание,  так  и неудовлетворительный результат,  полученный  на аттестационном испыта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2271960" y="115920"/>
            <a:ext cx="626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Академическая задолженност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684360" y="847800"/>
            <a:ext cx="8280360" cy="67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атья 58 № 273-ФЗ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«Обучающиеся обязаны ликвидировать академическую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                    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задолженность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Обучающиеся, имеющие академическую задолженность, вправе пройти промежуточную аттестацию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по соответствующим учебному предмету, курсу, дисциплине (модулю) 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не более двух раз в сроки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определяемые организацией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, осуществляющей образовательную деятельность, 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в пределах одного года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с момента образования академической задолженности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Для проведения промежуточной аттестации во второй раз образовательной организацией создается комиссия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Не допускается взимание платы с обучающихся за прохождение промежуточной аттестации»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«Обучающиеся, не прошедшие промежуточной аттестации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</a:rPr>
              <a:t>по уважительным причинам или имеющие академическую задолженность, </a:t>
            </a: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переводятся в следующий класс  условно.»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кроме учащихся 4-х и 9-х классов (ст.66, № 273-ФЗ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148480" y="115920"/>
            <a:ext cx="626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Академическая задолженност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755640" y="1197000"/>
            <a:ext cx="792000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атья 58 № 273-Ф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«Обучающиеся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в образовательной организации по образовательным программам начального общего, основного общего и среднего общего образования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ликвидировавшие в установленные сроки академической задолженности с момента ее образования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 по усмотрению их родителей (законных представителей)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ставляются на повторное обучение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ереводятся на обучение по адаптированным образовательным программам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соответствии с рекомендациями психолого-медико-педагогической комиссии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либо на обучение по индивидуальному учебному плану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Целесообразно данную норму исполнить до начала нового учебного года. Поэтому сроки прохождения промежуточной аттестации по ликвидации академической задолженности разумно устано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 июне – сентяб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835280" y="115920"/>
            <a:ext cx="6624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то может проходить промежуточную аттестацию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611280" y="1700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ащиеся, осваивающие образовательны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ого общего, основного общего,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х формах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ащиес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аивающие образовательные программы 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ым учебным план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т. ч. осуществляющие ускоренное обучение с учетом своих особенностей и образовательны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аивающие образовательны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ого общего, основного общего и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форме семейного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Лица, осваивающие образовательные программы среднего общего образования в форме само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835280" y="0"/>
            <a:ext cx="73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сто промежуточной аттестации в основной образовательной програм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24000" y="162864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атье 2, (п. 9) Федерального закона «Об образовании в РФ» указано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сание форм аттестации – это один из обязательных элементов образовательной программы школы (ООП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обеспечение системы промежуточной аттестации несет ответственность руководитель школы, утверждая локальные акты и обеспечивая их исполнение в отношении каждого учащегос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уктуру ООП входят 3 обязательных раздел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ой, содержательный и организационны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ждом из них отведено место промежуточной аттес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2647080" y="404640"/>
            <a:ext cx="45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евой раздел О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11280" y="1125360"/>
          <a:ext cx="8280360" cy="5112000"/>
        </p:xfrm>
        <a:graphic>
          <a:graphicData uri="http://schemas.openxmlformats.org/drawingml/2006/table">
            <a:tbl>
              <a:tblPr/>
              <a:tblGrid>
                <a:gridCol w="4016160"/>
                <a:gridCol w="4264200"/>
              </a:tblGrid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Gill Sans Ultra Bold"/>
                          <a:ea typeface="Calibri"/>
                        </a:rPr>
                        <a:t>Элементы раздела 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Gill Sans Ultra Bold"/>
                          <a:ea typeface="Calibri"/>
                        </a:rPr>
                        <a:t>Присутствие описания системы промежуточной аттес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снительная запи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ill Sans Ultra Bold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ill Sans Ultra Bold"/>
                          <a:ea typeface="Calibri"/>
                        </a:rPr>
                        <a:t>Описание планируемых результа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ill Sans Ultra Bold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ill Sans Ultra Bold"/>
                          <a:ea typeface="Calibri"/>
                        </a:rPr>
                        <a:t>Система оце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ill Sans Ultra Bold"/>
                          <a:ea typeface="Calibri"/>
                        </a:rPr>
                        <a:t>планируемых результа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ill Sans Ultra Bold"/>
                          <a:ea typeface="Arial"/>
                        </a:rPr>
                        <a:t>Раскрываются содержание и инструменты промежуточной аттес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2079720" y="47628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ый раздел О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1916280"/>
          <a:ext cx="8280360" cy="4528800"/>
        </p:xfrm>
        <a:graphic>
          <a:graphicData uri="http://schemas.openxmlformats.org/drawingml/2006/table">
            <a:tbl>
              <a:tblPr/>
              <a:tblGrid>
                <a:gridCol w="3672000"/>
                <a:gridCol w="460836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лементы раздела ОО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исутствие описания системы промежуточной аттес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рамма учебных предметов, курсов (по образовательным областя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а оценки результатов ООП должна учитывать освоение каждого структурного элемента раздела программы, а в ходе промежуточной аттестации должны проверяться не только предметные, но и метапредметные и личностные  результаты. Для этого разрабатываются различные контрольно-измерительные материа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воспитания и соци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коррекцион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2050920" y="476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й раздел О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71640" y="1700280"/>
          <a:ext cx="7632720" cy="4521240"/>
        </p:xfrm>
        <a:graphic>
          <a:graphicData uri="http://schemas.openxmlformats.org/drawingml/2006/table">
            <a:tbl>
              <a:tblPr/>
              <a:tblGrid>
                <a:gridCol w="2993760"/>
                <a:gridCol w="4638960"/>
              </a:tblGrid>
              <a:tr h="93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лементы раздела 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исутствие описания системы промежуточной аттес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план, индивидуальный учебный п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крываются формы промежуточной аттестации по учебным предметам, курсам, дисциплин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 внеурочн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условий реализации 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крываются условия, необходимые для проведения промежуточной аттест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9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684360" y="476280"/>
            <a:ext cx="82087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щение к вопросу о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межуточной аттест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чающихся предопределено систем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новационными изменениями в сфере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менения связаны с построением национальной системы оценки качества образования, вступлением в силу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едерального закона от 29.12.2012 № 273-ФЗ «Об образовании в Российской Федерации» и 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это заставляет говорить о новых подходах или реконструкции существующих подходов к организации и проведению промежуточной аттестации обучающихся. Педагогическому коллективу  образовательной организации необходимо знать, понимать и учитывать новации, изменения и другие нюансы организации данного процесс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туальные вопросы промежуточной аттестации обучающихся в общеобразовательной организации просматриваются при анализе вступивших в силу новых и уже действующих нормативных документов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2703600" y="58680"/>
            <a:ext cx="4562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Обобщающие выводы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307800" y="995400"/>
            <a:ext cx="856944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Промежуточная аттестация – компетенция образовательно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изации.  Регламент ее проведения (форма, порядок 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иодичность) устанавливаются основной образовательно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граммой и локальным актом организ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  Промежуточная аттестация может проводиться как  после освоения всей ООП так и после освоения отдельной ее част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 Набор предметов, по которым устанавливается годовая промежуточная аттестация, определяется на весь период реализации ООП и не может меняться ежегодно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 Годовая промежуточная аттестация – причина возникновения (или невозникновения) академической задолженности.  При положительной годовой отметке, но неудовлетворительной отметке за годовую промежуточную аттестацию  учащемуся не может быть выставлена положительная итоговая отметк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.  В случае возникновения академической задолженности учащийся обязан ее ликвидировать, пройдя не более 2-х раз промежуточную аттестацию, желательно, </a:t>
            </a:r>
            <a:r>
              <a:rPr b="0" lang="ru-RU" sz="1700" spc="-1" strike="noStrike">
                <a:solidFill>
                  <a:srgbClr val="ff0066"/>
                </a:solidFill>
                <a:latin typeface="Times New Roman"/>
              </a:rPr>
              <a:t>до начала нового учебного года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торой раз промежуточная аттестация проводится специально созданной комиссией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5. Прохождение промежуточной аттестации является бесплатным для всех категорий обучающихся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1"/>
          <p:cNvSpPr/>
          <p:nvPr/>
        </p:nvSpPr>
        <p:spPr>
          <a:xfrm>
            <a:off x="1835280" y="189000"/>
            <a:ext cx="69134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Изменения в раздел «Промежуточная аттестация учащихся»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1"/>
          <p:cNvSpPr/>
          <p:nvPr/>
        </p:nvSpPr>
        <p:spPr>
          <a:xfrm>
            <a:off x="1258920" y="25653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3705840" y="602136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тябрь, 2017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212400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ополагающие нормативные докумен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39640" y="17002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от 29.12.2012 № 273 «Об образовании в Российской Федерации» (далее  - № 273-Ф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рядок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, утвержденный приказом Минобрнауки РФ от 30.08.2013 № 1015 (далее – Порядок № 101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Федеральный государственный образовательный стандарт общего образования (по уровням), утвержденный в 2009-2012 гг. (далее - ФГО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042920" y="1773360"/>
          <a:ext cx="7489800" cy="475272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66-1 – ФЗ «Об образов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-ФЗ «Об образовании в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Ст.13, 3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таве образовательного учреждения в обязательном порядке указываются система оценок при промежуточной аттестации, формы и порядок ее прове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в образовательного учреждения утверждается его учредите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Calibri"/>
                        </a:rPr>
                        <a:t>Ст. 17, 28, 30, 33, 34,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воение образовательной программы сопровождается промежуточной аттестацией обучающихся, проводимой в формах, определенных учебным планом, и в порядке, установленном образовательной организ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удовлетворительные результаты промежуточной аттестации по одному или нескольким учебным предметам признаются академической задолженност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6"/>
          <p:cNvSpPr/>
          <p:nvPr/>
        </p:nvSpPr>
        <p:spPr>
          <a:xfrm>
            <a:off x="1835280" y="115920"/>
            <a:ext cx="6913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Место промежуточной аттестации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едеральном Закон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835280" y="115920"/>
            <a:ext cx="6913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Что представляет собой промежуточная аттестация в контексте закона № 273-ФЗ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4360" y="206064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ромежуточная аттестация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– это определение степени освоения учащимися учебного материала по пройденным учебным предметам, курсам, дисциплинам (модулям) в рамках освоения образовательных программ начального общего, основного общего и среднего общего образования за определенный период (промежуток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ые достижения обучающихся подлежат промежуточной аттестации в обязательном порядке только по предметам, которые включены в учебный план класса/группы, в котором(ой) они обучаютс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684360" y="2060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889280" y="115920"/>
            <a:ext cx="72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ов минимальный промежуток освоения образовательной программы, позволяющий проводить промежуточную аттестаци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755640" y="1989000"/>
            <a:ext cx="77770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атья 58 № 273-Ф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оение образовательной программы сопровожд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ежуточной аттест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удовлетворительные результаты промежуточной аттестации по одному или нескольким учебным предметам призн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адемической задолженностью. Учащиеся вправе ликвидировать промежуточную аттестацию не более двух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ющиеся, имеющие академическую задолженность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водятся в следующий класс услов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684360" y="2060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619280" y="160200"/>
            <a:ext cx="62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826920" y="1197000"/>
            <a:ext cx="7993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ходя из положений статьи 58 № 273-ФЗ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межуточной аттестацией целесообразно считать подведение итогов обучения учащегося в разрезе изученных предметов, курсов, дисциплин за учебный год в цело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элементом промежуточной аттестации считать итоги освоения части образовательной программы за четверть (полугодие), то возникает неопределенность относительно условного перевода учащихся в следующий класс в случае возникновения академической задолж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684360" y="2060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124000" y="0"/>
            <a:ext cx="621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Формы и порядок проведения промежуточной аттестаци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395280" y="148428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Формы и порядок проведения промежуточной аттестации обучающихся относятся к компетенции самой образовательной организации (п.10, ч. 3, ст. 28, ч.1, ст. 58 № 273-ФЗ). Установление каких-либо обязательных норм по данному вопросу законодательством об образовании не предусматривается. Поэтому каждая общеобразовательная организация самостоятельно устанавливает формы и порядок промежуточной аттестации учащихся, которы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закрепляется в учебном плане и соответствующем локальном нормативном акт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http://pptforschool.ru/shablony-dla-power-point/all/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684360" y="2060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124000" y="0"/>
            <a:ext cx="621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Формы и порядок проведения промежуточной аттестаци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50920" y="1844640"/>
            <a:ext cx="87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ывая,  что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бщеобразовательные 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абатываются общеобразовательными организациями для каждого уровня общего образования (начальное общее, основное общее, среднее общее образование), 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ый план входит  в  структуру  основной образовательной 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ые предметы, по которым будут проводиться аттестационные испытания, не должны определяться ежег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и должны быть определены основной образовательной программ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зу на весь период освоения уровня общего образования по годам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2:10:00Z</dcterms:created>
  <dc:creator>User</dc:creator>
  <dc:description/>
  <dc:language>en-US</dc:language>
  <cp:lastModifiedBy>ООШ Троицко-Печорск</cp:lastModifiedBy>
  <cp:lastPrinted>2015-03-03T07:04:22Z</cp:lastPrinted>
  <dcterms:modified xsi:type="dcterms:W3CDTF">2018-01-22T08:32:43Z</dcterms:modified>
  <cp:revision>120</cp:revision>
  <dc:subject/>
  <dc:title>Нормативные основы организации и проведения промежуточной аттестации учащихся</dc:title>
</cp:coreProperties>
</file>