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2B463-FC26-4CA7-8987-582CB1735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5120E-F225-480E-9358-50EB67E6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7DA2E-6070-4266-9568-A7F740A15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F0B47-0BD7-4147-84B3-E067210BC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35E1-2A30-4FE6-BDC7-B94A6D3CB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F49B-D3FB-4052-89C1-FAE20DA1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BA00-645F-461E-8EDD-FAD7C1BD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A807-6A1F-47F8-A6D2-5728FAF2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9BDA-F401-424B-A7C4-F9C6C2D8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E464B-3B21-4D73-8D03-370906A8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15E2-C6BA-4039-BC91-63784CF1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8948A-3231-49EE-BD42-09995F39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2BDA-78DB-429A-8516-F9AB36F5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84AA-5A01-4ED7-A2F7-E83563E4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6916-FEE2-4FB1-9437-AED2A783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B7B1-5635-4417-9269-1985AC5A8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2EF4-978C-4D8A-8172-46FD07449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85FE5-6344-42E6-B3E8-36A6B5C5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83F71-C197-4362-BC02-6DEDA0AF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9E8C3-D351-4F7C-9863-AC920B30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5314F-1C67-4D31-9D32-D762B5EB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57D28-1115-48F2-9A10-1D59F2F1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77662-9C87-4CAB-81D4-2A7EC410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688FF-1C61-4F7C-945A-CCEE9199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E6FE-4F6C-4D10-92B4-D7E9F3086EC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0E45-F41E-447F-AD09-D49C42624D1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Monotype Corsiva"/>
              </a:rPr>
              <a:t>Прививки </a:t>
            </a:r>
            <a:r>
              <a:rPr b="1" lang="en-US" sz="5400" spc="-1" strike="noStrike">
                <a:solidFill>
                  <a:srgbClr val="e5e5ff"/>
                </a:solidFill>
                <a:latin typeface="Monotype Corsiva"/>
              </a:rPr>
              <a:t>“</a:t>
            </a:r>
            <a:r>
              <a:rPr b="1" lang="ru-RU" sz="5400" spc="-1" strike="noStrike">
                <a:solidFill>
                  <a:srgbClr val="e5e5ff"/>
                </a:solidFill>
                <a:latin typeface="Monotype Corsiva"/>
              </a:rPr>
              <a:t>за</a:t>
            </a:r>
            <a:r>
              <a:rPr b="1" lang="en-US" sz="5400" spc="-1" strike="noStrike">
                <a:solidFill>
                  <a:srgbClr val="e5e5ff"/>
                </a:solidFill>
                <a:latin typeface="Monotype Corsiva"/>
              </a:rPr>
              <a:t>”</a:t>
            </a:r>
            <a:r>
              <a:rPr b="1" lang="ru-RU" sz="5400" spc="-1" strike="noStrike">
                <a:solidFill>
                  <a:srgbClr val="e5e5ff"/>
                </a:solidFill>
                <a:latin typeface="Monotype Corsiva"/>
              </a:rPr>
              <a:t> и </a:t>
            </a:r>
            <a:r>
              <a:rPr b="1" lang="en-US" sz="5400" spc="-1" strike="noStrike">
                <a:solidFill>
                  <a:srgbClr val="e5e5ff"/>
                </a:solidFill>
                <a:latin typeface="Monotype Corsiva"/>
              </a:rPr>
              <a:t>”</a:t>
            </a:r>
            <a:r>
              <a:rPr b="1" lang="ru-RU" sz="5400" spc="-1" strike="noStrike">
                <a:solidFill>
                  <a:srgbClr val="e5e5ff"/>
                </a:solidFill>
                <a:latin typeface="Monotype Corsiva"/>
              </a:rPr>
              <a:t>против</a:t>
            </a:r>
            <a:r>
              <a:rPr b="1" lang="en-US" sz="5400" spc="-1" strike="noStrike">
                <a:solidFill>
                  <a:srgbClr val="e5e5ff"/>
                </a:solidFill>
                <a:latin typeface="Monotype Corsiva"/>
              </a:rPr>
              <a:t>”</a:t>
            </a:r>
            <a:r>
              <a:rPr b="1" lang="ru-RU" sz="5400" spc="-1" strike="noStrike">
                <a:solidFill>
                  <a:srgbClr val="e5e5ff"/>
                </a:solidFill>
                <a:latin typeface="Monotype Corsiva"/>
              </a:rPr>
              <a:t>.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ыполнила: ученица 8 класс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ванова Валентин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Руководитель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Усова Вера Викторовн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1. Что вы знаете о прививках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7" name="Object 6"/>
          <p:cNvGraphicFramePr/>
          <p:nvPr/>
        </p:nvGraphicFramePr>
        <p:xfrm>
          <a:off x="2556000" y="2060640"/>
          <a:ext cx="4620960" cy="294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060640"/>
                    <a:ext cx="4620960" cy="29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Rectangle 7"/>
          <p:cNvSpPr/>
          <p:nvPr/>
        </p:nvSpPr>
        <p:spPr>
          <a:xfrm>
            <a:off x="6227640" y="5805360"/>
            <a:ext cx="144720" cy="1447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6227640" y="6021360"/>
            <a:ext cx="14472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6443640" y="5523120"/>
            <a:ext cx="64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сё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6443640" y="57391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е много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2. Где вы берете информацию о прививках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54" name="Object 5"/>
          <p:cNvGraphicFramePr/>
          <p:nvPr/>
        </p:nvGraphicFramePr>
        <p:xfrm>
          <a:off x="1258920" y="1484280"/>
          <a:ext cx="6408720" cy="362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484280"/>
                    <a:ext cx="6408720" cy="36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Rectangle 6"/>
          <p:cNvSpPr/>
          <p:nvPr/>
        </p:nvSpPr>
        <p:spPr>
          <a:xfrm>
            <a:off x="6227640" y="5805360"/>
            <a:ext cx="144720" cy="1447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6227640" y="6021360"/>
            <a:ext cx="14472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6227640" y="6237360"/>
            <a:ext cx="144720" cy="14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6408360" y="566028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–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 СМ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6305040" y="5876280"/>
            <a:ext cx="23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у лечащего врач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6328440" y="6092280"/>
            <a:ext cx="22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 медицинской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литератур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3. Как вы относитесь к прививкам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3" name="Object 9"/>
          <p:cNvGraphicFramePr/>
          <p:nvPr/>
        </p:nvGraphicFramePr>
        <p:xfrm>
          <a:off x="2543040" y="2714760"/>
          <a:ext cx="4057920" cy="229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3040" y="2714760"/>
                    <a:ext cx="405792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Rectangle 10"/>
          <p:cNvSpPr/>
          <p:nvPr/>
        </p:nvSpPr>
        <p:spPr>
          <a:xfrm>
            <a:off x="6227640" y="5805360"/>
            <a:ext cx="144720" cy="1447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6227640" y="6021360"/>
            <a:ext cx="14472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6337440" y="56602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ложительно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Rectangle 13"/>
          <p:cNvSpPr/>
          <p:nvPr/>
        </p:nvSpPr>
        <p:spPr>
          <a:xfrm>
            <a:off x="6343920" y="594936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трицательно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4. Ставите ли вы  прививки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70" name="Object 5"/>
          <p:cNvGraphicFramePr/>
          <p:nvPr/>
        </p:nvGraphicFramePr>
        <p:xfrm>
          <a:off x="1908000" y="1557360"/>
          <a:ext cx="5224680" cy="295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557360"/>
                    <a:ext cx="5224680" cy="29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Rectangle 6"/>
          <p:cNvSpPr/>
          <p:nvPr/>
        </p:nvSpPr>
        <p:spPr>
          <a:xfrm>
            <a:off x="6227640" y="6021360"/>
            <a:ext cx="14472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6414840" y="5876280"/>
            <a:ext cx="6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5. Были ли у вас побочные или аллергические реакции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75" name="Object 5"/>
          <p:cNvGraphicFramePr/>
          <p:nvPr/>
        </p:nvGraphicFramePr>
        <p:xfrm>
          <a:off x="2124000" y="1700280"/>
          <a:ext cx="5585040" cy="315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700280"/>
                    <a:ext cx="5585040" cy="31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Rectangle 6"/>
          <p:cNvSpPr/>
          <p:nvPr/>
        </p:nvSpPr>
        <p:spPr>
          <a:xfrm>
            <a:off x="6227640" y="5805360"/>
            <a:ext cx="144720" cy="1447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6227640" y="6021360"/>
            <a:ext cx="14472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6276240" y="5660280"/>
            <a:ext cx="13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а, был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6327360" y="5876280"/>
            <a:ext cx="75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е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468360" y="0"/>
            <a:ext cx="8136000" cy="44784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5"/>
          <p:cNvSpPr/>
          <p:nvPr/>
        </p:nvSpPr>
        <p:spPr>
          <a:xfrm>
            <a:off x="1258920" y="4883040"/>
            <a:ext cx="57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 любых обстоятельствах выбор всегда остается за вами. Здоровье в ваших руках! Будьте здоровы!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5"/>
          <p:cNvSpPr txBox="1"/>
          <p:nvPr/>
        </p:nvSpPr>
        <p:spPr>
          <a:xfrm rot="20167800">
            <a:off x="611280" y="980640"/>
            <a:ext cx="777708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42920" y="160020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Цель моей работы: анализируя медицинскую и научную литературу выявить положительные и отрицательные стороны вакцинации. Определить общественное мнение по поводу вакцинации на территории села Романовк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Вакцинация - это самое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эффективное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и экономически выгодное средство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защиты против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инфекционных болезней,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известное современной медицине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Diagram 16"/>
          <p:cNvGrpSpPr/>
          <p:nvPr/>
        </p:nvGrpSpPr>
        <p:grpSpPr>
          <a:xfrm>
            <a:off x="1819440" y="385920"/>
            <a:ext cx="5433840" cy="5332320"/>
            <a:chOff x="1819440" y="385920"/>
            <a:chExt cx="5433840" cy="5332320"/>
          </a:xfrm>
        </p:grpSpPr>
        <p:sp>
          <p:nvSpPr>
            <p:cNvPr id="105" name="_s1028"/>
            <p:cNvSpPr/>
            <p:nvPr/>
          </p:nvSpPr>
          <p:spPr>
            <a:xfrm flipV="1">
              <a:off x="4535640" y="1769760"/>
              <a:ext cx="0" cy="693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_s1029"/>
            <p:cNvSpPr/>
            <p:nvPr/>
          </p:nvSpPr>
          <p:spPr>
            <a:xfrm>
              <a:off x="3843360" y="385920"/>
              <a:ext cx="1384200" cy="13842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Живые 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7" name="_s1030"/>
            <p:cNvSpPr/>
            <p:nvPr/>
          </p:nvSpPr>
          <p:spPr>
            <a:xfrm flipV="1">
              <a:off x="5075280" y="2290680"/>
              <a:ext cx="542880" cy="433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" name="_s1031"/>
            <p:cNvSpPr/>
            <p:nvPr/>
          </p:nvSpPr>
          <p:spPr>
            <a:xfrm>
              <a:off x="5467320" y="1166760"/>
              <a:ext cx="1384200" cy="13842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aramond"/>
                </a:rPr>
                <a:t>Инактивированные 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9" name="_s1032"/>
            <p:cNvSpPr/>
            <p:nvPr/>
          </p:nvSpPr>
          <p:spPr>
            <a:xfrm>
              <a:off x="5208480" y="3308400"/>
              <a:ext cx="677880" cy="154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0" name="_s1033"/>
            <p:cNvSpPr/>
            <p:nvPr/>
          </p:nvSpPr>
          <p:spPr>
            <a:xfrm>
              <a:off x="5869080" y="2924280"/>
              <a:ext cx="1384200" cy="13842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aramond"/>
                </a:rPr>
                <a:t>Химические 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1" name="_s1034"/>
            <p:cNvSpPr/>
            <p:nvPr/>
          </p:nvSpPr>
          <p:spPr>
            <a:xfrm>
              <a:off x="4835520" y="3776760"/>
              <a:ext cx="301680" cy="625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2" name="_s1035"/>
            <p:cNvSpPr/>
            <p:nvPr/>
          </p:nvSpPr>
          <p:spPr>
            <a:xfrm>
              <a:off x="4745160" y="4334040"/>
              <a:ext cx="1384200" cy="13842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aramond"/>
                </a:rPr>
                <a:t>Анатоксины 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3" name="_s1036"/>
            <p:cNvSpPr/>
            <p:nvPr/>
          </p:nvSpPr>
          <p:spPr>
            <a:xfrm flipH="1">
              <a:off x="3935520" y="3776760"/>
              <a:ext cx="301680" cy="625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4" name="_s1037"/>
            <p:cNvSpPr/>
            <p:nvPr/>
          </p:nvSpPr>
          <p:spPr>
            <a:xfrm>
              <a:off x="2943360" y="4334040"/>
              <a:ext cx="1384200" cy="13842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aramond"/>
                </a:rPr>
                <a:t>Векторные 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5" name="_s1038"/>
            <p:cNvSpPr/>
            <p:nvPr/>
          </p:nvSpPr>
          <p:spPr>
            <a:xfrm flipH="1">
              <a:off x="3185640" y="3308400"/>
              <a:ext cx="677880" cy="154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6" name="_s1039"/>
            <p:cNvSpPr/>
            <p:nvPr/>
          </p:nvSpPr>
          <p:spPr>
            <a:xfrm>
              <a:off x="1819440" y="2925720"/>
              <a:ext cx="1384200" cy="13842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aramond"/>
                </a:rPr>
                <a:t>Синтетические 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7" name="_s1040"/>
            <p:cNvSpPr/>
            <p:nvPr/>
          </p:nvSpPr>
          <p:spPr>
            <a:xfrm flipH="1" flipV="1">
              <a:off x="3454560" y="2290680"/>
              <a:ext cx="542880" cy="434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8" name="_s1041"/>
            <p:cNvSpPr/>
            <p:nvPr/>
          </p:nvSpPr>
          <p:spPr>
            <a:xfrm>
              <a:off x="2219400" y="1168560"/>
              <a:ext cx="1384200" cy="13842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aramond"/>
                </a:rPr>
                <a:t>Ассоциированные 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9" name="_s1042"/>
            <p:cNvSpPr/>
            <p:nvPr/>
          </p:nvSpPr>
          <p:spPr>
            <a:xfrm>
              <a:off x="3843360" y="2463840"/>
              <a:ext cx="1384200" cy="13842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Вакцины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Diagram 6"/>
          <p:cNvGrpSpPr/>
          <p:nvPr/>
        </p:nvGrpSpPr>
        <p:grpSpPr>
          <a:xfrm>
            <a:off x="1819440" y="385920"/>
            <a:ext cx="5433840" cy="5332320"/>
            <a:chOff x="1819440" y="385920"/>
            <a:chExt cx="5433840" cy="5332320"/>
          </a:xfrm>
        </p:grpSpPr>
        <p:sp>
          <p:nvSpPr>
            <p:cNvPr id="121" name="_s2052"/>
            <p:cNvSpPr/>
            <p:nvPr/>
          </p:nvSpPr>
          <p:spPr>
            <a:xfrm flipH="1" flipV="1">
              <a:off x="3454560" y="2290680"/>
              <a:ext cx="542880" cy="434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2" name="_s2053"/>
            <p:cNvSpPr/>
            <p:nvPr/>
          </p:nvSpPr>
          <p:spPr>
            <a:xfrm>
              <a:off x="2219400" y="1168560"/>
              <a:ext cx="1384200" cy="13842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Garamond"/>
                </a:rPr>
                <a:t>Синтетические 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aramond"/>
                </a:rPr>
                <a:t>пептидные 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aramond"/>
                </a:rPr>
                <a:t>вакцины. 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3" name="_s2054"/>
            <p:cNvSpPr/>
            <p:nvPr/>
          </p:nvSpPr>
          <p:spPr>
            <a:xfrm flipH="1">
              <a:off x="3185640" y="3308400"/>
              <a:ext cx="677880" cy="154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4" name="_s2055"/>
            <p:cNvSpPr/>
            <p:nvPr/>
          </p:nvSpPr>
          <p:spPr>
            <a:xfrm>
              <a:off x="1819440" y="2925720"/>
              <a:ext cx="1384200" cy="13842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aramond"/>
                </a:rPr>
                <a:t>Вакцины-леденцы. 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5" name="_s2056"/>
            <p:cNvSpPr/>
            <p:nvPr/>
          </p:nvSpPr>
          <p:spPr>
            <a:xfrm flipH="1">
              <a:off x="3935520" y="3776760"/>
              <a:ext cx="301680" cy="625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6" name="_s2057"/>
            <p:cNvSpPr/>
            <p:nvPr/>
          </p:nvSpPr>
          <p:spPr>
            <a:xfrm>
              <a:off x="2943360" y="4334040"/>
              <a:ext cx="1384200" cy="13842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Garamond"/>
                </a:rPr>
                <a:t>Микро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Garamond"/>
                </a:rPr>
                <a:t>капсулированные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Garamond"/>
                </a:rPr>
                <a:t>вакцины. 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7" name="_s2058"/>
            <p:cNvSpPr/>
            <p:nvPr/>
          </p:nvSpPr>
          <p:spPr>
            <a:xfrm>
              <a:off x="4835520" y="3776760"/>
              <a:ext cx="301680" cy="625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8" name="_s2059"/>
            <p:cNvSpPr/>
            <p:nvPr/>
          </p:nvSpPr>
          <p:spPr>
            <a:xfrm>
              <a:off x="4745160" y="4334040"/>
              <a:ext cx="1384200" cy="13842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Garamond"/>
                </a:rPr>
                <a:t>Съедобные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Garamond"/>
                </a:rPr>
                <a:t>вакцины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Garamond"/>
                </a:rPr>
                <a:t>(растительные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Garamond"/>
                </a:rPr>
                <a:t>вакцины). 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9" name="_s2060"/>
            <p:cNvSpPr/>
            <p:nvPr/>
          </p:nvSpPr>
          <p:spPr>
            <a:xfrm>
              <a:off x="5208480" y="3308400"/>
              <a:ext cx="677880" cy="154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0" name="_s2061"/>
            <p:cNvSpPr/>
            <p:nvPr/>
          </p:nvSpPr>
          <p:spPr>
            <a:xfrm>
              <a:off x="5869080" y="2924280"/>
              <a:ext cx="1384200" cy="13842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Garamond"/>
                </a:rPr>
                <a:t>Антиидио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Garamond"/>
                </a:rPr>
                <a:t>типические 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Garamond"/>
                </a:rPr>
                <a:t>вакцины 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1" name="_s2062"/>
            <p:cNvSpPr/>
            <p:nvPr/>
          </p:nvSpPr>
          <p:spPr>
            <a:xfrm flipV="1">
              <a:off x="5075280" y="2290680"/>
              <a:ext cx="542880" cy="433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2" name="_s2063"/>
            <p:cNvSpPr/>
            <p:nvPr/>
          </p:nvSpPr>
          <p:spPr>
            <a:xfrm>
              <a:off x="5467320" y="1166760"/>
              <a:ext cx="1384200" cy="13842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aramond"/>
                </a:rPr>
                <a:t>ДНК-вакцины. 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3" name="_s2064"/>
            <p:cNvSpPr/>
            <p:nvPr/>
          </p:nvSpPr>
          <p:spPr>
            <a:xfrm flipV="1">
              <a:off x="4535640" y="1769760"/>
              <a:ext cx="0" cy="693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4" name="_s2065"/>
            <p:cNvSpPr/>
            <p:nvPr/>
          </p:nvSpPr>
          <p:spPr>
            <a:xfrm>
              <a:off x="3843360" y="385920"/>
              <a:ext cx="1384200" cy="13842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aramond"/>
                </a:rPr>
                <a:t>Генноинженерные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Garamond"/>
                </a:rPr>
                <a:t>вакцины 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5" name="_s2066"/>
            <p:cNvSpPr/>
            <p:nvPr/>
          </p:nvSpPr>
          <p:spPr>
            <a:xfrm>
              <a:off x="3843360" y="2463840"/>
              <a:ext cx="1384200" cy="13842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Вакцины 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будущего  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4705200" cy="29512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1692360" y="636120"/>
            <a:ext cx="59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aramond"/>
              </a:rPr>
              <a:t>Прививки «За»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24000" y="487152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огда ребенок появляется на свет, он обычно имеет иммунитет к некоторым болезням. Это заслуга борющихся с болезнями антител, которые передаются через плаценту от матери к будущему новорожденному. Впоследствии, кормящийся грудью младенец постоянно получает дополнительные антитела с грудным молоком. Но такой иммунитет носит только временный характер.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5"/>
          <p:cNvSpPr/>
          <p:nvPr/>
        </p:nvSpPr>
        <p:spPr>
          <a:xfrm>
            <a:off x="1619280" y="297000"/>
            <a:ext cx="59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Прививки «Против»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7" descr="Рисунок1"/>
          <p:cNvPicPr/>
          <p:nvPr/>
        </p:nvPicPr>
        <p:blipFill>
          <a:blip r:embed="rId1"/>
          <a:stretch/>
        </p:blipFill>
        <p:spPr>
          <a:xfrm>
            <a:off x="2050920" y="1916280"/>
            <a:ext cx="4897440" cy="27367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8"/>
          <p:cNvSpPr/>
          <p:nvPr/>
        </p:nvSpPr>
        <p:spPr>
          <a:xfrm>
            <a:off x="684360" y="4523040"/>
            <a:ext cx="72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истема сообщений о побочных эффектах прививок была создана конгрессом в соответствии с Национальным законом о компенсации пострадавшим от детских прививок от 1996 г. Она ежегодно получает около 11 000 сообщений о серьезных побочных реакциях на прививки, включая от одной до двухсот смертей и в несколько раз превышающее их количество пожизненных инвалидностей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Сведения о профилактических мероприятиях с. Романовка в 2017г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1773360"/>
          <a:ext cx="8229600" cy="4865400"/>
        </p:xfrm>
        <a:graphic>
          <a:graphicData uri="http://schemas.openxmlformats.org/drawingml/2006/table">
            <a:tbl>
              <a:tblPr/>
              <a:tblGrid>
                <a:gridCol w="730080"/>
                <a:gridCol w="3384720"/>
                <a:gridCol w="2160720"/>
                <a:gridCol w="19540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ид прививок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озраст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тметка о выполнении     (в %)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епатит 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т 6 месяцев до 10 лет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рип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Ежегодно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КДС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т 3 месяцев до 3 лет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аротит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 15 до 18 месяце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лиомиелит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 3  до 6  месяце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ЦЖ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-7 день от рождения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оциологический опрос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. Что вы знаете о прививках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. Где вы берете информацию о прививках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. Как вы относитесь к прививкам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4. Ставите ли вы  прививки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5. Были ли у вас побочные или аллергические реакции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1T16:17:09Z</dcterms:created>
  <dc:creator>oem_admin</dc:creator>
  <dc:description/>
  <dc:language>en-US</dc:language>
  <cp:lastModifiedBy>УсаваВВ</cp:lastModifiedBy>
  <dcterms:modified xsi:type="dcterms:W3CDTF">2018-04-16T01:37:27Z</dcterms:modified>
  <cp:revision>11</cp:revision>
  <dc:subject/>
  <dc:title>Прививки «за» и «против».</dc:title>
</cp:coreProperties>
</file>