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7F6F-50FB-4AD9-ABB0-8522A2E373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C0FC-3D4D-4D03-8262-2BF8A538C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5C1F-0E09-4E00-BB80-BD9DC8109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8C6-5F00-46F6-9D70-8F17AA7D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543-F94B-4D28-BB29-8252CC24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48D-98C8-4A0E-9411-F6BD9013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CC7-B5B0-450A-8FCF-2BA7D3A2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018-B5DA-4D7E-A6DF-88902DAB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88D-439F-4CD4-B15A-DB326B10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E59-208B-4041-8D9B-738A454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F82-D55F-4815-8DDB-6E0D9E0F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265-8CAD-491B-8AFB-16E6C60D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8B3-7F41-4D40-9429-1793C6D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E4F-BD44-4B0C-B488-194DB7C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E41-4E50-4236-995C-B66EB09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36F7-FD00-4861-8662-5BAD5B6F4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609480" y="358128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295280" y="4724280"/>
            <a:ext cx="45720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ЗОВАНИЕ: ВЫСШ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ТЕГОРИЯ: 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Ж РАБОТЫ: 31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УБЛИЧНАЯ ПРЕЗЕНТАЦИЯ РЕЗУЛЬТАТОВ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09480" y="2514600"/>
            <a:ext cx="5666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ВТОР: УЧИТЕЛЬ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АОУ «Студенческая СОШ №1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Дорохин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Users\User\Documents\день учителя фото 2014\DSC05535.JPG"/>
          <p:cNvPicPr/>
          <p:nvPr/>
        </p:nvPicPr>
        <p:blipFill>
          <a:blip r:embed="rId2"/>
          <a:stretch/>
        </p:blipFill>
        <p:spPr>
          <a:xfrm>
            <a:off x="5715000" y="266688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  СОВРЕМЕННЫХ ОБРАЗОВАТЕЛЬНЫХ ТЕХНОЛОГИЙ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хема 51" descr=""/>
          <p:cNvPicPr/>
          <p:nvPr/>
        </p:nvPicPr>
        <p:blipFill>
          <a:blip r:embed="rId2"/>
          <a:stretch/>
        </p:blipFill>
        <p:spPr>
          <a:xfrm>
            <a:off x="835200" y="1047600"/>
            <a:ext cx="7742160" cy="4835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  СОВРЕМЕННЫХ ОБРАЗОВАТЕЛЬНЫХ ТЕХНОЛОГИЙ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1" descr=""/>
          <p:cNvPicPr/>
          <p:nvPr/>
        </p:nvPicPr>
        <p:blipFill>
          <a:blip r:embed="rId2"/>
          <a:stretch/>
        </p:blipFill>
        <p:spPr>
          <a:xfrm>
            <a:off x="225360" y="298440"/>
            <a:ext cx="8328240" cy="4816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  СОВРЕМЕННЫХ ОБРАЗОВАТЕЛЬНЫХ ТЕХНОЛОГИЙ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хема 51" descr=""/>
          <p:cNvPicPr/>
          <p:nvPr/>
        </p:nvPicPr>
        <p:blipFill>
          <a:blip r:embed="rId2"/>
          <a:stretch/>
        </p:blipFill>
        <p:spPr>
          <a:xfrm>
            <a:off x="682560" y="835200"/>
            <a:ext cx="8315280" cy="42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447920" y="1295280"/>
            <a:ext cx="6172200" cy="5332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1371600" y="1295280"/>
            <a:ext cx="6172200" cy="5332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  СОВРЕМЕННЫХ ОБРАЗОВАТЕЛЬНЫХ ТЕХНОЛОГИЙ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83808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1143000" y="1219320"/>
            <a:ext cx="2743200" cy="129528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952880" y="1219320"/>
            <a:ext cx="3353040" cy="129528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5257800" y="2743200"/>
            <a:ext cx="2362320" cy="129528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о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5181480" y="4267080"/>
            <a:ext cx="3353040" cy="129564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е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219320" y="2895480"/>
            <a:ext cx="3352680" cy="1905120"/>
          </a:xfrm>
          <a:prstGeom prst="foldedCorner">
            <a:avLst>
              <a:gd name="adj" fmla="val 12500"/>
            </a:avLst>
          </a:prstGeom>
          <a:solidFill>
            <a:srgbClr val="ff00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кацио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1219320" y="55627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пользование широкого спектра педагогических 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ает возможность учителю продуктивно использовать уче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ремя и добиваться высоких результатов обучен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4952880" y="12193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дифференцирован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4678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Диаграмма 10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617220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Диаграмма 12" descr=""/>
          <p:cNvPicPr/>
          <p:nvPr/>
        </p:nvPicPr>
        <p:blipFill>
          <a:blip r:embed="rId3"/>
          <a:stretch/>
        </p:blipFill>
        <p:spPr>
          <a:xfrm>
            <a:off x="4216320" y="3454560"/>
            <a:ext cx="4927680" cy="3022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4"/>
          <p:cNvSpPr/>
          <p:nvPr/>
        </p:nvSpPr>
        <p:spPr>
          <a:xfrm>
            <a:off x="609480" y="1522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ВЕНЬ ОБУЧЕННОСТИ И КАЧЕСТВ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ПО ПРЕДМЕТАМ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Диаграмма 16" descr=""/>
          <p:cNvPicPr/>
          <p:nvPr/>
        </p:nvPicPr>
        <p:blipFill>
          <a:blip r:embed="rId4"/>
          <a:stretch/>
        </p:blipFill>
        <p:spPr>
          <a:xfrm>
            <a:off x="482760" y="3987720"/>
            <a:ext cx="3987720" cy="2311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ВЕНЬ ОБУЧЕННОСТИ И КАЧЕСТВ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ПРЕДМЕТАМ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тератур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Диаграмма 20" descr=""/>
          <p:cNvPicPr/>
          <p:nvPr/>
        </p:nvPicPr>
        <p:blipFill>
          <a:blip r:embed="rId2"/>
          <a:stretch/>
        </p:blipFill>
        <p:spPr>
          <a:xfrm>
            <a:off x="1701720" y="1320840"/>
            <a:ext cx="6273720" cy="2921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Диаграмма 22" descr=""/>
          <p:cNvPicPr/>
          <p:nvPr/>
        </p:nvPicPr>
        <p:blipFill>
          <a:blip r:embed="rId3"/>
          <a:stretch/>
        </p:blipFill>
        <p:spPr>
          <a:xfrm>
            <a:off x="482760" y="4064040"/>
            <a:ext cx="4444920" cy="284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Диаграмма 24" descr=""/>
          <p:cNvPicPr/>
          <p:nvPr/>
        </p:nvPicPr>
        <p:blipFill>
          <a:blip r:embed="rId4"/>
          <a:stretch/>
        </p:blipFill>
        <p:spPr>
          <a:xfrm>
            <a:off x="4673520" y="4064040"/>
            <a:ext cx="4521240" cy="2844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Результаты итоговой аттестации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2"/>
          <p:cNvSpPr/>
          <p:nvPr/>
        </p:nvSpPr>
        <p:spPr>
          <a:xfrm>
            <a:off x="1219320" y="129528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РЕДНИЙ БАЛЛ НА ЕГЭ и ОГЭ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РУССКИЙ ЯЗЫК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201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Диаграмма 14" descr=""/>
          <p:cNvPicPr/>
          <p:nvPr/>
        </p:nvPicPr>
        <p:blipFill>
          <a:blip r:embed="rId2"/>
          <a:stretch/>
        </p:blipFill>
        <p:spPr>
          <a:xfrm>
            <a:off x="1473120" y="2616120"/>
            <a:ext cx="6654960" cy="4216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НИТОРИНГ УУ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35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Calibri"/>
              </a:rPr>
              <a:t>Сравнение сформированности УУД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Calibri"/>
              </a:rPr>
              <a:t>в 5 «Б» и в 1 п/г 6 «Б»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Диаграмма 13" descr=""/>
          <p:cNvPicPr/>
          <p:nvPr/>
        </p:nvPicPr>
        <p:blipFill>
          <a:blip r:embed="rId2"/>
          <a:stretch/>
        </p:blipFill>
        <p:spPr>
          <a:xfrm>
            <a:off x="406440" y="116856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Диаграмма 15" descr=""/>
          <p:cNvPicPr/>
          <p:nvPr/>
        </p:nvPicPr>
        <p:blipFill>
          <a:blip r:embed="rId3"/>
          <a:stretch/>
        </p:blipFill>
        <p:spPr>
          <a:xfrm>
            <a:off x="3378240" y="1244520"/>
            <a:ext cx="2539800" cy="2921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Диаграмма 17" descr=""/>
          <p:cNvPicPr/>
          <p:nvPr/>
        </p:nvPicPr>
        <p:blipFill>
          <a:blip r:embed="rId4"/>
          <a:stretch/>
        </p:blipFill>
        <p:spPr>
          <a:xfrm>
            <a:off x="5816520" y="1320840"/>
            <a:ext cx="2692440" cy="27684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Диаграмма 20" descr=""/>
          <p:cNvPicPr/>
          <p:nvPr/>
        </p:nvPicPr>
        <p:blipFill>
          <a:blip r:embed="rId5"/>
          <a:stretch/>
        </p:blipFill>
        <p:spPr>
          <a:xfrm>
            <a:off x="939960" y="4064040"/>
            <a:ext cx="2463480" cy="26161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Диаграмма 21" descr=""/>
          <p:cNvPicPr/>
          <p:nvPr/>
        </p:nvPicPr>
        <p:blipFill>
          <a:blip r:embed="rId6"/>
          <a:stretch/>
        </p:blipFill>
        <p:spPr>
          <a:xfrm>
            <a:off x="3454560" y="4140360"/>
            <a:ext cx="2616120" cy="2463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Диаграмма 23" descr=""/>
          <p:cNvPicPr/>
          <p:nvPr/>
        </p:nvPicPr>
        <p:blipFill>
          <a:blip r:embed="rId7"/>
          <a:stretch/>
        </p:blipFill>
        <p:spPr>
          <a:xfrm>
            <a:off x="5892840" y="4140360"/>
            <a:ext cx="2997000" cy="2463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838080" y="53341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ндивидуальн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выполнение дифференцированных заданий по пройденному материалу и творческие раб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76212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1066680" y="1522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Ы ВЗАИМОДЕЙСТВИЯ УЧАСТНИК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685800" y="1068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«Учитель - учени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для постановки пробл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3"/>
          <p:cNvSpPr/>
          <p:nvPr/>
        </p:nvSpPr>
        <p:spPr>
          <a:xfrm>
            <a:off x="990720" y="18288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бота в паре – «ученик-учени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самоконтроль и самооце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4"/>
          <p:cNvSpPr/>
          <p:nvPr/>
        </p:nvSpPr>
        <p:spPr>
          <a:xfrm>
            <a:off x="914400" y="2590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Группов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процесс поиска способа решения учебной зада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762120" y="3356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Межгруппов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(при общении, самостоятельный поиск, решение творческих задач, обобщение полученных результа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066680" y="4491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«Ученик - родител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обсуждение той или иной задачи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ОСТИЖЕНИЯ УЧАЩИХС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685800" y="1066680"/>
            <a:ext cx="73152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533520" y="685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838080"/>
          <a:ext cx="7315200" cy="3232440"/>
        </p:xfrm>
        <a:graphic>
          <a:graphicData uri="http://schemas.openxmlformats.org/drawingml/2006/table">
            <a:tbl>
              <a:tblPr/>
              <a:tblGrid>
                <a:gridCol w="1009800"/>
                <a:gridCol w="1011240"/>
                <a:gridCol w="1469880"/>
                <a:gridCol w="1471680"/>
                <a:gridCol w="1176120"/>
                <a:gridCol w="1176480"/>
              </a:tblGrid>
              <a:tr h="75420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час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весова Вика Боброва Настя Омелько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                     «Мозаичное повествование жизни и творчества Н.Г.Никоно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«Письмо Президент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Основная миссия учителя-это помогать человеку стать человеком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533520" y="2286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62120" y="13716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ьные и  личностные 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фессионализм, самосовершенствование, любовь к делу и детям – основа успеха педагогиче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ОСТИЖЕНИЯ УЧАЩИХС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685800" y="1066680"/>
            <a:ext cx="73152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533520" y="685800"/>
            <a:ext cx="8229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1 год-Урванцева Настя-участие в районном конкурсе «Письмо Президент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2-2013- Фомина Лена- 2 место в школьном конкурсе. Реферат «Великая Отечественная война в русской литературе 20 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2-2013- Радионов Дима- особая благодарность за участие в школьном конкурсе сообщений. Сообщение «Имя. Имечко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3- Исламова Регина - особая благодарность за участие в школьном конкурсе сообщений. Сообщение «Поэт и сказочник С.Г.Коз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3 -Дернова Олеся- призёр областного тура всероссийского конкурса «Кодекс семейных ценностей. Связующая нить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4-Урванцева Настя-2 место в школьном конкурсе. Реферат «В.В.Маяковский. Личность и судьб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3-Малешко Даша-2 место в школьном конкурсе сообщений. Сообщение «Удивительная фраз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4-Ушакова Настя-3 место в школьном конкурсе сообщений. Сообщение «Диалектные сло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14-2015-Фомина Лена-Грамота за участие в районном конкурсе. Эссе «Моя будущая профессия: от мечты к действ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76212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838080" y="304920"/>
            <a:ext cx="7620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Организация воспита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838080" y="1252440"/>
            <a:ext cx="7162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ной деятельности классного коллекти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ирование классного коллектива как воспитывающей среды, обеспечивающей развитие каждого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еспечение благоприятного психологического климата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здавать в классе ситуацию успе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особствовать сплочению классного коллектива, формированию доброжелательного отношения между однокласс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здавать условия для сохранения и укрепления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вать классное само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СНОВНЫЕ НАПРАВЛЕНИЯ ПРОФЕССИОНАЛЬНОЙ ДЕЯТЕЛЬНОСТИ </a:t>
            </a: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ного руководител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762120" y="1600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83808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0"/>
          <p:cNvSpPr/>
          <p:nvPr/>
        </p:nvSpPr>
        <p:spPr>
          <a:xfrm flipV="1">
            <a:off x="685800" y="1446840"/>
            <a:ext cx="731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27"/>
          <p:cNvSpPr/>
          <p:nvPr/>
        </p:nvSpPr>
        <p:spPr>
          <a:xfrm>
            <a:off x="609480" y="2209680"/>
            <a:ext cx="3581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29"/>
          <p:cNvSpPr/>
          <p:nvPr/>
        </p:nvSpPr>
        <p:spPr>
          <a:xfrm>
            <a:off x="4800600" y="2209680"/>
            <a:ext cx="380988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нтелл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30"/>
          <p:cNvSpPr/>
          <p:nvPr/>
        </p:nvSpPr>
        <p:spPr>
          <a:xfrm>
            <a:off x="609480" y="3581280"/>
            <a:ext cx="3581640" cy="1143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1"/>
          <p:cNvSpPr/>
          <p:nvPr/>
        </p:nvSpPr>
        <p:spPr>
          <a:xfrm>
            <a:off x="4876920" y="358128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2"/>
          <p:cNvSpPr/>
          <p:nvPr/>
        </p:nvSpPr>
        <p:spPr>
          <a:xfrm>
            <a:off x="1447920" y="5181480"/>
            <a:ext cx="2743200" cy="1231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гражд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3"/>
          <p:cNvSpPr/>
          <p:nvPr/>
        </p:nvSpPr>
        <p:spPr>
          <a:xfrm>
            <a:off x="4876920" y="5181480"/>
            <a:ext cx="3047760" cy="1231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ОСТИЖЕНИЯ УЧАЩИХСЯ</a:t>
            </a:r>
            <a:br>
              <a:rPr sz="2400"/>
            </a:br>
            <a:r>
              <a:rPr b="0" lang="ru-RU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СОЦИАЛЬ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83808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0"/>
          <p:cNvSpPr/>
          <p:nvPr/>
        </p:nvSpPr>
        <p:spPr>
          <a:xfrm flipV="1">
            <a:off x="685800" y="1446840"/>
            <a:ext cx="731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4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8"/>
          <p:cNvSpPr/>
          <p:nvPr/>
        </p:nvSpPr>
        <p:spPr>
          <a:xfrm>
            <a:off x="60948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Воспитание гражданственности, патриотизма, уважения к правам, свободам и обязанностям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Участие 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общешкольных мероприят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оциальных ак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участие в научно – практических  конферен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4" descr="F:\НАДО\Изображение 463.jpg"/>
          <p:cNvPicPr/>
          <p:nvPr/>
        </p:nvPicPr>
        <p:blipFill>
          <a:blip r:embed="rId2"/>
          <a:stretch/>
        </p:blipFill>
        <p:spPr>
          <a:xfrm>
            <a:off x="609480" y="30481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http://uld11.mycdn.me/image?t=0&amp;bid=470889820327&amp;id=470889820327&amp;plc=WEB&amp;tkn=kL5i_MF5Hv9op8RXN9Z2UxmpwOk"/>
          <p:cNvPicPr/>
          <p:nvPr/>
        </p:nvPicPr>
        <p:blipFill>
          <a:blip r:embed="rId3"/>
          <a:stretch/>
        </p:blipFill>
        <p:spPr>
          <a:xfrm>
            <a:off x="6781680" y="3048120"/>
            <a:ext cx="2362320" cy="2435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F:\фото 7б\WP_20150225_032.jpg"/>
          <p:cNvPicPr/>
          <p:nvPr/>
        </p:nvPicPr>
        <p:blipFill>
          <a:blip r:embed="rId4"/>
          <a:stretch/>
        </p:blipFill>
        <p:spPr>
          <a:xfrm>
            <a:off x="3276720" y="304812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ОСТИЖЕНИЯ УЧАЩИХСЯ</a:t>
            </a:r>
            <a:br>
              <a:rPr sz="2400"/>
            </a:br>
            <a:r>
              <a:rPr b="0" lang="ru-RU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СОЦИАЛЬ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83808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0"/>
          <p:cNvSpPr/>
          <p:nvPr/>
        </p:nvSpPr>
        <p:spPr>
          <a:xfrm flipV="1">
            <a:off x="685800" y="1446840"/>
            <a:ext cx="731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4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8"/>
          <p:cNvSpPr/>
          <p:nvPr/>
        </p:nvSpPr>
        <p:spPr>
          <a:xfrm>
            <a:off x="609480" y="9907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Воспитание нравственных чувств и этического сознания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классного коллектива.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работка и проведение классных часов, направленных на формирование здоровой нравственной позиции учащихся, проведение внеклассных мероприятий, организация поез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4" descr="F:\6б класс Ёлка 28.12.12г\Изображение 051.jpg"/>
          <p:cNvPicPr/>
          <p:nvPr/>
        </p:nvPicPr>
        <p:blipFill>
          <a:blip r:embed="rId2"/>
          <a:stretch/>
        </p:blipFill>
        <p:spPr>
          <a:xfrm>
            <a:off x="457200" y="2438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6б класс Ёлка 28.12.12г\Изображение 079.jpg"/>
          <p:cNvPicPr/>
          <p:nvPr/>
        </p:nvPicPr>
        <p:blipFill>
          <a:blip r:embed="rId3"/>
          <a:stretch/>
        </p:blipFill>
        <p:spPr>
          <a:xfrm>
            <a:off x="3276720" y="25909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F:\НАДО\Изображение 475.jpg"/>
          <p:cNvPicPr/>
          <p:nvPr/>
        </p:nvPicPr>
        <p:blipFill>
          <a:blip r:embed="rId4"/>
          <a:stretch/>
        </p:blipFill>
        <p:spPr>
          <a:xfrm>
            <a:off x="6172200" y="2362320"/>
            <a:ext cx="2666880" cy="1904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F:\фото 7б\DSC_0051.jpg"/>
          <p:cNvPicPr/>
          <p:nvPr/>
        </p:nvPicPr>
        <p:blipFill>
          <a:blip r:embed="rId5"/>
          <a:stretch/>
        </p:blipFill>
        <p:spPr>
          <a:xfrm>
            <a:off x="1295280" y="4419720"/>
            <a:ext cx="22100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ФОРМИРОВАНИЕ ЦЕННОСТНОГО ОТНОШЕНИЯ К ЗДОРОВЬЮ И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ЗДОРОВОМУ ОБРАЗУ ЖИЗН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83808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0"/>
          <p:cNvSpPr/>
          <p:nvPr/>
        </p:nvSpPr>
        <p:spPr>
          <a:xfrm flipV="1">
            <a:off x="685800" y="1446840"/>
            <a:ext cx="731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4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8"/>
          <p:cNvSpPr/>
          <p:nvPr/>
        </p:nvSpPr>
        <p:spPr>
          <a:xfrm>
            <a:off x="609480" y="1219320"/>
            <a:ext cx="792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6"/>
          <p:cNvSpPr/>
          <p:nvPr/>
        </p:nvSpPr>
        <p:spPr>
          <a:xfrm>
            <a:off x="609480" y="1536840"/>
            <a:ext cx="76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Формирование у учащихся позитивного и деятельного отношения к проблеме сохранения и защиты своего здоровья, формирование экологической культуры. Проведение классных часов о здоровом образе жизни, участие в неделе и днях здоровья, спортивных мероприятиях и праздниках, экологических слё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67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АВЛЕНИЕ ДЕЯТЕЛЬНОСТИ  НА СЛЕДУЮЩИЙ МЕЖАТТЕСТАЦИОННЫЙ ПЕРИ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83808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0"/>
          <p:cNvSpPr/>
          <p:nvPr/>
        </p:nvSpPr>
        <p:spPr>
          <a:xfrm flipV="1">
            <a:off x="685800" y="1446840"/>
            <a:ext cx="731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4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8"/>
          <p:cNvSpPr/>
          <p:nvPr/>
        </p:nvSpPr>
        <p:spPr>
          <a:xfrm>
            <a:off x="609480" y="1219320"/>
            <a:ext cx="792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1143000" y="1315440"/>
            <a:ext cx="73915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педагогической деятельности - продолжить работу над формированием  универсальных учебных действий у учащихся в условиях реализации Федерального государственного образовательного стандарта основ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внедрить ФГОС ООО в образовательный процес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высить качество проведения учебных занятий на основе внедрения новых педагогических технолог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вышать уровень познавательной  активности учащихся через внекласс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вершенствовать информационные умения и навыки через само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83808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0"/>
          <p:cNvSpPr/>
          <p:nvPr/>
        </p:nvSpPr>
        <p:spPr>
          <a:xfrm flipV="1">
            <a:off x="685800" y="1446840"/>
            <a:ext cx="731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4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609480" y="1219320"/>
            <a:ext cx="792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914400" y="236484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1219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9"/>
          <p:cNvSpPr/>
          <p:nvPr/>
        </p:nvSpPr>
        <p:spPr>
          <a:xfrm>
            <a:off x="609480" y="10666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1219320" y="762120"/>
            <a:ext cx="70866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на федеральном уровн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федеральный закон от 29.12.2012г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Об образовании в Российской Федерации»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«Федеральный  государственный образовательный стандарт основного общего образования»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- «Фундаментальное ядро содержания общего образования»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«Концепция духовно – нравственного развития и воспитания личности гражданина России»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«Конвенция о правах ребёнка»</a:t>
            </a:r>
            <a:br>
              <a:rPr sz="2000"/>
            </a:b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на региональном уровн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закон «Об образовании в Свердловской области» от 15.07.2013г.</a:t>
            </a:r>
            <a:br>
              <a:rPr sz="2000"/>
            </a:b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на уровне образовательной организации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Устав МАОУ «Студенческая СОШ №12»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 основная образовательная программа школы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- учебный план МАОУ «Студенческая СОШ №12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Ь ПЕДАГОГИ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МЕЖАТТЕСТАЦИОННЫЙ ПЕРИОД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ние условий  для формирования  определенной суммы знаний, формирование стремления учиться, развиваться, воспитывать интерес к предмет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762120" y="1676520"/>
            <a:ext cx="754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ДАЧ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914400" y="250776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Развивать и укреплять интерес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Совершенствовать новые формы организации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 Использовать   современные педагогические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ЫШЕНИЕ УРОВНЯ ПРОФЕССИОНАЛЬНОЙ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838080" y="914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85800" y="729720"/>
            <a:ext cx="769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2012 год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урсы в г. Екатеринбурге. «Институт развития  образования» по  образовательной программе «Методические вопросы подготовки обучающихся к ЕГЭ по русскому язы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2013 год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рсы в г. Екатеринбурге, «Институт развития  образования» по  образовательной программе «Федеральный государственный образовательный стандарт общего образования: идеология, содержание, технологии введения». Вариативный модуль для учителей русского языка и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2015 год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тификат участника научно-практической конференции «Актуальные вопросы преподавания русского языка и литературы», посвящённой открытию Года литературы 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Результаты деятельности в профессиональном сообщ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9"/>
          <p:cNvSpPr/>
          <p:nvPr/>
        </p:nvSpPr>
        <p:spPr>
          <a:xfrm>
            <a:off x="685800" y="1066680"/>
            <a:ext cx="7772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09480" y="1102320"/>
            <a:ext cx="739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ла участие в школьном конкурсе «Учитель года» (конспект) – прошла во 2-ой и 3-ий т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«Неделе литературы» провела литературные конкурсы «Знатоки  сказок» в 3 и 5-6 класс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ла участие в районном конкурсе  «Профессионал» (конспект урока по русскому языку.10 класс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школьном конкурсе проектов (защита проекта по литератур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школьном конкурсе « Учитель года» (Рабочая программа по русскому языку.5 класс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ерт по проверке ГИА-9- русский язык - в 2013, 2014 году;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ерт по проверке ЕГЭ – русский язык – в 2013, 2014 году; 2015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>
            <a:off x="533520" y="914400"/>
            <a:ext cx="83055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Результаты деятельности в профессиональном сообщ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914400" y="914400"/>
            <a:ext cx="76960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5800" y="114300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школьных конкурсах сообщений, рефератов, мультимедийных презент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открытых уро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Действительные и страдательные причастия» – 7 кла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Правописание приставок в рамках подготовки к ЕГЭ» – 10 кла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Деепричастие как часть речи в рамках подготовки к ЕГЭ» – 11 кла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ный час «М.Ю.Лермонтов. Личность и судьба» - 7 «Б»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ный час «Добру открываются сердца» - 7 «Б»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методической неделе (проведение мероприятия «Калейдоскоп методических находок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6"/>
          <p:cNvSpPr txBox="1"/>
          <p:nvPr/>
        </p:nvSpPr>
        <p:spPr>
          <a:xfrm>
            <a:off x="609480" y="9907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АСТИЕ В ПЕДАГОГИЧЕСКИХ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609480" y="914400"/>
            <a:ext cx="78487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85800" y="841320"/>
            <a:ext cx="7391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года – победа в номин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ое мастерство» - школьный конкурс 2013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Учитель года – школьный конкурс (рабочая программа – 5 класс.);201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йонный конкурс «Профессионал» (конспект урока по русскому языку в 10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эссе «Я – учитель – профессион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6"/>
          <p:cNvSpPr txBox="1"/>
          <p:nvPr/>
        </p:nvSpPr>
        <p:spPr>
          <a:xfrm>
            <a:off x="609480" y="0"/>
            <a:ext cx="830592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j-lt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523880" y="26668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838080" y="53341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762120" y="1066680"/>
            <a:ext cx="754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609480" y="114300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685800" y="304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Свидетельства общественного признания профессиональных усп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457200" y="144792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рамота правительства Свердловской области Южного управленческого округа за многолетний добросовестный труд, личный вклад в развитие системы образования района; 2013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рамота Белоярского ГО за успехи в организации и развитии образовательного и воспитательного процессов, добросовестное отношение к работе; 2012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рамота за победу в номинации «Педагогическое мастерство» в школьном конкурсе «Учитель года 2013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ность Белоярского ГО за участие в муниципальном конкурсе «Профессиона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01T17:14:02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