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F21-E76E-4526-B841-DC312474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C98-82A3-42E6-9CB4-016F25FE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CCC-5AE3-41F8-B554-D0D54FB1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AF2-4282-4937-A3FE-E44DEAD4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501-189D-4EA0-9F9D-C5B47012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E19D-1367-4190-833F-C695E51C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FE75-F8A2-48F3-9C63-1051D27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BF0C-11BA-4B6C-BEFE-E95DF1AC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3B63-172D-453A-B603-25A089E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C010-8A30-4508-8154-EC9B0470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4A54-CF41-41F0-BBF3-19388A2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184-7A0F-4EB4-BAA3-F2E3224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9B3-FFF0-45FE-97E6-C2FFB94F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0EF0-50F0-4BEE-AC56-7F12478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FF1E-6BE2-440A-96BD-5FF07264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B48F-55A0-4640-87FB-6B1435B7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2CFF-CC1A-42FC-AC2F-6458767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9BB1-4F34-4609-90C1-672F7AF4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7716-B0ED-4E85-8774-CBCE3C9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B3C3-2F28-49E2-9856-55B3348D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DC32-95DE-4835-8EE9-0EBEC0A0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AF69-C85F-487A-9D6F-B3B6C884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0BF-954F-4326-A582-2363B85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C83A-A72D-447C-938D-458D4108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6E03-32B0-4EB7-9635-E4A0B6FD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BEEE-202B-426A-961F-DC3206F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D717-086B-4E7D-9378-5D0C768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A813-5899-4BA6-9509-18DBDEB5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CC108-DF65-4B91-9FEF-E789F1EB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7EB4-3516-4AA2-98AF-BC6B184B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45C5-E086-4DCC-830C-6F8BB913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C469-C520-4609-AF8C-E8DC8A59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66AA-5FCA-4A90-AFDE-1E6206A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0A8-2BFD-4251-9F5E-1A8C67E1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3D4A-7FCC-45D8-AEC9-4863CE58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4A53-52DF-4E09-A44A-C7CC244D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A982-9F59-44C5-B8FD-41A5CD06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89CE-6729-48B2-9902-45D042EB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1E019-C045-4A3B-88BF-F03653AD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7C28-5994-4BBD-B438-769C81B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1ADA-C9D3-459C-AB31-1832F302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BB50-275F-44D0-ABD4-FEAABB6A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B19F2-E3FC-4DD6-9C05-B0C156B4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5C4-9C0B-4458-85D3-CF71D835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8AE-6E07-404D-A220-11F2FB6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4CB-E2B5-4F8D-B800-5289B9E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B37-BABD-432B-9D99-E7E2CD02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2CD-DF01-47C0-B93D-8ABCD643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5842080" y="-648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56080" y="635652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566360" y="6356520"/>
            <a:ext cx="101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289E-04BE-48FE-B62C-3C1ACA5F7F8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5842080" y="-648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56080" y="635652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566360" y="6356520"/>
            <a:ext cx="101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C161-4F70-40BB-8ECA-7DA5A7F522D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5842080" y="-648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556080" y="635652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0566360" y="6356520"/>
            <a:ext cx="101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06A8-2E12-4980-9775-EF250D7C24C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4220640" y="1107720"/>
            <a:ext cx="7010640" cy="4114800"/>
          </a:xfrm>
          <a:custGeom>
            <a:avLst/>
            <a:gdLst/>
            <a:ahLst/>
            <a:rect l="l" t="t" r="r" b="b"/>
            <a:pathLst>
              <a:path w="7010400" h="4114800">
                <a:moveTo>
                  <a:pt x="0" y="0"/>
                </a:moveTo>
                <a:lnTo>
                  <a:pt x="6860374" y="0"/>
                </a:lnTo>
                <a:lnTo>
                  <a:pt x="7010400" y="150026"/>
                </a:lnTo>
                <a:lnTo>
                  <a:pt x="70104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10672920" y="5358240"/>
            <a:ext cx="2062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12240" y="581544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5842080" y="621900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556080" y="635652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0769400" y="6356520"/>
            <a:ext cx="8125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A17-4475-4315-99EB-43E9FF0EB35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84160" y="311040"/>
            <a:ext cx="9144000" cy="3133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4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полнила 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обылева Нина Андре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98280" y="3916440"/>
            <a:ext cx="50310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2 этап. Выполнение проекта</a:t>
            </a:r>
            <a:br>
              <a:rPr sz="48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подвижных, дидактических, сюжетно-ролев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ение художественной литературы детя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заучивание стихов, загадывание загадок по теме) 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атривание картин, рисование рисунков, выпуски газ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3 этап. Результат</a:t>
            </a:r>
            <a:br>
              <a:rPr sz="48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тавка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«Моя семья», «Подарок маме, бабушк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пка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«Герб семь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82640" y="407880"/>
            <a:ext cx="1097280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я проекта:</a:t>
            </a:r>
            <a:br>
              <a:rPr sz="4400"/>
            </a:br>
            <a:br>
              <a:rPr sz="4800"/>
            </a:br>
            <a:br>
              <a:rPr sz="48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44560" y="1223640"/>
            <a:ext cx="10972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еда «Что такое семья? »(расширение представл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семейных ценностях совершенствование диалогичес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и) 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C:\Users\Нина\Desktop\B0FmyUozB3o.jpg"/>
          <p:cNvPicPr/>
          <p:nvPr/>
        </p:nvPicPr>
        <p:blipFill>
          <a:blip r:embed="rId1"/>
          <a:stretch/>
        </p:blipFill>
        <p:spPr>
          <a:xfrm>
            <a:off x="7808760" y="2030400"/>
            <a:ext cx="3435480" cy="4579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:\Users\Нина\Desktop\lHxyqDQW6KI.jpg"/>
          <p:cNvPicPr/>
          <p:nvPr/>
        </p:nvPicPr>
        <p:blipFill>
          <a:blip r:embed="rId2"/>
          <a:stretch/>
        </p:blipFill>
        <p:spPr>
          <a:xfrm>
            <a:off x="2436840" y="2030400"/>
            <a:ext cx="34704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6200" y="407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есная игра «Моя семья» (активизировать словарны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пас на основе углубления знаний о семье) ;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7" descr="C:\Users\Нина\Desktop\3cbWURA1rlU.jpg"/>
          <p:cNvPicPr/>
          <p:nvPr/>
        </p:nvPicPr>
        <p:blipFill>
          <a:blip r:embed="rId1"/>
          <a:stretch/>
        </p:blipFill>
        <p:spPr>
          <a:xfrm>
            <a:off x="2841480" y="1581120"/>
            <a:ext cx="6573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гра на мимику «Хорошо-плохо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C:\Users\Нина\Desktop\OxY1Z-Tt5tw.jpg"/>
          <p:cNvPicPr/>
          <p:nvPr/>
        </p:nvPicPr>
        <p:blipFill>
          <a:blip r:embed="rId1"/>
          <a:stretch/>
        </p:blipFill>
        <p:spPr>
          <a:xfrm>
            <a:off x="0" y="2058840"/>
            <a:ext cx="5853240" cy="4389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Нина\Desktop\FVxKRTKHNAg.jpg"/>
          <p:cNvPicPr/>
          <p:nvPr/>
        </p:nvPicPr>
        <p:blipFill>
          <a:blip r:embed="rId2"/>
          <a:stretch/>
        </p:blipFill>
        <p:spPr>
          <a:xfrm>
            <a:off x="5951520" y="2097000"/>
            <a:ext cx="5853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Рисунки «Моя семья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Users\Нина\Desktop\FO4WvIjfF9w.jpg"/>
          <p:cNvPicPr/>
          <p:nvPr/>
        </p:nvPicPr>
        <p:blipFill>
          <a:blip r:embed="rId1"/>
          <a:stretch/>
        </p:blipFill>
        <p:spPr>
          <a:xfrm>
            <a:off x="2755800" y="1681200"/>
            <a:ext cx="6462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704880"/>
            <a:ext cx="10972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исунки «Подарок маме, бабушке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4" descr="C:\Users\Нина\Desktop\imXd-DVkPY4.jpg"/>
          <p:cNvPicPr/>
          <p:nvPr/>
        </p:nvPicPr>
        <p:blipFill>
          <a:blip r:embed="rId1"/>
          <a:stretch/>
        </p:blipFill>
        <p:spPr>
          <a:xfrm>
            <a:off x="2570040" y="1335240"/>
            <a:ext cx="684540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2217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«Герб семь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Users\Нина\Desktop\dAK2edTo97k.jpg"/>
          <p:cNvPicPr/>
          <p:nvPr/>
        </p:nvPicPr>
        <p:blipFill>
          <a:blip r:embed="rId1"/>
          <a:stretch/>
        </p:blipFill>
        <p:spPr>
          <a:xfrm>
            <a:off x="3236760" y="1508040"/>
            <a:ext cx="4907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5040" y="36698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Вид проекта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вательно-творческий.</a:t>
            </a:r>
            <a:br>
              <a:rPr sz="3600"/>
            </a:br>
            <a:r>
              <a:rPr b="1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Продолжительность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ткосрочн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1 неделя)</a:t>
            </a:r>
            <a:br>
              <a:rPr sz="4500"/>
            </a:br>
            <a:r>
              <a:rPr b="1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ти (4-5 лет), воспитатель группы, родители.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Цел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рмирование понятия 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«семья»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и повышение роли семейных ценностей в становлении личности ребен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Задачи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ширить сведения о семь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знать имена, отчества родителей, профессию, мест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ы членов семьи)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очь осознать свой статус в семье, оценить значим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ьи в своей жизн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у детей заботливое отношение к близки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людям, желание помочь 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704880"/>
            <a:ext cx="10972800" cy="16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ети не имеют достаточный объем знаний о членах своей 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мь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о значении семь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жизни каждого челове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8080" y="1690560"/>
            <a:ext cx="10515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ым фактором личностного развития ребёнка явля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ие его потребности в положительн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эмоциональных контактах с близкими людьми. В перву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редь – с родителями. «Семья – это цветок, котор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о холить, лелеять, любить. Основа хорошего, ярко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ства, обучение житейским мудростям. Основанным 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житейских заповедях». Именно семья является хранител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диций, обеспечивает преемственность поколени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яет и развивает лучш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а люд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5040" y="4568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2440" y="394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агаемый результат</a:t>
            </a:r>
            <a:br>
              <a:rPr sz="48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480" y="1445760"/>
            <a:ext cx="109728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От дете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Дети знают членов своей семьи и гордятся и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Знают семейные традиции и праздник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Проявляют отзывчивость, любовь, заботу, внимание к семье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От родителе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Повышение педагогической культуры и знаний родител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Установление доверительных и партнерских отношений семьи и детского сада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Принятие родителями 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стин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 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«Права и обязанности воспитания детей принадлежит самим родителям»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От педагог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Повышение профессиональной компетенции педагог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Приобретение практического опыта в выборе адекватных методов и форм в работе с каждой семьей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7902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 проектной деятельности</a:t>
            </a:r>
            <a:br>
              <a:rPr sz="48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39800" y="2373480"/>
            <a:ext cx="10515600" cy="38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ление совместно с родителями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«Герб семьи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я выставки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«Моя семья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«Подарок маме, бабушк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я проек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1 этап. Подготовительный</a:t>
            </a:r>
            <a:br>
              <a:rPr sz="40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аспорта проек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бор детской художественной литературы для чт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я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 методическим материалом, литературой п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ой тем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8:45:04Z</dcterms:created>
  <dc:creator>Ольга Юрова</dc:creator>
  <dc:description/>
  <dc:language>en-US</dc:language>
  <cp:lastModifiedBy>Нина</cp:lastModifiedBy>
  <dcterms:modified xsi:type="dcterms:W3CDTF">2019-10-20T13:07:14Z</dcterms:modified>
  <cp:revision>15</cp:revision>
  <dc:subject/>
  <dc:title>Проект для средней группы на тему «Моя семья»</dc:title>
</cp:coreProperties>
</file>