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B5E-4A4D-466C-A7F6-D560437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E14-0EB7-4ADA-9260-C72E5F0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FD8-FBDC-48EE-95AC-0B1FCC8C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71A-2F8B-48D9-8BC0-92D21126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837-BE5B-4542-843D-51BF8E5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52F-9D6A-4DFD-AF0F-0F3FBCF8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C46-2239-4B13-A47D-02F83417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412-2875-4478-93A9-DA759E5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FDB-1B18-40AB-BFEF-540EBD61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9CB-348C-4FFD-9D3F-B15F5DC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048-BBE6-48B4-B657-595934B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6CF-FD53-43B9-8F67-99EB17F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23E-D14F-47EC-A08C-5876582CD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Проект </a:t>
            </a:r>
            <a:br>
              <a:rPr sz="4400"/>
            </a:b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деревянная игру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9900"/>
                </a:solidFill>
                <a:uFillTx/>
                <a:latin typeface="Arial"/>
              </a:rPr>
              <a:t>Шме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Выполнила : Зарубина Вал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Нам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понадобит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Инструкция по сбо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Салф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Сто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900"/>
                </a:solidFill>
                <a:latin typeface="Arial"/>
              </a:rPr>
              <a:t>150руб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инструкция по сборк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Разложите пластины перед собой так, как показано на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Выдавливайте детали постепенно по мере сбор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Сначала найдите две детали с цифрой 1, аккуратно выдавите их и соедин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Затем также соединяйте детали с цифрами 2,3 и так дал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Соединяйте детали в тех местах, где написана одна и та же цифра или буква (1-1,2-2,3-3,... или а-а, б-б, с-с,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При необходимости зачистите края деталей шкур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2656080" cy="425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6486480" y="1557360"/>
            <a:ext cx="2657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DSCN2897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SCN2901"/>
          <p:cNvPicPr/>
          <p:nvPr/>
        </p:nvPicPr>
        <p:blipFill>
          <a:blip r:embed="rId2"/>
          <a:stretch/>
        </p:blipFill>
        <p:spPr>
          <a:xfrm>
            <a:off x="4643280" y="0"/>
            <a:ext cx="4681800" cy="35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SCN2909"/>
          <p:cNvPicPr/>
          <p:nvPr/>
        </p:nvPicPr>
        <p:blipFill>
          <a:blip r:embed="rId3"/>
          <a:stretch/>
        </p:blipFill>
        <p:spPr>
          <a:xfrm>
            <a:off x="0" y="350028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SCN2900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DSCN2901"/>
          <p:cNvPicPr/>
          <p:nvPr/>
        </p:nvPicPr>
        <p:blipFill>
          <a:blip r:embed="rId1"/>
          <a:stretch/>
        </p:blipFill>
        <p:spPr>
          <a:xfrm>
            <a:off x="0" y="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9900"/>
                </a:solidFill>
                <a:uFillTx/>
                <a:latin typeface="Arial"/>
              </a:rPr>
              <a:t>Результат труд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DSCN2903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DSCN2904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38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DSCN2910"/>
          <p:cNvPicPr/>
          <p:nvPr/>
        </p:nvPicPr>
        <p:blipFill>
          <a:blip r:embed="rId3"/>
          <a:stretch/>
        </p:blipFill>
        <p:spPr>
          <a:xfrm>
            <a:off x="622764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RSCN2895"/>
          <p:cNvPicPr/>
          <p:nvPr/>
        </p:nvPicPr>
        <p:blipFill>
          <a:blip r:embed="rId4"/>
          <a:stretch/>
        </p:blipFill>
        <p:spPr>
          <a:xfrm>
            <a:off x="0" y="4797360"/>
            <a:ext cx="6227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3:16Z</dcterms:created>
  <dc:creator>user</dc:creator>
  <dc:description/>
  <dc:language>en-US</dc:language>
  <cp:lastModifiedBy>euroset1</cp:lastModifiedBy>
  <dcterms:modified xsi:type="dcterms:W3CDTF">2019-10-20T10:37:36Z</dcterms:modified>
  <cp:revision>8</cp:revision>
  <dc:subject/>
  <dc:title>Слайд 1</dc:title>
</cp:coreProperties>
</file>