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8AE-46B9-4DC9-899C-AC4DCC3F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2CF-DF10-4696-A4D6-F6F1DEBF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288-C47B-42FC-9DA8-A88956EB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1BC-BE05-4FD4-9146-E64D90BA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01D-6589-47A4-A485-E633C810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4671-798B-4B6E-B661-0EC8A93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08BB-5660-493A-ABF2-EF4CEA6E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4F36-4298-4B4D-A3FE-4998AEF2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6EE4-2EBF-4E37-8C39-756C4A07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757-9A5A-4803-B88F-B9AC488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B300-C4AC-4935-A173-3C76001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F76-D31B-481D-B1FF-5E40BF0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D098-8EEC-4AC3-8D95-0EF2A54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62CD-F8D0-48A8-BC40-CFD39E07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F0C-B579-418C-97CC-9C849FC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A3A4-0D3A-4CC0-84B1-4FD68EEF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A15-2B58-4BD9-9EAF-093E9897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9D68-F202-4A6A-833B-675BA543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B429-3843-4841-AAF2-4290C3E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087F-78F9-46CB-8539-E481D1A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04B6-71F7-4693-B83D-E9830CE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0202-47DE-450F-8B64-B3D5283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326-7A24-4773-88A4-14875241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24E1-2551-4170-83BA-A162831C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8965-8AD8-43AD-9B7F-651DF3B3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B11F-8930-4053-88E4-2027541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D6C6-6D8E-4A8A-8A8F-FE817D9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28A8-FC2F-4C98-8B4F-0F1BFE5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6510-C4D0-4E4A-BB67-26896F1D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6F59-DE6B-4EC6-9799-15D847FC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3232-176C-44D0-BC26-E4A76C57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B6D8-2A0F-428C-9605-9CEB7B31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62C0-E0C3-444E-AABA-8E9725B9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ACB-E8CA-4201-89F1-39C00916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22E2-0255-4C78-AC78-7912736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3B0E-12EC-4721-B0F7-21539373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FF56-AD6C-45AD-BC8F-971119A4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2632-EDBC-470A-94B8-D36F88F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2075-2764-4B63-ADEB-1C8C0BEC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D885-D191-437F-B3CA-867F24D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04BA-6409-40CD-A0CC-BB4D81C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BE4A-F097-422D-B2C4-81D00940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8A4F-EDC3-45ED-B4CD-0E30FA66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000-7608-4ADB-9B7E-B4E97EA0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2DD-D8F4-44B5-AFEC-023D1443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013-DC3C-4110-B12E-340DA9F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AFF-6311-4C61-825C-BE68FDF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30A-4D72-4DB3-839C-F309E25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D46-DC8B-4D96-9123-4FEB766EDA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6CC7-E236-47B1-AE08-4520085560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81F-1AD4-4D55-8CDF-4F9D0E0123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F83C-41CF-4E0C-AD35-CFCE7A0C8D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8642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Comic Sans MS"/>
              </a:rPr>
              <a:t>Лабораторная  работа №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896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Comic Sans MS"/>
              </a:rPr>
              <a:t>Тема:</a:t>
            </a:r>
            <a:r>
              <a:rPr b="1" lang="en-US" sz="3600" spc="-1" strike="noStrike">
                <a:solidFill>
                  <a:srgbClr val="000099"/>
                </a:solidFill>
                <a:latin typeface="Broadway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«Равнобедренный треугольник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Свойство углов равнобедренног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треугольника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45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35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765000"/>
            <a:ext cx="7848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  УРОК!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10120" y="375120"/>
            <a:ext cx="79167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роверить опытным путем, действительно ли углы при основании равнобедренного треугольника равн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Действительно ли высота, проведенная к основанию равнобедренного треугольника является биссектрисой и медиано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25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33240" y="363960"/>
            <a:ext cx="788292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Оборудование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Линейк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рандаш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ранспортир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етрад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чебни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35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25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3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1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Ход работы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  Постройте  два различных равнобедренных треугольника  АВС с основанием 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10160" y="530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4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6520" y="530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141720"/>
            <a:ext cx="3362400" cy="251928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429264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87640" y="4292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492280"/>
            <a:ext cx="2138400" cy="309744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22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0280" y="51084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29280" y="51800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6360" y="4005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235640" y="393372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1800" y="2852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7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25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75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75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75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75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25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75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25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75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25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75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77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i="1" lang="en-US" sz="3200" spc="-1" strike="noStrike">
                <a:solidFill>
                  <a:srgbClr val="000000"/>
                </a:solidFill>
                <a:latin typeface="Script MT Bold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олните измерения  углов при основании и заполните таблиц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4360" y="2997360"/>
          <a:ext cx="7846920" cy="2300040"/>
        </p:xfrm>
        <a:graphic>
          <a:graphicData uri="http://schemas.openxmlformats.org/drawingml/2006/table">
            <a:tbl>
              <a:tblPr/>
              <a:tblGrid>
                <a:gridCol w="1079280"/>
                <a:gridCol w="1727280"/>
                <a:gridCol w="1727280"/>
                <a:gridCol w="3313080"/>
              </a:tblGrid>
              <a:tr h="76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125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Постройте равнобедренный треугольник АВС и проведите высоту  ВД к основанию А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19780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344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852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2160" y="609300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3284640"/>
            <a:ext cx="3143160" cy="273672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2764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458136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03280" y="450864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4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4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4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9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4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9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1" i="1" lang="en-US" sz="3200" spc="-1" strike="noStrike">
                <a:solidFill>
                  <a:srgbClr val="000000"/>
                </a:solidFill>
                <a:latin typeface="Script MT Bold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олните измерения  и заполните таблиц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4000" y="3357720"/>
          <a:ext cx="8240400" cy="2087280"/>
        </p:xfrm>
        <a:graphic>
          <a:graphicData uri="http://schemas.openxmlformats.org/drawingml/2006/table">
            <a:tbl>
              <a:tblPr/>
              <a:tblGrid>
                <a:gridCol w="792000"/>
                <a:gridCol w="792000"/>
                <a:gridCol w="1656000"/>
                <a:gridCol w="1152360"/>
                <a:gridCol w="1224000"/>
                <a:gridCol w="2624040"/>
              </a:tblGrid>
              <a:tr h="104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 АД и С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 углы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Д  и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85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делайте вывод о величине углов при основании равнобедренного треугольни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ем является высота, проведенная к основанию 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6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Comic Sans MS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й треугольник называется равнобедренны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 называется биссектрисой, медианой и высотой треугольни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м свойством обладают медианы, высоты и биссектрисы треугольни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ойство углов при основании равнобедренного треугольни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ойство высоты, медианы и биссектрисы, проведенных к основанию равнобедренного треугольни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ответы вы можете найти  в Гл. 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2; п. 16-18 учеб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09:42Z</dcterms:created>
  <dc:creator>Imango</dc:creator>
  <dc:description/>
  <dc:language>en-US</dc:language>
  <cp:lastModifiedBy>www.PHILka.RU</cp:lastModifiedBy>
  <dcterms:modified xsi:type="dcterms:W3CDTF">2008-01-30T18:52:43Z</dcterms:modified>
  <cp:revision>17</cp:revision>
  <dc:subject/>
  <dc:title>Лабораторная работа №1</dc:title>
</cp:coreProperties>
</file>