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A1DAC-DAF2-44A4-A46D-5B01866077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CC835-CC83-4525-BFEB-7808166D00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D6B5E-A172-4BCC-8CF3-F087795F50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CC9-C50F-4B95-8112-BBBC5452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ABB-578C-4532-96A3-686E5676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246-DE69-462E-97D5-7106660C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B13-C0FF-4592-A954-1453A5E7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374-3640-4AE7-9B17-71AE5C0A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0B6E-43F2-4F70-AC42-2BB775C6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106E-1B4A-4D33-961F-145C2470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B8D-DDCC-4263-8221-F3AEB710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229F-B171-49FE-941A-3E28FC67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D6B6-1AC9-4343-B09A-926AE5CA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6E75-0886-4828-BF68-3EA4D054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E01-AA5D-4F00-8554-9360517A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1D1A-E1AC-4501-A3FF-A18CD45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C527-C2EE-465B-AE9B-494677C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4F0E-742B-4F03-AC11-176D347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F46E-1FCE-468C-85A1-3DA46C38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68AD-8359-456A-B21D-448BE1CD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DAE17-9A9A-4587-B448-B54B7352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0920-9A97-4065-8A77-1FD3A1A8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DBF4-BD95-40E8-880B-4336956D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7C5A-10DF-4108-9023-02C95174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27B4-78FF-4164-AF85-CB4FC2F1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F8B-A454-447B-B812-AE88092A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7E33-6CAF-46BB-AE6D-54C63599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AC46-70AC-417C-88F3-A339A62D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9ED9-E45B-480E-8795-95973239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CB43-8BA6-40C6-8A6B-FDDFF6EE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C4DC-2C71-4CF0-A3EE-C2CCB190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4600-BA04-41DE-B972-A7CD2416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E0FD-6B96-442B-8E11-10D5FC1C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74A6-6D09-44AA-9F95-72111AD9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70F24-1FB6-45F6-B8BF-4490E809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4167-7D8A-4E37-BC10-183E56FE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F22-57F1-4EAF-98F7-136D55F6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68C7-F395-4E78-A028-95824DEC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7793-83B1-4EDE-A4AA-04330704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B198-CA68-4742-8779-EF169729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9E35-3045-4888-B8F5-241BA1A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AFB8-A4BD-416C-84CB-6988F76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A7CF-8BA2-41CF-A579-662C0A6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FC10-9C54-42A0-8FAD-0353FD3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CA06-CCD6-48F4-9F56-ABC7DBFD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738B-5E8F-4B82-A138-71195572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10E-8714-44D7-BA1B-8488AEDC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00C-94CC-4690-ACE9-82856BAE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D99-4621-4F70-B2E4-E5AFF400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A0B-E129-4491-B03C-21473698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E62-4631-4C31-B242-C98DFA9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363EFB-CCC7-4C27-836D-D036FFC246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B5C5DF-3571-4F51-AE0E-481B3050E0B2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8574840" y="-16560"/>
            <a:ext cx="1281240" cy="22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512720" y="688824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91968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40556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540290-ABB2-46F7-BE62-32722B6A2BC6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8670960" y="26640"/>
            <a:ext cx="1284120" cy="2313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8633520" y="211680"/>
            <a:ext cx="1130400" cy="17319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9360" y="6107040"/>
            <a:ext cx="1965960" cy="1373040"/>
            <a:chOff x="9360" y="6107040"/>
            <a:chExt cx="1965960" cy="1373040"/>
          </a:xfrm>
        </p:grpSpPr>
        <p:sp>
          <p:nvSpPr>
            <p:cNvPr id="91" name="Freeform 11"/>
            <p:cNvSpPr/>
            <p:nvPr/>
          </p:nvSpPr>
          <p:spPr>
            <a:xfrm>
              <a:off x="42480" y="6132960"/>
              <a:ext cx="1905480" cy="11350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788840" y="6267960"/>
              <a:ext cx="124200" cy="2250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5280" y="6603480"/>
              <a:ext cx="1386000" cy="717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26080" y="6662880"/>
              <a:ext cx="918360" cy="654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849240" y="6180120"/>
              <a:ext cx="235800" cy="211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122120" y="7284240"/>
              <a:ext cx="132840" cy="195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82720" y="6311520"/>
              <a:ext cx="337680" cy="669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169640" y="6281640"/>
              <a:ext cx="636840" cy="304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607680" y="6462000"/>
              <a:ext cx="272880" cy="1173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9360" y="6107040"/>
              <a:ext cx="1965960" cy="1363680"/>
              <a:chOff x="9360" y="6107040"/>
              <a:chExt cx="1965960" cy="136368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873360" y="6232680"/>
                <a:ext cx="958320" cy="1238040"/>
                <a:chOff x="873360" y="6232680"/>
                <a:chExt cx="958320" cy="123804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873360" y="6276600"/>
                  <a:ext cx="274680" cy="151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113120" y="7238160"/>
                  <a:ext cx="200880" cy="232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756440" y="6232680"/>
                  <a:ext cx="75240" cy="204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33200" y="6530040"/>
                <a:ext cx="1040760" cy="43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55400" y="6799320"/>
                <a:ext cx="426600" cy="25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988560" y="6439320"/>
                <a:ext cx="187200" cy="41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9360" y="6107040"/>
                <a:ext cx="1965960" cy="1185480"/>
                <a:chOff x="9360" y="6107040"/>
                <a:chExt cx="1965960" cy="118548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170720" y="7083000"/>
                  <a:ext cx="131040" cy="151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9360" y="6522840"/>
                  <a:ext cx="1472760" cy="769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85760" y="6596640"/>
                  <a:ext cx="139680" cy="291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85880" y="6107040"/>
                  <a:ext cx="563040" cy="103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1011600" y="6386400"/>
                  <a:ext cx="167760" cy="441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74200" y="6351480"/>
                  <a:ext cx="340920" cy="236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151640" y="6190920"/>
                  <a:ext cx="823680" cy="370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254600" y="6309360"/>
                  <a:ext cx="428400" cy="150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9569520" y="2332080"/>
            <a:ext cx="425160" cy="4749480"/>
            <a:chOff x="9569520" y="2332080"/>
            <a:chExt cx="425160" cy="4749480"/>
          </a:xfrm>
        </p:grpSpPr>
        <p:sp>
          <p:nvSpPr>
            <p:cNvPr id="118" name="Freeform 38"/>
            <p:cNvSpPr/>
            <p:nvPr/>
          </p:nvSpPr>
          <p:spPr>
            <a:xfrm flipH="1">
              <a:off x="9569520" y="4584240"/>
              <a:ext cx="358560" cy="24973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9636120" y="2332080"/>
              <a:ext cx="358560" cy="28576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905960" y="-96120"/>
            <a:ext cx="2675160" cy="2476440"/>
            <a:chOff x="7905960" y="-96120"/>
            <a:chExt cx="2675160" cy="2476440"/>
          </a:xfrm>
        </p:grpSpPr>
        <p:grpSp>
          <p:nvGrpSpPr>
            <p:cNvPr id="121" name="Group 41"/>
            <p:cNvGrpSpPr/>
            <p:nvPr/>
          </p:nvGrpSpPr>
          <p:grpSpPr>
            <a:xfrm>
              <a:off x="7905960" y="-96120"/>
              <a:ext cx="2675160" cy="2476440"/>
              <a:chOff x="7905960" y="-96120"/>
              <a:chExt cx="2675160" cy="247644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9502200" y="1899000"/>
                <a:ext cx="108360" cy="50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905960" y="-96120"/>
                <a:ext cx="2675160" cy="2476440"/>
                <a:chOff x="7905960" y="-96120"/>
                <a:chExt cx="2675160" cy="247644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8690760" y="123840"/>
                  <a:ext cx="267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834760" y="579960"/>
                  <a:ext cx="470520" cy="76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8502120" y="317160"/>
                  <a:ext cx="883080" cy="157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8580600" y="-33480"/>
                  <a:ext cx="1325880" cy="235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9270720" y="1568160"/>
                  <a:ext cx="295200" cy="213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9192960" y="1409040"/>
                  <a:ext cx="316800" cy="252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8723160" y="367200"/>
                  <a:ext cx="316440" cy="257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8659800" y="247320"/>
                  <a:ext cx="312840" cy="24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8522280" y="147240"/>
              <a:ext cx="7380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320" y="14400"/>
            <a:ext cx="9807480" cy="747396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216000" y="258840"/>
            <a:ext cx="4174200" cy="1960200"/>
            <a:chOff x="216000" y="258840"/>
            <a:chExt cx="4174200" cy="1960200"/>
          </a:xfrm>
        </p:grpSpPr>
        <p:sp>
          <p:nvSpPr>
            <p:cNvPr id="171" name="Freeform 9"/>
            <p:cNvSpPr/>
            <p:nvPr/>
          </p:nvSpPr>
          <p:spPr>
            <a:xfrm>
              <a:off x="310680" y="309600"/>
              <a:ext cx="3936240" cy="17798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91240" y="456480"/>
              <a:ext cx="3925800" cy="1762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830160" y="601560"/>
              <a:ext cx="2603520" cy="1608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216000" y="258840"/>
              <a:ext cx="4174200" cy="1891800"/>
              <a:chOff x="216000" y="258840"/>
              <a:chExt cx="4174200" cy="189180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508560" y="1634400"/>
                <a:ext cx="370800" cy="37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216000" y="258840"/>
                <a:ext cx="4174200" cy="18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67720" y="276120"/>
                <a:ext cx="2949480" cy="107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716400" y="438840"/>
                <a:ext cx="397080" cy="71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481040" y="937800"/>
                <a:ext cx="1208520" cy="63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8596440" y="4761000"/>
            <a:ext cx="1079640" cy="1277280"/>
            <a:chOff x="8596440" y="4761000"/>
            <a:chExt cx="1079640" cy="127728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8591760" y="5137560"/>
              <a:ext cx="1100160" cy="5126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8564760" y="5113440"/>
              <a:ext cx="1096560" cy="5076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8749440" y="5096520"/>
              <a:ext cx="727920" cy="464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8596440" y="4761000"/>
              <a:ext cx="1079640" cy="1277280"/>
              <a:chOff x="8596440" y="4761000"/>
              <a:chExt cx="1079640" cy="127728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8727480" y="5581800"/>
                <a:ext cx="10332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8553240" y="5127120"/>
                <a:ext cx="1166040" cy="54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858520" y="5244120"/>
                <a:ext cx="82548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9386640" y="5028120"/>
                <a:ext cx="109800" cy="20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989200" y="5248800"/>
                <a:ext cx="337320" cy="18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93600" y="5572080"/>
            <a:ext cx="7504200" cy="80316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494240" y="2127240"/>
            <a:ext cx="979560" cy="4208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E0CA11-060C-414E-BFBB-E39F85A17DA6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WordArt 2" descr=""/>
          <p:cNvPicPr/>
          <p:nvPr/>
        </p:nvPicPr>
        <p:blipFill>
          <a:blip r:embed="rId2"/>
          <a:stretch/>
        </p:blipFill>
        <p:spPr>
          <a:xfrm>
            <a:off x="2298600" y="603360"/>
            <a:ext cx="5308560" cy="1566720"/>
          </a:xfrm>
          <a:prstGeom prst="rect">
            <a:avLst/>
          </a:prstGeom>
          <a:ln w="0">
            <a:noFill/>
          </a:ln>
        </p:spPr>
      </p:pic>
      <p:sp>
        <p:nvSpPr>
          <p:cNvPr id="241" name="WordArt 3"/>
          <p:cNvSpPr txBox="1"/>
          <p:nvPr/>
        </p:nvSpPr>
        <p:spPr>
          <a:xfrm>
            <a:off x="1655640" y="2411280"/>
            <a:ext cx="59454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оощрение и наказан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ей в семь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08000" y="6082920"/>
            <a:ext cx="532764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мсаранова Р.Ц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СОШ №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616720" y="1115640"/>
            <a:ext cx="4464000" cy="4894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ворите с ребенком, общайтесь с ним, ищите примеры  положительного подтверждения своих мысле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сните, почему его поступок заслуживает осуж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9" descr="243406734_1304899166"/>
          <p:cNvPicPr/>
          <p:nvPr/>
        </p:nvPicPr>
        <p:blipFill>
          <a:blip r:embed="rId2"/>
          <a:stretch/>
        </p:blipFill>
        <p:spPr>
          <a:xfrm>
            <a:off x="360360" y="1116000"/>
            <a:ext cx="5040360" cy="481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24000"/>
            <a:ext cx="9145440" cy="44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огда косвенное воздействие оказывает на ребенка более сильное влияние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ывает полезнее прочитать рассказ или сказку, в которых говорится о подобных ситуац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Рисунок6"/>
          <p:cNvPicPr/>
          <p:nvPr/>
        </p:nvPicPr>
        <p:blipFill>
          <a:blip r:embed="rId2"/>
          <a:stretch/>
        </p:blipFill>
        <p:spPr>
          <a:xfrm>
            <a:off x="2952720" y="4211640"/>
            <a:ext cx="4498920" cy="317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1640" y="303120"/>
            <a:ext cx="4608720" cy="6716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захваливайте ребенка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ощрять детей надо в меру, чтобы поощрение стало стимулом, а не навредило общему делу воспита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parents_children"/>
          <p:cNvPicPr/>
          <p:nvPr/>
        </p:nvPicPr>
        <p:blipFill>
          <a:blip r:embed="rId1"/>
          <a:stretch/>
        </p:blipFill>
        <p:spPr>
          <a:xfrm>
            <a:off x="4968720" y="1258920"/>
            <a:ext cx="4816800" cy="351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295280" y="426240"/>
            <a:ext cx="8066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анкетирова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87280" y="900000"/>
          <a:ext cx="9361440" cy="613260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  <a:gridCol w="2173320"/>
                <a:gridCol w="1935360"/>
                <a:gridCol w="1509480"/>
              </a:tblGrid>
              <a:tr h="1170000"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ня хвалят, есл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хваля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ю д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ие успехи в уч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 куш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960"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е дарят подарк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аря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овый го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р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 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омощь д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880"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е дарят деньг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аря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попрош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 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учебу и помощ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760"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е разрешают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улять, играть на ПК, ходить в гости, есл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 делаю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омогаю ма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 так, когда попрош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34"/>
          <p:cNvSpPr/>
          <p:nvPr/>
        </p:nvSpPr>
        <p:spPr>
          <a:xfrm>
            <a:off x="0" y="584208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280" y="539280"/>
            <a:ext cx="6264360" cy="585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Не спешите наказывать. Горячность- плохая помощница воспитател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е откладывайте наказание на слишком долгие сроки, иначе наказание превратится в месть. А месть не достойна человек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Есть дети, которых не возьмешь ни наказанием, ни добром, но великодушное отношение в конце- концов спасе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9532080" y="-1606680"/>
            <a:ext cx="2228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ая помощ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144"/>
          <p:cNvPicPr/>
          <p:nvPr/>
        </p:nvPicPr>
        <p:blipFill>
          <a:blip r:embed="rId1"/>
          <a:stretch/>
        </p:blipFill>
        <p:spPr>
          <a:xfrm>
            <a:off x="6408720" y="1979640"/>
            <a:ext cx="345600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41036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Ситуация 1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64000" y="755640"/>
            <a:ext cx="5113440" cy="489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ь вернулась с собрания, на котором говорили об отставании ее дочери по математике. И вместо того, чтобы дома постараться спокойно выяснить причину этого отставания, мать говорит дочери: «Да в кого же ты у нас такая тупая, только ты одна получила двойку за контрольную работу по математике» Права ли она? Как поступили бы 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7"/>
          <p:cNvSpPr txBox="1"/>
          <p:nvPr/>
        </p:nvSpPr>
        <p:spPr>
          <a:xfrm>
            <a:off x="6335640" y="5688000"/>
            <a:ext cx="15829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77" name="Picture 8" descr="1"/>
          <p:cNvPicPr/>
          <p:nvPr/>
        </p:nvPicPr>
        <p:blipFill>
          <a:blip r:embed="rId1"/>
          <a:stretch/>
        </p:blipFill>
        <p:spPr>
          <a:xfrm>
            <a:off x="216000" y="1403280"/>
            <a:ext cx="3174840" cy="469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51832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Ситуация 2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плохо ведет себя на улице и в гостях (то есть в те моменты, когда на нас устремлены взоры других людей). Мать кричит: «»Ах, ты… Да как ты смеешь! Да я тебе…» и дает подзатыльник ребенку. Права ли она? Как поступили бы 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4178160" y="4572000"/>
            <a:ext cx="15811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5040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Ситуация 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все успехи в учебе взрослые в знак благодарности делают подарки ребенку. Когда девочка заняла призовое  место в олимпиаде, в качестве поощрения бабушка купила ей в подарок книгу о Пушкине и конфеты. А Надя, развернув подарок, сделала гримасу и объявила во всеуслышание: «Книжки у нас есть, а конфеты такие дешевые не нужны!» И отверну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допущены ошибки в воспитании? Как поступили бы 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6"/>
          <p:cNvSpPr txBox="1"/>
          <p:nvPr/>
        </p:nvSpPr>
        <p:spPr>
          <a:xfrm>
            <a:off x="4103640" y="5294160"/>
            <a:ext cx="158292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2760"/>
            <a:ext cx="48229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Ситуация 4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0800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просит купить конструктор. А взрослые обещают: «Вот закончишь учебную четверть без троек, тогда и купим конструктор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допущены ошибки? Как поступили бы 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6"/>
          <p:cNvSpPr txBox="1"/>
          <p:nvPr/>
        </p:nvSpPr>
        <p:spPr>
          <a:xfrm>
            <a:off x="4178160" y="4356000"/>
            <a:ext cx="15811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Arial"/>
              </a:rPr>
              <a:t>Памятка для родителей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слушайтесь к своему ребенку. Вникните в его проблем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нимайте решение совместно с ребенком, давайте право принимать самостоятельные реше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едоставляйте возможность отдохнут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Давайте ребенку четкие и ясные указа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Ребенок нуждается в повторени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е предъявляйте непосильных требовани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31640" y="301320"/>
            <a:ext cx="7340760" cy="61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 Наказание- это причинение вреда причиняющему вред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хвала- педагогический домкрат»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.Кротов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Кто не возьмет лаской, не возьмет и строгостью»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родная муд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134"/>
          <p:cNvPicPr/>
          <p:nvPr/>
        </p:nvPicPr>
        <p:blipFill>
          <a:blip r:embed="rId1"/>
          <a:stretch/>
        </p:blipFill>
        <p:spPr>
          <a:xfrm>
            <a:off x="-289080" y="4067280"/>
            <a:ext cx="3435480" cy="34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04720" y="755640"/>
            <a:ext cx="9072720" cy="5997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Не действуйте сгоряч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Чаще одобрительно улыбайтесь ребенку. Поощряйте жест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Словесно выражайте свое одобрение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Учите быть благодарным за любые знаки вним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Не анализируйте стоимость подарков, их ценность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Учите детей понимать и ценить поощрения родителей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04720" y="1115640"/>
            <a:ext cx="9072720" cy="3311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ше внимание, любовь, ласка, дружеское участие и расположение могут сделать для вашего ребенка больше, чем самый дорогой пода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1216732074"/>
          <p:cNvPicPr/>
          <p:nvPr/>
        </p:nvPicPr>
        <p:blipFill>
          <a:blip r:embed="rId2"/>
          <a:stretch/>
        </p:blipFill>
        <p:spPr>
          <a:xfrm>
            <a:off x="3024360" y="3995640"/>
            <a:ext cx="4319280" cy="324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5"/>
          <p:cNvSpPr txBox="1"/>
          <p:nvPr/>
        </p:nvSpPr>
        <p:spPr>
          <a:xfrm>
            <a:off x="1152360" y="1619280"/>
            <a:ext cx="813924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3" name="Picture 6" descr="2787"/>
          <p:cNvPicPr/>
          <p:nvPr/>
        </p:nvPicPr>
        <p:blipFill>
          <a:blip r:embed="rId1"/>
          <a:stretch/>
        </p:blipFill>
        <p:spPr>
          <a:xfrm>
            <a:off x="216000" y="250920"/>
            <a:ext cx="2808360" cy="2035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Nutzungstipps_Familie"/>
          <p:cNvPicPr/>
          <p:nvPr/>
        </p:nvPicPr>
        <p:blipFill>
          <a:blip r:embed="rId2"/>
          <a:stretch/>
        </p:blipFill>
        <p:spPr>
          <a:xfrm>
            <a:off x="1800360" y="3924360"/>
            <a:ext cx="6573600" cy="33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00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576720" y="394920"/>
            <a:ext cx="9069480" cy="657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511280" y="673200"/>
            <a:ext cx="7559640" cy="68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постоянно ставили мальчика в угол. Однажды, будучи еще только в 4 классе, он сказал своему отцу: «Еще раз поставишь в угол, сбегу к бабушке. С вами больше жить не б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мама рассказывает другой: «мы своего и бьем, и наказываем, а он уроки за пять минут сделает и на улицу. Вечером придет- начинаем проверять, а он уже спит на ходу. На следующий день приходит- опять двойк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мье родился маленький ребенок. Старший ребенок- ученик третьего класса резко изменился: стал плаксивым, все чаще и чаще стал проявлять агрессивность по отношению к родителям, маленький ребенок тоже стал предметом агрессии. В очередной раз, когда мама попросила посидеть с малышом, третьеклассник ответил: « Я в няньки не нанимался!» родители были страшно возмущены, последовало наказание за прови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870120" y="135000"/>
            <a:ext cx="42206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им 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4"/>
          <p:cNvSpPr txBox="1"/>
          <p:nvPr/>
        </p:nvSpPr>
        <p:spPr>
          <a:xfrm>
            <a:off x="6264360" y="826920"/>
            <a:ext cx="2865240" cy="30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49" name="WordArt 5"/>
          <p:cNvSpPr txBox="1"/>
          <p:nvPr/>
        </p:nvSpPr>
        <p:spPr>
          <a:xfrm>
            <a:off x="1870200" y="684360"/>
            <a:ext cx="5049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поступи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менить ли наказ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Picture 7" descr="47"/>
          <p:cNvPicPr/>
          <p:nvPr/>
        </p:nvPicPr>
        <p:blipFill>
          <a:blip r:embed="rId1"/>
          <a:stretch/>
        </p:blipFill>
        <p:spPr>
          <a:xfrm>
            <a:off x="5688000" y="3995640"/>
            <a:ext cx="3311640" cy="32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36360" y="394920"/>
            <a:ext cx="4465800" cy="6356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135_cr"/>
          <p:cNvPicPr/>
          <p:nvPr/>
        </p:nvPicPr>
        <p:blipFill>
          <a:blip r:embed="rId1"/>
          <a:stretch/>
        </p:blipFill>
        <p:spPr>
          <a:xfrm>
            <a:off x="4392720" y="2771640"/>
            <a:ext cx="5537160" cy="43164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146160" y="826920"/>
            <a:ext cx="568620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огие родители считают, что без ремня ничего хорошего из ребенка выйти не может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ая причина- наша несдержанность, срыв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тья причина- детей бьют от пустоты внутри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4160" y="-829080"/>
            <a:ext cx="8423280" cy="547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зическое наказание притупляет все лучшие качества в детях, способствует развитию в них лжи, лицемерия, трусости и жестокости, возбуждает злобу и ненависть к старш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48631838_10703_12"/>
          <p:cNvPicPr/>
          <p:nvPr/>
        </p:nvPicPr>
        <p:blipFill>
          <a:blip r:embed="rId2"/>
          <a:stretch/>
        </p:blipFill>
        <p:spPr>
          <a:xfrm>
            <a:off x="3672000" y="3132000"/>
            <a:ext cx="5975280" cy="398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94920"/>
            <a:ext cx="5183280" cy="576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бодная личность не может сформироваться в семейном рабстве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бенок остается при своем мнении, он перестает быть жизнерадостным, становится угрюмым и скрыт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01_05_00"/>
          <p:cNvPicPr/>
          <p:nvPr/>
        </p:nvPicPr>
        <p:blipFill>
          <a:blip r:embed="rId1"/>
          <a:stretch/>
        </p:blipFill>
        <p:spPr>
          <a:xfrm>
            <a:off x="5256360" y="1187280"/>
            <a:ext cx="4392360" cy="439272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6920" y="303120"/>
            <a:ext cx="5832360" cy="5781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omic Sans MS"/>
              </a:rPr>
              <a:t>Эффективная мера воздействия на провинившегося ребенка- это ваше временное пренебрежение общением с ним</a:t>
            </a:r>
            <a:r>
              <a:rPr b="0" lang="ru-RU" sz="4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6" descr="original"/>
          <p:cNvPicPr/>
          <p:nvPr/>
        </p:nvPicPr>
        <p:blipFill>
          <a:blip r:embed="rId1"/>
          <a:stretch/>
        </p:blipFill>
        <p:spPr>
          <a:xfrm>
            <a:off x="6119640" y="1835280"/>
            <a:ext cx="304488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302760"/>
            <a:ext cx="4537080" cy="5707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Главный метод воспитания- это УБЕЖДЕНИЕ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Рисунок4"/>
          <p:cNvPicPr/>
          <p:nvPr/>
        </p:nvPicPr>
        <p:blipFill>
          <a:blip r:embed="rId1"/>
          <a:stretch/>
        </p:blipFill>
        <p:spPr>
          <a:xfrm>
            <a:off x="4608360" y="1549440"/>
            <a:ext cx="4969080" cy="359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дом</dc:creator>
  <dc:description/>
  <dc:language>en-US</dc:language>
  <cp:lastModifiedBy>user</cp:lastModifiedBy>
  <dcterms:modified xsi:type="dcterms:W3CDTF">2019-10-20T13:07:57Z</dcterms:modified>
  <cp:revision>7</cp:revision>
  <dc:subject/>
  <dc:title>Учитель: Таневич В.А. 20010-20011 уч.г.</dc:title>
</cp:coreProperties>
</file>