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39D-8B20-4490-85E1-EDA7CD40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7B8-A730-4223-8FBF-65E905A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7FB-7C78-4366-A800-62FE428F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4C1-2AF6-4200-93F4-FAE2D59C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A041-A09D-4D1F-A6FD-9400CF4D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310-8EC1-4ED2-8D44-D89D5EF9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0D3-D35C-44BB-B1FD-95267EB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C758-E0C9-49A3-B2CC-39ED0D2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B8E9-CE5F-45BC-B348-E42AD485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D5F-E037-4D99-9310-C2067B5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955A-B2C8-40C5-86A8-C529AAA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813-0CC8-4E4D-8C45-F6ABAADB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3F3-1C6F-4714-83DC-778D9BF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E5EB-B7EC-4745-B4EA-019C9F4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1759-735E-4F9E-ACD1-64D62E5D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E8DF-8D3C-48E3-B224-07AD06D6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F6CC-8A6D-4E1C-9FD8-C416A3DE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4EF5-8AA3-4EA7-8D58-3EA36317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79A2-DA19-4BFD-9F21-425A2CE5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DA8E-085B-4778-9A90-5A6B6965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F603-39DA-406D-B294-104BC367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B600-DE7B-47EA-B30C-156A734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6FC-5371-4A35-BE8D-757B92E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B806-14B2-4A1D-BE69-B341B25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320D-C014-494F-897B-D5B474F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26CA-28D2-4034-B9A3-E35E7B0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3147-7EBD-490B-B27C-5E15DE4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55A8-5AFB-400D-91D0-A32DFD9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4B6A-618D-402A-BE1B-DBA0E125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E695-A23A-4F10-9BCB-96F1A8F1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EBEB-229B-4B54-89B0-9A71E4F1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524F-9C80-4877-8CFC-4A1D452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5AAF3-1D3E-475D-9721-21C8A741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8E6-132B-4F52-8A94-46ABE8B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A835-359C-4EBF-B93C-8CC874C1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F1B5-E208-4812-96B9-1B816D0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BC56-41DA-451E-BBE6-AE0189E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AC7B-5617-4426-AA36-78DDEB5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387B-D547-4D8E-828E-6FBDB10C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1442-BA25-4673-986B-D8A9D69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541C-D977-49C0-B088-01D5E36C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0AE1-868A-4214-9573-93A8DA6B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7315-D56B-4DB2-A89B-0A378D7C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2C6-771A-419D-A6D7-0EFD5D29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345-7E59-4B04-8D98-0D4B517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251-B989-43B3-99D9-7368BF6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6B7-A2A8-4481-8E05-1EE20B99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B6F-E501-481E-9174-5CB230AC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55D-1F8D-4B32-B3F8-2D873BE65F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D9F-1CD2-4DD9-9371-B159A2549A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351-761F-467A-8D67-5992BE65A0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E74F-C08A-4292-AC57-34624E583A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8642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Comic Sans MS"/>
              </a:rPr>
              <a:t>Лабораторная  работа №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64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Тема: «Смежные углы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45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Решите задачу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Найдите смежные углы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с  и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с в два раза больш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с  и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смеж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 р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 = 2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войство смежных углов, составим и решим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: х + 2х = 1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437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93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40000" y="278100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1440" y="2637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650"/>
                            </p:stCondLst>
                            <p:childTnLst>
                              <p:par>
                                <p:cTn id="4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+ 2х = 18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х = 18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= 180 : 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= 6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=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= 12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= 12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углы называются смежным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свойство смежных уг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один из смежных углов прямой (острый, тупой), каким является другой уго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смежные углы равны, то они прямы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ы два равных угла. Равны ли смежные с ним угл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 ответы вы можете найти  в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6; п. 11 учеб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4360" y="765000"/>
            <a:ext cx="7848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  УРОК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10120" y="375120"/>
            <a:ext cx="7916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оверить опытным путем, действительно ли сумма смежных углов равна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учиться решать задачи, используя свойство смежных уг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15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Оборудование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инейк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рандаш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ранспортир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етрад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чебни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35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3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1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Постройте развернутый угол АОВ и проведите из его вершины луч О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68360" y="5157720"/>
            <a:ext cx="14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522936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5229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6160" y="450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08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5800" y="4597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340000" y="2923920"/>
            <a:ext cx="237636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4160" y="299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25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25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2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25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25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25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i="1" lang="en-US" sz="32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олните измерения  и заполните таблиц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3068640"/>
          <a:ext cx="7742520" cy="2374920"/>
        </p:xfrm>
        <a:graphic>
          <a:graphicData uri="http://schemas.openxmlformats.org/drawingml/2006/table">
            <a:tbl>
              <a:tblPr/>
              <a:tblGrid>
                <a:gridCol w="2016360"/>
                <a:gridCol w="2376360"/>
                <a:gridCol w="3349800"/>
              </a:tblGrid>
              <a:tr h="11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С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85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Постройте развернутый угол АОВ и проведите из его вершины лучи  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68360" y="5734080"/>
            <a:ext cx="14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-360" y="580536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5805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08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5440" y="5222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3440" y="5367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042560" y="3284640"/>
            <a:ext cx="129708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852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3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3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3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i="1" lang="en-US" sz="32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олните измерения  и заполните таблиц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26920" y="3068640"/>
          <a:ext cx="7740720" cy="2374920"/>
        </p:xfrm>
        <a:graphic>
          <a:graphicData uri="http://schemas.openxmlformats.org/drawingml/2006/table">
            <a:tbl>
              <a:tblPr/>
              <a:tblGrid>
                <a:gridCol w="1873440"/>
                <a:gridCol w="1942920"/>
                <a:gridCol w="3924360"/>
              </a:tblGrid>
              <a:tr h="11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С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85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Ход работы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делайте вывод о сумме смежных угл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99"/>
                </a:solidFill>
                <a:uFillTx/>
                <a:latin typeface="Comic Sans MS"/>
              </a:rPr>
              <a:t>Решите задачу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ин из смежных углов равен равен 3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второй уг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 -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=3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 = 18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  (свойство смежных  уг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 = 18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 = 14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437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78160" y="400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80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08000" y="2781000"/>
            <a:ext cx="1440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3800" y="25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5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09:42Z</dcterms:created>
  <dc:creator>Imango</dc:creator>
  <dc:description/>
  <dc:language>en-US</dc:language>
  <cp:lastModifiedBy>www.PHILka.RU</cp:lastModifiedBy>
  <dcterms:modified xsi:type="dcterms:W3CDTF">2008-01-30T18:51:42Z</dcterms:modified>
  <cp:revision>16</cp:revision>
  <dc:subject/>
  <dc:title>Лабораторная работа №1</dc:title>
</cp:coreProperties>
</file>