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04A-C923-4745-93E2-C1B96FE6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7CB-D163-4CDA-B283-4124C461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C77-8E26-4EF6-A628-687613D9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C0B-D685-4D73-A4F3-21C313D6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C19-C607-4299-9078-5AAFF54D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D70-CFCD-49CA-8EB1-B19B266E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8DE-A2CB-453B-BAAC-2C7E3F0B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DB9-69F8-4B61-A0EC-4D2DEC45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39A-BFFC-4FF7-8EB2-6DDF9540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596-1DBD-4D9B-89C8-93A92CB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863-B827-4579-B900-279A757A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28F-93C3-4D77-AB60-3E37FD4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C26F-8981-4EBC-B00F-F20F368A2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449000"/>
            <a:ext cx="9144000" cy="373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ВОЛЕЙБОЛА. ОСНОВЫ ТАКТИЧЕСКОЙ ПОДГОТОВКИ ВОЛЕЙБОЛИ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57120" y="0"/>
            <a:ext cx="857268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тактика атакующи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кладывается из взаимодействий двух-пяти игроков в атакующих дейст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ыделить три вида взаимо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принимающих игроков со связующ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я связующего игрока с нападающими игро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нападающих игроков друг с друго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групповых взаимодействий в нападении составляют тактические комбинации – взаимодействия игроков, направленные на создание одному из них оптимальных условий для завершения ата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игроков, принимающих участие в атаке, все тактические комбинации делятся на одноступенчатые (однотемповые) и двухступенчатые (как правило, двухтемпов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перемещения нападающих игроков: с перекрестным перемещением и неперекрестным переме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быгрывания блокирующих соперника: на преодоление блока соперника во времени (взлет, морита, эшелон), в пространстве (по перемещению вдоль сетки; зона, вдогонку, возврат, волна, крест, обратный кре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оявились и активно используются тактические комбинации с активным подключением одного и более игроков задней линии; с участием двух нападающих игроков  первого темпа. Это позволяет значительно усилить атакующий потенциал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00040" y="357120"/>
            <a:ext cx="8286840" cy="61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ные атакующ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могут осуществляться через связующего игрока передней линии и через связующего игрока, выходящего со второй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ой или иной системы в нападении в значительной мере зависит от принципа формирования игрового состава (5-1, 4-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ападения через связующего игрока передней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ильным сторонам этой системы можно отне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ующий игрок все время находится на передней линии, что избавляет его от необходимости осуществлять выходы из зоны защ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ующий игрок имеет право атаковать, использовать атакующие удары с первой передачи (особенно «левша»), неожиданные сбросы либо передачи в прыжке - отки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ующему игроку передней линии легче обрабатывать мячи, летящие после приема на трос или на сторону сопе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дней линии остается всего два нападающих, что снижает атакующий потенциал ком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т определенные трудности при блокировании атакующих ударов высокорослых нападающих сопе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14200" y="357120"/>
            <a:ext cx="871560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ападения через связующего игрока, выходящего с задне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нии атаки находится три нападающих игрока (2-4), целесообразно при хорошо подготовленных в атакующих действиях связующих игр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сть атаки с первой пере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жняются действия связующего при неточном первом приеме - близко к сетке, «переходящий» мяч. Передача выполняется в трудных условиях, часто совершая техническую ошиб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«переходе» мяча на сторону соперника, выходящий со второй линии связующий не может участвовать в блокировании при выполнении нападающего удара «сраз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подготовки двух высокорослых связующих, способных эффективно нападать и блокировать и одновременно с этим качественно выполнять вторую перед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85840" y="8571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еские системы игры в нападении с первых и со вторых передач имеют свои слабые и сильные стороны. Система нападения со вторых передач используется командами в качестве основной. Она позволяет разыгрывать тактические комбинации разнообразить игру  в нападении. У нападающих и связующих игроков имеется больше времени для подготовительных действий, однако, больше времени имеют блокирующие, страхующие и защитники соперника для организации противодей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стеме  с первой передачи и откидки  присутствует элемент неожиданности из-за нечастого использования такого способа атаки, поэтому процент эффективности  часто бывает выше, чем при атаке со второй передачи. Но если часто использовать эту систему, то ее эффективность значительно снизится  из-за невозможности  стабильной точной доводки мяча и отсутствия фактора неожид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Таблица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52156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14200" y="0"/>
            <a:ext cx="878688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ндивидуальным действиям игрока в защите без мяча относ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бор места для приема подач (учитывается общая схема построения, не затруднять действия рядом стоящих игроков, предугадать направление и траекторию полета мяч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приема нападающих ударов (предугадать действия нападающего игро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защитник ориентируется на: направление и качество второй передачи, направление разбега, замах, положение туловища и головы, точку удара по мячу и др., действия блокирующих игроков и возможности конкретного противни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ндивидуальным защитным действиям в защите относится самостраховка после постановки бл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тактические действия игрока с мячом при приеме подач или нападающих удар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способа приема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оны, направления приема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е доведение мяча в з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тактические действия без мяча при блокировании опреде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ой в которую направлена первая передача и передача на у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екторией передачи мяча и возможной точкой уд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м направлением уд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ми особенностями нападающего иг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чное блокирование бывае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ным и подвижн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00040" y="714240"/>
            <a:ext cx="8429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и эффективность блокирования во многом опреде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евременностью прыжка, которое зависит от высоты передачи и отдаленности от с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сотой прыжка, которая не всегда максимальна и зависит от роста и прыжка нападающего и блокирующего, отдаленности передачи от сетки, необходимостью выполнения двух прыжков подря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 направления выноса рук и положения кистей (отдаленность мяча от сетки, направление уда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14200" y="142920"/>
            <a:ext cx="850104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тактические действия в защ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взаимодействие блокирующих, страхующих и защитников между собой (внутри линий) и друг с другом (между линия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действия при блокирова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аимодействия игроков при двойном бл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аимодействия игроков при тройном б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ование может быть зонным и подвижным, блок «уступ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ют блокирующих на: центральных и крайних, основных и вспомога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действия при приеме нападающих уда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аимодействия защитников между соб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щитников со страхующ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щитников с блокирующ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хующих с блокирующ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хующих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следующие варианты страховки блокирующ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гроком первой линии свободным от бл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гроком задней линии зоны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гроком задней линии крайним защитником зон 1 или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мешанный вариант страховки (свободным от блока и крайним защитник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50004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ные тактические действия в защ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выделяют системы игры в защите «углом вперед» и «углом назад» в зависимости расположения игрока 6 зоны. Определяются системы защиты вариантом страх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 Система игры в защите со страховкой блока игроком передней линии (свободным от бло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преимущество этой системы 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не постоянно играют три защитника задней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то, что все нападающие сгруппированы на одном пяточке, что отрицательно сказывается на организации контрат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 Система игры в защите со страховкой блока крайним защитником второй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3. Система игры в защите со страховкой блока центральным защитником второй линии («углом вперед»). При использовании этого варианта страховки большое значение приобретает плотность б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еимущества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системы относится участие в страховке связующего игрока, он находясь в положении уже вышедшего для передачи мяча. Это удобно для организации ата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ами систе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адней линии два защитника; игрок первой линии не участвующий в блоке не всегда успевает помочь защитни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связующий в страховке играет мяч, то не может выполнить вторую перед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731880" y="21420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временные тенденции тактики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14200" y="85716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олейбола идет постоянно и практически во всех разделах, в том числе изменяется и тактика игры. Причин для этого нескольк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правилах игры (правила подачи, система набора очков, введение игрока «либеро»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ростовых данных игроков, и возрастающий уровень их физической подготовленности (усиление атакующего потенциала команд, скорость и разнообразие ата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новых способов выполнения технических приемов (подача в прыжке, нападающий удар отталкиванием одной ногой, блокирование без замах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циональность всех технико-тактических действий. Исчезли комбинации ради комбин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атакующего потенциала команд (возрастание скорости и разнообразия атак, атака с задней линии, комбинации с участием двух игроков первого темп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щитных действиях не отдается явного предпочтения какой-то системе, успеха достигают команды, которые могут сочетать в игре разные системы в зависимости от игры соперника. Значительное усиление защитного потенциала произошло с введением игрока «либер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мплектовании стартовой шестерки в командах высокой квалификации предпочтение отдается принципу 5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57160" y="785880"/>
            <a:ext cx="7643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онятия т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и игроков. Комплектование ком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лассификация т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временные тенденции тактики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тактической подготовки волейбол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сихофизиологические особенности тактически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дачи, средства и методы тактической подго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тапы  тактической подго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0" y="14292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тактической подготовки волейбол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сихофизиологические особенности тактически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технико-тактических действий во время соревнований при постоянно меняющейся обстановке во многом зависит от способности спортсмена к своевременным и точным предварительным действиям, что невозможно без предугадывания соревновательных ситуаций.  Такая способность игроков называется экстраполяция или антицип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к по особенностям движения своих партнеров или соперника определяет их тактический замысел и последующие действия. Это осуществляется в результате запоминания различных игровых ситуаций, что зависит от игрового опыта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сенсомоторные процессы тактического действия протекают в трех главных фазах (структура двигательного действия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(быстрое, точное, зависит от функции анализаторов, устойчивости и концентрации внимания) и анализ соревновательной ситуации (зависит от тактического опыта и быстроты протекания мыслительных ассоциативных процессов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ысленное решение тактической задачи (рациональное решение осуществляется на основе сравнения новых данных с уже имеющимися в памяти и их сопоставление - «узнавание» игровой ситуации; мысленное решение тактической задачи тем быстрее, чем больше практический опыт волейболиста; в новой соревновательной ситуации мысленное решение протекает значительно медленне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вигательное решение тактической задачи (есть само выполнение ответного тактического действ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710280" y="142920"/>
            <a:ext cx="55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дачи, средства и методы тактической подго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9280" y="620640"/>
            <a:ext cx="885996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еская подготовка волейболис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едагогический процесс направленный на совершенное овладение индивидуальными, групповыми и командными тактическими действиями и обеспечивающий их высокую эффективность в игровой и соревн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тактической подготовленности характеризу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ым тактическим мышлением (умение анализировать игру, быстро переключаться, прогнозировать игровые ситуации и решать тактические задач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орошей ориентировкой на площадке и взаимодействии с парте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ффективным использованием технических прие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ариативностью тактически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тактической подготов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учить занимающихся выполнять технико-тактические действия в соответствии с конкретной игровой ситу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 тактической подготов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ние предпосылок для успешного обучения тактике игры (развитие необходимых способностей и качеств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Формирование тактических умений в процессе обучения техническим приема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владение основой индивидуальных, групповых и командных тактических действ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овершенствовать тактические умения с учетом игровой функции волейболиста в команд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азвитие способности к быстрым переключениям (от нападения к защите и наоборо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0" y="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тактической подготов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е упражнения направленные на развитие быстроты реакции, ориентировки, скорости переключения с одних действий на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спортивные игры, специальные эстаф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щие упражнения по обучению индивидуальным групповым и командным тактическим дейст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пражнения по тактик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е упражнения (параллельно совершенствуется тактика нападения и защиты, переключения с одних действий на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и контроль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тактической подготов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тактической подготовки применяют те же методы, что и при решении задач технической подготовки, учитывая специфику т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овторного 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жнение и затруднение условий выполнения заданий по сравнению с соревнователь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упражнений на фоне 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яженны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тельны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анализа действий (своих и противника). Для этого используют видеозапись и м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й для тактический подготовки метод моделирования действий противник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39640" y="260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тапы тактической подго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0" y="692280"/>
            <a:ext cx="91440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и совершенствование волейболистами тактических действий  должно идти в следующей последова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з сопротивления партне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пассивным сопротив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активным «управляемым» противн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условиях соревнований с партнерами по команде, с против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обучения тактике  условно можно разделить на 4 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ап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ое внимание уделяется развитию специальных качеств, необходимых для реализации тактических действий в игре, — быстроты сложных реакций, быстроты отдельных движений и действий, ориенти­ровки, быстроты перемещений, наблюдательности, переключения с од­них действий на другие (основу тренировки составляют задания в ответ на зрительные и слуховые сигна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ап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формирование тактических умений в процессе обучения техническим приемам (выполнение упражнений по заданию, по сигна­лу, на точ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 этап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бучение индивидуальным тактическим действиям с по­мощью упражнений по тактике (суть упражнений сводится к тому, что­бы создавать условия, при которых игроки должны выбирать действия в зависимости от направления и траектории полета мяча, от действия на­падающих или защитников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зучение групповых тактических действий и на этой основе освоение командных тактических действий с помощью подготовитель­ных, подводящих упражнений и упражнений по технике и тактике игры, совершенствование переклю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826920" y="40464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йбол: Учебник для вузов./ Под общ.ред. А.В. Беляева, М.В. Савина, - 4-е изд. – М.: ТВТ Дивизион, 2009. – 360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игры в физической культуре: история, техника, правила игры. Учебное пособие для студентов высших учебных заведений физической культуры / Под общ. ред. доцента Л.А. Дмитренко. – Краснодар, 2012. – 304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царев В.В. Волейбол: попытка причинного истолкования приемов игры и процесса подготовки  волейболистов. Изд. 2-е, перераб. И доп. – М.: Физкультура и Спорт. – 2009. – 400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щев Ю.Н. Волейбол. Подготовка команды к соревнованиям: Учебное пособие. – М.: СпорнтАкадемПресс, 2002. – 192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и методика обучения базовым видам спорта (техника, тактика, методика обучения спортивным играм). Учебное пособие для студентов высших учебных заведений физической культуры/ Под общ. ред. С.В. Литвиновой. – Краснодар, 2012. – 124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428760" y="950400"/>
            <a:ext cx="8286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иг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рганизация спортивной борьбы с помощью индивидуальных, групповых и команд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тактики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ить средства, способы и формы ведения игры в конкретных условиях против определенного проти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игры определяется уровнем технического мастерства игроков. Главной движущей силой развития ее является борьба между нападением и защитой. Появление новых эффективных средств и способов нападения диктует необходимость поисков средств и способов защи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013400" y="2858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онятия т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0" y="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вед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являются все технические приемы и способы их вы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ами вед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зываются индивидуальные, групповые и командные действия игроков, применяемые в борьбе с противником. Они составляют содержание так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действ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действия игрока, направленные на решение определенной тактической задачи в данный момент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действ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заимодействие двух или нескольких игроков, выполняющих конкретную игровую за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ные действ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заимодействия всех игроков команды, направленные на выполнение определенных задач в нападении и защите. Они реализуются с помощью определенных систем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игр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пределенная организация действий команды, основанная на функциях игроков и их расстановке на площа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еская комбин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заученное игровое взаимодействие игроков, направленное на создание одному из них благоприятных условий для завершения атаки или контрат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исципл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одчинение действий каждого игрока командным действиям, четкое выполнение поставленных задач на протяжении всей игры и турн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разделение однородных приемов и способов действий по классам на основе сходн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Таблица 1" descr=""/>
          <p:cNvPicPr/>
          <p:nvPr/>
        </p:nvPicPr>
        <p:blipFill>
          <a:blip r:embed="rId1"/>
          <a:stretch/>
        </p:blipFill>
        <p:spPr>
          <a:xfrm>
            <a:off x="347760" y="347760"/>
            <a:ext cx="8667720" cy="6248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0" y="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лассификация т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0" y="0"/>
            <a:ext cx="914400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тактика напа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ндивидуальной тактике нападения относятся действ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адающих, связующих и подающи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гр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тактика связующего игрока имеет несколь­ко составляющ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есообразные предварительные перемещения (времен­ной промежуток от касания мяча подающим игроком до при­ема). Не только в точку приема, но и с учетом возможного отскока мяча в случаях, когда игрок принимает мяч в неудобном поло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способа перемещения к мячу в зависимости от тра­ектории приема (шаг, бег, прыжок, пад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способа обработки мяча в зависимости от ситуации: передача сверху или снизу, обманный или нападающий удар, пе­реключение на блок или в оборону площа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направления пере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связующий учит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ющуюся игровую ситу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такующих иг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блокирующих игроков сопер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 в партии и иг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е состояние и возможности нападающих иг­роков в данный момент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енность о совместных действиях в атаке или их отме­ну из-за недоводки мяча в при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5840" y="5868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тактика атакующего игрок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па и направления разбег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рыж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удара, способ, силу уд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целесообразного выбора наиболее эффективного решения нападающему необходимо учесть следующи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второй пере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блокирующих игроков сопер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  и сильные стороны блокирующих иг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игрока либер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страхующих игроков и защитников и их готовность к при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еские возможности нападающего игрока в значительной степени зависят от его технического арсенала, т.е. чем большим количеством приемов и способов нападения владеет игрок, тем эффективнее могут быть его индивидуальные такт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642960" y="428760"/>
            <a:ext cx="7929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пода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дится к индивидуальным действиям отдельного игрока. Главная особенность выполнения этого приема заключается в относительно одинаковых условиях его выполнения и отсутствие непосредственного противодействия соперника, т.е. качество выполнения зависит только от самого иг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одающего игрока 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ста по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направления по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способа и вида подачи (точностная, силов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еобходимо учиты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оложение игрока либеро и принимающих игроков сопер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связующего игрока, особенно при выходе его с задней ли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игрока вышедшего с зам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и слабые стороны принимающих иг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ая зона организации тактической комб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6:06Z</dcterms:created>
  <dc:creator>user</dc:creator>
  <dc:description/>
  <dc:language>en-US</dc:language>
  <cp:lastModifiedBy>Администратop</cp:lastModifiedBy>
  <dcterms:modified xsi:type="dcterms:W3CDTF">2019-10-08T20:09:18Z</dcterms:modified>
  <cp:revision>42</cp:revision>
  <dc:subject/>
  <dc:title>Слайд 1</dc:title>
</cp:coreProperties>
</file>