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BC9C-66F5-4CB6-ADB3-C2CB092B94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E63E-11C2-4E2F-8C9A-02BA17A1DA9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2566-508B-449A-A356-2E3C95A7E18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11AF-6C92-4930-8061-C2A632434C1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BA55-E05F-4890-8528-A6A3CC66F5F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01EB-660F-449E-9B88-2EBC6EFD171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CC4F-D84D-4502-AC82-728A9C95767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93F8-B463-4256-8829-C777AF55A19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74BF-A5D2-4C21-91DC-18F56E1B191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1E232-3A10-43E1-A6B5-7FA8AAF60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CAA0D-7B14-42F5-881C-76C1A7E0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21BB0-B718-4F44-B5EF-97841FE27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D6045-347A-4F52-A3AF-415DBA026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E2D8-16FF-47CC-8322-154A55DC5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8FBF-5D93-4AB4-B946-41010A3C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2FFE-076F-41FA-B255-309F76DB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D46D-153B-48B7-8444-1DF06EC8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EF4D-AF2B-4B81-A5C2-7539129C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81B6-EF80-4C19-9DC6-60F22BDB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30FD6-3F67-4ABE-A282-281278A3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90BCE-C389-4CC5-83D1-3A58BAB5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1B18-0CCC-4DA3-801E-4314B5AE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4203-8F8A-425D-AA74-F81AC12D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7354-6757-4BE8-A882-7D5AD836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7209C-8795-46D2-BFDA-7FE3805E0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35E3-CEE6-42FB-BD15-451A52540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2683B-FDCF-4618-AD7F-AE177ACE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FAC7B-ADEA-42AE-A0FC-0C02C6B4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9D67D-5E1F-4104-ABF9-4B0970B0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2096C-34CC-4EDA-8DFA-B4B05ADD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05770-FECA-4142-A097-44E9B597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961C6-24C9-45F2-A92A-6CDC2DD2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B930E-D700-4E34-A338-541586B5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AAD3-D030-40ED-9D81-1DF9BAD7C8A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A35A-CC35-4A35-AE90-43A87C51D72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9532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e5e5ff"/>
                </a:solidFill>
                <a:latin typeface="Garamond"/>
              </a:rPr>
              <a:t>Волейбол</a:t>
            </a:r>
            <a:br>
              <a:rPr sz="2500"/>
            </a:br>
            <a:r>
              <a:rPr b="1" lang="ru-RU" sz="2500" spc="-1" strike="noStrike">
                <a:solidFill>
                  <a:srgbClr val="e5e5ff"/>
                </a:solidFill>
                <a:latin typeface="Garamond"/>
              </a:rPr>
              <a:t>«Набор  очка, выигрыш партии и матча, жеребьевка, стартовая расстановка команды»</a:t>
            </a:r>
            <a:endParaRPr b="1" lang="en-US" sz="25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одержа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бор  оч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ыигрыш партии и матч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Жеребьев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тартовая расстановка команд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4" descr="x_66c00c80"/>
          <p:cNvPicPr/>
          <p:nvPr/>
        </p:nvPicPr>
        <p:blipFill>
          <a:blip r:embed="rId1"/>
          <a:stretch/>
        </p:blipFill>
        <p:spPr>
          <a:xfrm>
            <a:off x="5541840" y="1628640"/>
            <a:ext cx="335124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абор оч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096560"/>
            <a:ext cx="8291520" cy="19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оманда набирает очко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 успешном приземлении мяча на площадке соперника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огда команда соперника совершает ошибку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огда команда соперника получает замечани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4" descr="4fc653e5abc3"/>
          <p:cNvPicPr/>
          <p:nvPr/>
        </p:nvPicPr>
        <p:blipFill>
          <a:blip r:embed="rId1"/>
          <a:stretch/>
        </p:blipFill>
        <p:spPr>
          <a:xfrm>
            <a:off x="1908000" y="2997360"/>
            <a:ext cx="5400720" cy="3609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250920" y="329760"/>
            <a:ext cx="8713800" cy="32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Garamond"/>
              </a:rPr>
              <a:t>Команда совершает ошибку, выполняя игровое действие, вопреки правилам (или иным образом нарушая их). Судьи оценивают ошибки и определяют последствие в соответствии с Правилами:</a:t>
            </a: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Garamond"/>
              </a:rPr>
              <a:t>- если две или более ошибок совершены последовательно, то принимается во внимание только первая ошибка.</a:t>
            </a: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Garamond"/>
              </a:rPr>
              <a:t>- если две или более ошибок совершены соперниками одновременно, то это считается обоюдной ошибкой и розыгрыш переигрывается.</a:t>
            </a: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Garamond"/>
              </a:rPr>
              <a:t>Последствия выигрыша розыгрыша:</a:t>
            </a: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Garamond"/>
              </a:rPr>
              <a:t>- если подающая команда выигрывает розыгрыш, она набирает очко и продолжает подавать;</a:t>
            </a: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Garamond"/>
              </a:rPr>
              <a:t>- если принимающая команда выигрывает розыгрыш, она набирает очко, и должна подавать следующей.</a:t>
            </a: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5" descr="vTJYGxO5fAg"/>
          <p:cNvPicPr/>
          <p:nvPr/>
        </p:nvPicPr>
        <p:blipFill>
          <a:blip r:embed="rId1"/>
          <a:stretch/>
        </p:blipFill>
        <p:spPr>
          <a:xfrm>
            <a:off x="395280" y="3573360"/>
            <a:ext cx="3741840" cy="2809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309875"/>
          <p:cNvPicPr/>
          <p:nvPr/>
        </p:nvPicPr>
        <p:blipFill>
          <a:blip r:embed="rId2"/>
          <a:stretch/>
        </p:blipFill>
        <p:spPr>
          <a:xfrm>
            <a:off x="4425840" y="3573360"/>
            <a:ext cx="4249800" cy="2830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игрыш партии и матч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241280"/>
            <a:ext cx="864072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артия, (за исключением решающей пятой партии) выигрывается командой, которая первой набирает 25 очков с преимуществом минимум в 2 очка. В случае  равного счета 24 -24 , игра продолжается до достижения преимущества в 2 очка (26 – 24 ; 27 – 25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бедителем матча является команда, которая выигрывает 3 парти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и равном счете 2 – 2, рещающая партия ( 5 –я ) играется до 15  очков с минимальным преимуществом в 2 очк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1390387_20110711082134"/>
          <p:cNvPicPr/>
          <p:nvPr/>
        </p:nvPicPr>
        <p:blipFill>
          <a:blip r:embed="rId1"/>
          <a:stretch/>
        </p:blipFill>
        <p:spPr>
          <a:xfrm>
            <a:off x="2340000" y="3141720"/>
            <a:ext cx="4578480" cy="3436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Жеребьев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95280" y="5157720"/>
            <a:ext cx="82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бедитель жеребьевки выбирает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аво подавать или принимать подачу, или сторону площадк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оигравший принимает оставшийся вариант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 случае последовательных разминок, первой разминается на сетке команда, которая подает первой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324000" y="1052640"/>
            <a:ext cx="864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еред матчем первый судья проводит жеребьевку по определению первой подачи и сторон площадки в первой парти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Если будет играться решающая партия, то должна быть проведена новая жеребьевка. Жеребьевка происходит в присутствии двух капитанов команд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7" descr="3752213"/>
          <p:cNvPicPr/>
          <p:nvPr/>
        </p:nvPicPr>
        <p:blipFill>
          <a:blip r:embed="rId1"/>
          <a:stretch/>
        </p:blipFill>
        <p:spPr>
          <a:xfrm>
            <a:off x="2916360" y="2276640"/>
            <a:ext cx="3671640" cy="2757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тартовая расстановка команд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252360" y="1197000"/>
            <a:ext cx="86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 игре всегда должны участвовать шесть игроков от каждой команды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Начальная расстановка команды указывает порядок перехода игроков на площадке. Этот порядок должен быть сохранен на протяжении всей парти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еред началом каждой партии тренер  должен представить начальную расстановку своей команды в карточке расстановк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Должным образом заполненная и подписанная карточка вручается второму судье или секретарю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Содержимое 4" descr="ВОЛЕЙБОЛЬНАЯ ПЛОЩАДКА.jpg"/>
          <p:cNvPicPr/>
          <p:nvPr/>
        </p:nvPicPr>
        <p:blipFill>
          <a:blip r:embed="rId1"/>
          <a:stretch/>
        </p:blipFill>
        <p:spPr>
          <a:xfrm>
            <a:off x="1677960" y="3213000"/>
            <a:ext cx="5989680" cy="3427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252360" y="404640"/>
            <a:ext cx="6335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гроки, которые не включены в начальную расстановку на данную партию , являются в этой партии запасными (кроме Либеро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сле вручения карточки расстановки второму судье или секретарю изменять расстановку без обычной заменяя не разрешаетс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и несоответствиях между позициями игроков на площадке и карточкой расстановки поступают следующим образом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Если такое расхождение обнаружено до начала партии , то позиции игроков должны быть исправлены в соответствии с карточкой расстановки.  Санкция за это не налагаетс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огда до начало партии на площадке выявлен игрок , не зарегистрированный в карточке расстановки на эту партию , данный игрок должен быть сменен в соответствии с карточкой расстановки.  Санкция за это не налагаетс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днако если тренер желает оставить такого незаписанного игрока (ов) на площадке, то он должен запросить обычную замену (ы), которая будет затем записана в протоко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7" descr="full_Turnirvgimrah"/>
          <p:cNvPicPr/>
          <p:nvPr/>
        </p:nvPicPr>
        <p:blipFill>
          <a:blip r:embed="rId1"/>
          <a:stretch/>
        </p:blipFill>
        <p:spPr>
          <a:xfrm>
            <a:off x="6588000" y="1844640"/>
            <a:ext cx="2274840" cy="3024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7T02:14:27Z</dcterms:created>
  <dc:creator>Anatolii</dc:creator>
  <dc:description/>
  <dc:language>en-US</dc:language>
  <cp:lastModifiedBy>Администратop</cp:lastModifiedBy>
  <dcterms:modified xsi:type="dcterms:W3CDTF">2019-10-08T19:27:08Z</dcterms:modified>
  <cp:revision>4</cp:revision>
  <dc:subject/>
  <dc:title>КОНТРОЛЬНАЯ РАБОТА  по дисциплине: БВДД Волейбол на тему: «Набор  очка, выигрыш партии и матча, жеребьевка, стартовая расстановка команды»</dc:title>
</cp:coreProperties>
</file>