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gif" ContentType="image/gif"/>
  <Override PartName="/ppt/media/image1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png" ContentType="image/png"/>
  <Override PartName="/ppt/media/image1.jpeg" ContentType="image/jpeg"/>
  <Override PartName="/ppt/media/image22.jpeg" ContentType="image/jpeg"/>
  <Override PartName="/ppt/media/image24.jpeg" ContentType="image/jpeg"/>
  <Override PartName="/ppt/media/image3.jpeg" ContentType="image/jpeg"/>
  <Override PartName="/ppt/media/image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B69C-0C77-4E0B-A2D9-E5CDF113C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AC83-D6D9-4B84-9084-B826C1274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6976-1505-4903-8073-8C57A47EE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2179-23DF-4AFA-A598-4D60731FE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52B57-25C4-45CD-9F3E-1CFB20B2A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EA9E2-2C8D-446B-BF82-437BA55B3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3C31D-45B7-426A-B04F-13C9CAB5A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0A025-AA78-48A6-84F2-63D8D12C0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2E6B4-E85B-499E-BE9B-FFF9758E0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B0D36-8283-4802-9544-A04677823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F965C-A03D-4530-A0B4-4BD724009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1F03-0DF4-4A40-AE91-4C86CDB3E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4FDFA-F784-4E14-94F4-8747CB7B5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1C41E-F5DF-4878-99B9-41F181D0A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99BC0-A4BC-4B00-B8D3-12D1864FD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0A3E9-865D-4E6F-8A11-6565C7407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DCE3F-1161-4D64-A0CA-1EFDFA556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71959-CAD2-4279-9BA4-FF169B0CA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B9181-2B2C-4FE3-9416-79B3957E3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F2CBD-2677-4AA4-863D-AD052613D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C63F2-4DE9-4F8F-9988-9B2820DD7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F4C8A-856D-4076-B388-705FDE73D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A718-994A-4A59-9BEE-713CFF53A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D6AEE-00FC-4A5C-8315-E10CEF4E1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30926-2B51-4144-8682-0ACE15522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01F2E-6601-4CBB-8DDA-3EB74BAA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622CF-66E2-49A0-B93A-233B47E92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4AB24-73FF-4910-86A5-3E0C59B12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A9BB8-A4C6-4521-A244-C2F25D264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EF93A-B99C-4E86-A632-3DBF18956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A6688-CA94-433B-954D-ABF8223E4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46DE9-89AD-4229-B8FA-DC7938AA3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61D02-8831-4C8C-89A8-879AB4876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0E03-B25B-4BEF-8974-64FB9A313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386F6-3EC3-49CE-A602-B95BAAE5A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C588C-A591-4FA2-87B8-8DB861E4B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C03945-E39E-43BF-BA3D-04F8C0BCC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193CE-EA76-4B54-9550-247E6BBF4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D6838-70F2-4AD2-B30E-9BD64000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31D6A5-9326-4621-86D4-1188EA53A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1B11A-BA5B-41BC-BED1-E05B96801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B709E-744D-43C2-9DF9-086F24B8B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97D9D-6579-4548-B517-D0FF5AB17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9A9F95-ECD6-4A2A-934C-3E0DDFE9F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CA3B-C340-4DE4-8E97-87A1B5D79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92C9FF-17AA-4C17-AD28-8A5E25844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6A2380-88AD-46A5-98E7-BBBDBEC94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DC940F-1B54-4477-A485-8AAE288AB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A7636A-4456-47F8-BA89-B9AB82375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DEBE48-C29F-4380-A957-9CD3604CD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8C4350-8568-4CDA-9642-5143D7E8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A7BB4C-0B5F-4026-8BD2-AA2B21075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39D01E-FF2F-4309-9ED8-60F66DD3B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C97621-A74E-4D94-8BCD-3C645A926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C5D668-156A-46D3-9A52-5EF70966F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3293-A954-4851-8360-58033344C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9B6F34-5072-4F4A-AB70-78F66972F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48B5-8555-4791-B731-A0A73D151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E1F0-8F59-4992-B244-F5515870A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3A6B-835A-4DF1-BB62-0166E0361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E7098-5FBC-4632-A6BE-FB7640C743E8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10CC2-2EEC-4DE2-A8B4-79852C038F99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05EBD-C415-4741-9B96-E1220BF1112B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20948-3738-464B-8FA5-C2671A009A9C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F62D6-3476-4C21-A2B1-8FDFDAF26DFA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 ИЮНЯ –</a:t>
            </a:r>
            <a:br>
              <a:rPr sz="3600"/>
            </a:br>
            <a:r>
              <a:rPr b="1" i="1" lang="ru-RU" sz="3600" spc="-1" strike="noStrike">
                <a:solidFill>
                  <a:srgbClr val="69240c"/>
                </a:solidFill>
                <a:latin typeface="Times New Roman"/>
                <a:ea typeface="Times New Roman"/>
              </a:rPr>
              <a:t>МЕЖДУНАРОДНЫЙ ДЕНЬ</a:t>
            </a:r>
            <a:br>
              <a:rPr sz="3600"/>
            </a:br>
            <a:r>
              <a:rPr b="1" i="1" lang="ru-RU" sz="3600" spc="-1" strike="noStrike">
                <a:solidFill>
                  <a:srgbClr val="69240c"/>
                </a:solidFill>
                <a:latin typeface="Times New Roman"/>
                <a:ea typeface="Times New Roman"/>
              </a:rPr>
              <a:t>ОХРАНЫ ОКРУЖАЮЩЕЙ СРЕДЫ.</a:t>
            </a:r>
            <a:br>
              <a:rPr sz="3600"/>
            </a:br>
            <a:r>
              <a:rPr b="1" i="1" lang="ru-RU" sz="3600" spc="-1" strike="noStrike">
                <a:solidFill>
                  <a:srgbClr val="69240c"/>
                </a:solidFill>
                <a:latin typeface="Times New Roman"/>
                <a:ea typeface="Times New Roman"/>
              </a:rPr>
              <a:t>ДЕНЬ ЭКОЛОГА.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9" name="Прямоугольник 3"/>
          <p:cNvSpPr/>
          <p:nvPr/>
        </p:nvSpPr>
        <p:spPr>
          <a:xfrm>
            <a:off x="1526760" y="2565360"/>
            <a:ext cx="61502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13 ГОД 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ГОД ОХРА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КРУЖАЮЩЕЙ СРЕ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 РОССИ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4"/>
          <p:cNvSpPr/>
          <p:nvPr/>
        </p:nvSpPr>
        <p:spPr>
          <a:xfrm>
            <a:off x="3509280" y="5229360"/>
            <a:ext cx="473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ект подготовл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лимовой Людмилой Александров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2" descr="C:\Users\Татьяна\Documents\2012-2013\Мероприятия\ЛДП\5-06-13_Международный день охраны окружающей среды\12_3431665.jpg"/>
          <p:cNvPicPr/>
          <p:nvPr/>
        </p:nvPicPr>
        <p:blipFill>
          <a:blip r:embed="rId1"/>
          <a:stretch/>
        </p:blipFill>
        <p:spPr>
          <a:xfrm>
            <a:off x="0" y="4957920"/>
            <a:ext cx="3324240" cy="19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Прямоугольник 3"/>
          <p:cNvSpPr/>
          <p:nvPr/>
        </p:nvSpPr>
        <p:spPr>
          <a:xfrm>
            <a:off x="0" y="206064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прос 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но ли вырубить в лес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дуплистые деревь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Прямоугольник 3"/>
          <p:cNvSpPr/>
          <p:nvPr/>
        </p:nvSpPr>
        <p:spPr>
          <a:xfrm>
            <a:off x="0" y="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тве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, в них гнездятся птиц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летучие мыш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2" descr="http://img-2005-05.photosight.ru/31/884192.jpg"/>
          <p:cNvPicPr/>
          <p:nvPr/>
        </p:nvPicPr>
        <p:blipFill>
          <a:blip r:embed="rId1"/>
          <a:stretch/>
        </p:blipFill>
        <p:spPr>
          <a:xfrm>
            <a:off x="2987640" y="2133720"/>
            <a:ext cx="3344760" cy="45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Прямоугольник 3"/>
          <p:cNvSpPr/>
          <p:nvPr/>
        </p:nvSpPr>
        <p:spPr>
          <a:xfrm>
            <a:off x="0" y="1700280"/>
            <a:ext cx="9144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прос 3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в сосновом лес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 отмерших сучьев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у самих сосе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ленеют верхушк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оугольник 3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тве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на – светолюбивое раст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2" descr="http://www.dverivolhovec.ru/photos/page144/page147/page160/sosna_der2.jpg"/>
          <p:cNvPicPr/>
          <p:nvPr/>
        </p:nvPicPr>
        <p:blipFill>
          <a:blip r:embed="rId1"/>
          <a:stretch/>
        </p:blipFill>
        <p:spPr>
          <a:xfrm>
            <a:off x="2843280" y="1413000"/>
            <a:ext cx="3457440" cy="52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оугольник 3"/>
          <p:cNvSpPr/>
          <p:nvPr/>
        </p:nvSpPr>
        <p:spPr>
          <a:xfrm>
            <a:off x="0" y="1700280"/>
            <a:ext cx="9144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прос 4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лесные доро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дождя дольше не просыхают, чем в пол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Прямоугольник 3"/>
          <p:cNvSpPr/>
          <p:nvPr/>
        </p:nvSpPr>
        <p:spPr>
          <a:xfrm>
            <a:off x="0" y="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тве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 ветра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этому испарение меньш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2" descr="http://read.kamensky.ru/20080710/109.jpg"/>
          <p:cNvPicPr/>
          <p:nvPr/>
        </p:nvPicPr>
        <p:blipFill>
          <a:blip r:embed="rId1"/>
          <a:stretch/>
        </p:blipFill>
        <p:spPr>
          <a:xfrm>
            <a:off x="1187280" y="2133720"/>
            <a:ext cx="66978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Прямоугольник 3"/>
          <p:cNvSpPr/>
          <p:nvPr/>
        </p:nvSpPr>
        <p:spPr>
          <a:xfrm>
            <a:off x="0" y="170028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прос 5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древесины какого дерева делают спичк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Прямоугольник 3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тве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2" descr="http://www.e-sunduchok.ru/imagess/products/1627/1627925/product.jpg?1356429838"/>
          <p:cNvPicPr/>
          <p:nvPr/>
        </p:nvPicPr>
        <p:blipFill>
          <a:blip r:embed="rId1"/>
          <a:stretch/>
        </p:blipFill>
        <p:spPr>
          <a:xfrm>
            <a:off x="2700360" y="1916280"/>
            <a:ext cx="403236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3"/>
          <p:cNvSpPr/>
          <p:nvPr/>
        </p:nvSpPr>
        <p:spPr>
          <a:xfrm>
            <a:off x="0" y="1700280"/>
            <a:ext cx="9144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прос 6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евесина каких деревьев идё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изготовление бума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искусственного шёлк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Прямоугольник 3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тве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ь, сос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2" descr="http://www.botanichka.ru/wp-content/uploads/2010/09/Norway-Spruce-520x693.jpg"/>
          <p:cNvPicPr/>
          <p:nvPr/>
        </p:nvPicPr>
        <p:blipFill>
          <a:blip r:embed="rId1"/>
          <a:stretch/>
        </p:blipFill>
        <p:spPr>
          <a:xfrm>
            <a:off x="826920" y="1484280"/>
            <a:ext cx="3459240" cy="46087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http://img0.liveinternet.ru/images/attach/c/1/62/552/62552913_1281447051_65451.jpg"/>
          <p:cNvPicPr/>
          <p:nvPr/>
        </p:nvPicPr>
        <p:blipFill>
          <a:blip r:embed="rId2"/>
          <a:stretch/>
        </p:blipFill>
        <p:spPr>
          <a:xfrm>
            <a:off x="4284720" y="2349360"/>
            <a:ext cx="4013280" cy="30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C:\Users\Татьяна\Documents\2012-2013\Мероприятия\ЛДП\5-06-13_Международный день охраны окружающей среды\30_01_13_3.jpg"/>
          <p:cNvPicPr/>
          <p:nvPr/>
        </p:nvPicPr>
        <p:blipFill>
          <a:blip r:embed="rId1"/>
          <a:stretch/>
        </p:blipFill>
        <p:spPr>
          <a:xfrm>
            <a:off x="826920" y="1341360"/>
            <a:ext cx="7508880" cy="4221360"/>
          </a:xfrm>
          <a:prstGeom prst="rect">
            <a:avLst/>
          </a:prstGeom>
          <a:ln w="0">
            <a:noFill/>
          </a:ln>
        </p:spPr>
      </p:pic>
      <p:sp>
        <p:nvSpPr>
          <p:cNvPr id="233" name="Прямоугольник 4"/>
          <p:cNvSpPr/>
          <p:nvPr/>
        </p:nvSpPr>
        <p:spPr>
          <a:xfrm>
            <a:off x="0" y="565776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Что Землю нужно тоже охранять!</a:t>
            </a:r>
            <a:br>
              <a:rPr sz="3200"/>
            </a:br>
            <a:r>
              <a:rPr b="1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на, как мы, такая же – жива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5"/>
          <p:cNvSpPr/>
          <p:nvPr/>
        </p:nvSpPr>
        <p:spPr>
          <a:xfrm>
            <a:off x="0" y="1890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Пора бы человечеству понять, </a:t>
            </a:r>
            <a:br>
              <a:rPr sz="3200"/>
            </a:br>
            <a:r>
              <a:rPr b="1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Богатства у Природы собир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Прямоугольник 3"/>
          <p:cNvSpPr/>
          <p:nvPr/>
        </p:nvSpPr>
        <p:spPr>
          <a:xfrm>
            <a:off x="3146400" y="0"/>
            <a:ext cx="287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99b9b"/>
                </a:solidFill>
                <a:latin typeface="Times New Roman"/>
                <a:ea typeface="Times New Roman"/>
              </a:rPr>
              <a:t>Конкурс №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99b9b"/>
                </a:solidFill>
                <a:latin typeface="Times New Roman"/>
                <a:ea typeface="Times New Roman"/>
              </a:rPr>
              <a:t>«Экознак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2" descr="C:\Users\Татьяна\Documents\2012-2013\Мероприятия\ЛДП\5-06-13_Международный день охраны окружающей среды\87967906_den_okruzhayuschey_sreduy.gif"/>
          <p:cNvPicPr/>
          <p:nvPr/>
        </p:nvPicPr>
        <p:blipFill>
          <a:blip r:embed="rId1"/>
          <a:stretch/>
        </p:blipFill>
        <p:spPr>
          <a:xfrm>
            <a:off x="2050920" y="1268280"/>
            <a:ext cx="5218200" cy="52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Прямоугольник 3"/>
          <p:cNvSpPr/>
          <p:nvPr/>
        </p:nvSpPr>
        <p:spPr>
          <a:xfrm>
            <a:off x="0" y="170028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прос 1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каким дерев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чется суслик во время дожд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Прямоугольник 3"/>
          <p:cNvSpPr/>
          <p:nvPr/>
        </p:nvSpPr>
        <p:spPr>
          <a:xfrm>
            <a:off x="0" y="0"/>
            <a:ext cx="9144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тве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слики во время дожд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чутся в норы, т. к. в степи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они живут, деревьев н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2" descr="http://img0.liveinternet.ru/images/attach/c/7/95/15/95015422_26.jpg"/>
          <p:cNvPicPr/>
          <p:nvPr/>
        </p:nvPicPr>
        <p:blipFill>
          <a:blip r:embed="rId1"/>
          <a:stretch/>
        </p:blipFill>
        <p:spPr>
          <a:xfrm>
            <a:off x="1258920" y="2695680"/>
            <a:ext cx="666756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Прямоугольник 3"/>
          <p:cNvSpPr/>
          <p:nvPr/>
        </p:nvSpPr>
        <p:spPr>
          <a:xfrm>
            <a:off x="0" y="17002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прос 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но ли о воду порезать рук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Прямоугольник 3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тве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, когда она превращается в лё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2" descr="http://99px.ru/sstorage/56/2012/07/image_561007121133583725177.jpg"/>
          <p:cNvPicPr/>
          <p:nvPr/>
        </p:nvPicPr>
        <p:blipFill>
          <a:blip r:embed="rId1"/>
          <a:stretch/>
        </p:blipFill>
        <p:spPr>
          <a:xfrm>
            <a:off x="1116000" y="1557360"/>
            <a:ext cx="69404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Прямоугольник 3"/>
          <p:cNvSpPr/>
          <p:nvPr/>
        </p:nvSpPr>
        <p:spPr>
          <a:xfrm>
            <a:off x="3146400" y="0"/>
            <a:ext cx="287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99b9b"/>
                </a:solidFill>
                <a:latin typeface="Times New Roman"/>
                <a:ea typeface="Times New Roman"/>
              </a:rPr>
              <a:t>Конкурс №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99b9b"/>
                </a:solidFill>
                <a:latin typeface="Times New Roman"/>
                <a:ea typeface="Times New Roman"/>
              </a:rPr>
              <a:t>«Экоблиц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2" descr="C:\Users\Татьяна\Documents\2012-2013\Мероприятия\ЛДП\5-06-13_Международный день охраны окружающей среды\environmental-protection.jpg"/>
          <p:cNvPicPr/>
          <p:nvPr/>
        </p:nvPicPr>
        <p:blipFill>
          <a:blip r:embed="rId1"/>
          <a:stretch/>
        </p:blipFill>
        <p:spPr>
          <a:xfrm>
            <a:off x="1116000" y="1484280"/>
            <a:ext cx="698508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Прямоугольник 3"/>
          <p:cNvSpPr/>
          <p:nvPr/>
        </p:nvSpPr>
        <p:spPr>
          <a:xfrm>
            <a:off x="0" y="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прос 1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и знакомые принес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ачу зайчонка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ого нашли в лесу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хотят за ним ухаживат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ты оцениваешь их поступок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2" descr="http://img0.liveinternet.ru/images/attach/c/2/66/542/66542237_111310_1157_1.jpg"/>
          <p:cNvPicPr/>
          <p:nvPr/>
        </p:nvPicPr>
        <p:blipFill>
          <a:blip r:embed="rId1"/>
          <a:stretch/>
        </p:blipFill>
        <p:spPr>
          <a:xfrm>
            <a:off x="2627280" y="4159080"/>
            <a:ext cx="421020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Прямоугольник 3"/>
          <p:cNvSpPr/>
          <p:nvPr/>
        </p:nvSpPr>
        <p:spPr>
          <a:xfrm>
            <a:off x="0" y="0"/>
            <a:ext cx="9144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прос 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 пошёл с друзьями в лес. Увидев мухоморы и поганки, ребята стали их сбива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топтать ногам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кажите своё мн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этому повод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2" descr="http://forum.vitawater.ru/sites/default/files/imagepicker/24418/005-5.jpg"/>
          <p:cNvPicPr/>
          <p:nvPr/>
        </p:nvPicPr>
        <p:blipFill>
          <a:blip r:embed="rId1"/>
          <a:stretch/>
        </p:blipFill>
        <p:spPr>
          <a:xfrm>
            <a:off x="3348000" y="4724280"/>
            <a:ext cx="24019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Прямоугольник 3"/>
          <p:cNvSpPr/>
          <p:nvPr/>
        </p:nvSpPr>
        <p:spPr>
          <a:xfrm>
            <a:off x="0" y="0"/>
            <a:ext cx="9144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прос 3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 увидел упавше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гнезда птенц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ы предпримешь?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2" descr="http://www.fotokonkurs.ru/uploads/photos/contests/2011/11/14/5/bfb11d1f96fe8e0ea7e4f69240ac19fa/800.jpg"/>
          <p:cNvPicPr/>
          <p:nvPr/>
        </p:nvPicPr>
        <p:blipFill>
          <a:blip r:embed="rId1"/>
          <a:stretch/>
        </p:blipFill>
        <p:spPr>
          <a:xfrm>
            <a:off x="1835280" y="2708280"/>
            <a:ext cx="524340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Прямоугольник 3"/>
          <p:cNvSpPr/>
          <p:nvPr/>
        </p:nvSpPr>
        <p:spPr>
          <a:xfrm>
            <a:off x="0" y="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ы заканчиваем нашу встреч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 желаю вам хороших знаний по экологи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брого отношения с природ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тобы в вашей жизни не бы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и экологических угро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и экологических катастроф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C:\Users\Татьяна\Documents\2012-2013\Мероприятия\ЛДП\5-06-13_Международный день охраны окружающей среды\getres.php.jpg"/>
          <p:cNvPicPr/>
          <p:nvPr/>
        </p:nvPicPr>
        <p:blipFill>
          <a:blip r:embed="rId1"/>
          <a:stretch/>
        </p:blipFill>
        <p:spPr>
          <a:xfrm>
            <a:off x="1763640" y="2997360"/>
            <a:ext cx="568800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Прямоугольник 3"/>
          <p:cNvSpPr/>
          <p:nvPr/>
        </p:nvSpPr>
        <p:spPr>
          <a:xfrm>
            <a:off x="0" y="53737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Всемирный день охраны окружающей сре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был учреждён Генеральной ассамблеей ООН в 1972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и с тех пор отмечается всем мировым сообществом ежегод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оугольник 4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«Либо мы покончим с загрязнением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ибо оно покончит с нами…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C:\Users\Татьяна\Documents\2012-2013\Мероприятия\ЛДП\5-06-13_Международный день охраны окружающей среды\83473266_large_object_88110907607035254.gif"/>
          <p:cNvPicPr/>
          <p:nvPr/>
        </p:nvPicPr>
        <p:blipFill>
          <a:blip r:embed="rId1"/>
          <a:stretch/>
        </p:blipFill>
        <p:spPr>
          <a:xfrm>
            <a:off x="1763640" y="1125360"/>
            <a:ext cx="555012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Прямоугольник 3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ПАСИБО ЗА ВНИМАНИЕ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3" descr="C:\Users\Татьяна\Documents\2012-2013\Мероприятия\ЛДП\5-06-13_Международный день охраны окружающей среды\den_ecologa6.jpg"/>
          <p:cNvPicPr/>
          <p:nvPr/>
        </p:nvPicPr>
        <p:blipFill>
          <a:blip r:embed="rId1"/>
          <a:stretch/>
        </p:blipFill>
        <p:spPr>
          <a:xfrm>
            <a:off x="2124000" y="1557360"/>
            <a:ext cx="455940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Прямоугольник 3"/>
          <p:cNvSpPr/>
          <p:nvPr/>
        </p:nvSpPr>
        <p:spPr>
          <a:xfrm>
            <a:off x="0" y="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рода – мать всего живого, в том числе и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то ещё, кроме детей, станет заботиться о здоров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 благополучии своей матер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то ещё, как не человек, обязан охранять и защищать природу, как это ни парадоксально, от самого себ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2" descr="C:\Users\Татьяна\Documents\2012-2013\Мероприятия\ЛДП\5-06-13_Международный день охраны окружающей среды\motivator-4518.jpg"/>
          <p:cNvPicPr/>
          <p:nvPr/>
        </p:nvPicPr>
        <p:blipFill>
          <a:blip r:embed="rId1"/>
          <a:stretch/>
        </p:blipFill>
        <p:spPr>
          <a:xfrm>
            <a:off x="1332000" y="1916280"/>
            <a:ext cx="657360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Прямоугольник 3"/>
          <p:cNvSpPr/>
          <p:nvPr/>
        </p:nvSpPr>
        <p:spPr>
          <a:xfrm>
            <a:off x="0" y="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99b9b"/>
                </a:solidFill>
                <a:latin typeface="Times New Roman"/>
                <a:ea typeface="Times New Roman"/>
              </a:rPr>
              <a:t>Ежегодное празднование Всемирного дня окружающей среды помогает привлечь внимание общ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99b9b"/>
                </a:solidFill>
                <a:latin typeface="Times New Roman"/>
                <a:ea typeface="Times New Roman"/>
              </a:rPr>
              <a:t>к проблемам окружающей сре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99b9b"/>
                </a:solidFill>
                <a:latin typeface="Times New Roman"/>
                <a:ea typeface="Times New Roman"/>
              </a:rPr>
              <a:t>и подчёркивает острую необходим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99b9b"/>
                </a:solidFill>
                <a:latin typeface="Times New Roman"/>
                <a:ea typeface="Times New Roman"/>
              </a:rPr>
              <a:t>в изменении отношения человека к природным ресурс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2" descr="C:\Users\Татьяна\Documents\2012-2013\Мероприятия\ЛДП\5-06-13_Международный день охраны окружающей среды\74996606_SS02.jpg"/>
          <p:cNvPicPr/>
          <p:nvPr/>
        </p:nvPicPr>
        <p:blipFill>
          <a:blip r:embed="rId1"/>
          <a:stretch/>
        </p:blipFill>
        <p:spPr>
          <a:xfrm>
            <a:off x="2771640" y="1844640"/>
            <a:ext cx="334980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Прямоугольник 3"/>
          <p:cNvSpPr/>
          <p:nvPr/>
        </p:nvSpPr>
        <p:spPr>
          <a:xfrm>
            <a:off x="0" y="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гости к живой природе мы отправимся сегодн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 нашего символического экодром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чему именно экодром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тому что сегодняшний наш разговор об общении с природой –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это маленькая стартовая площадка для путешествия в ми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ольшой экологии – одной из самых важных наук XXI ве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2" descr="C:\Users\Татьяна\Documents\2012-2013\Мероприятия\ЛДП\5-06-13_Международный день охраны окружающей среды\30471Hx.jpg"/>
          <p:cNvPicPr/>
          <p:nvPr/>
        </p:nvPicPr>
        <p:blipFill>
          <a:blip r:embed="rId1"/>
          <a:stretch/>
        </p:blipFill>
        <p:spPr>
          <a:xfrm>
            <a:off x="2195640" y="2108160"/>
            <a:ext cx="474012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Прямоугольник 3"/>
          <p:cNvSpPr/>
          <p:nvPr/>
        </p:nvSpPr>
        <p:spPr>
          <a:xfrm>
            <a:off x="2344320" y="0"/>
            <a:ext cx="447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99b9b"/>
                </a:solidFill>
                <a:latin typeface="Times New Roman"/>
                <a:ea typeface="Times New Roman"/>
              </a:rPr>
              <a:t>Конкурс №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99b9b"/>
                </a:solidFill>
                <a:latin typeface="Times New Roman"/>
                <a:ea typeface="Times New Roman"/>
              </a:rPr>
              <a:t>«Лесная викторин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2" descr="C:\Users\Татьяна\Documents\2012-2013\Мероприятия\ЛДП\5-06-13_Международный день охраны окружающей среды\4BeRpaiYd3s.jpg"/>
          <p:cNvPicPr/>
          <p:nvPr/>
        </p:nvPicPr>
        <p:blipFill>
          <a:blip r:embed="rId1"/>
          <a:stretch/>
        </p:blipFill>
        <p:spPr>
          <a:xfrm>
            <a:off x="684360" y="1268280"/>
            <a:ext cx="777528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Прямоугольник 3"/>
          <p:cNvSpPr/>
          <p:nvPr/>
        </p:nvSpPr>
        <p:spPr>
          <a:xfrm>
            <a:off x="0" y="206064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прос 1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хвойное дере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брасывает на зиму хвою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Прямоугольник 3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тве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твенн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2" descr="http://www.theallineed.com/medicine/10081213g.jpg"/>
          <p:cNvPicPr/>
          <p:nvPr/>
        </p:nvPicPr>
        <p:blipFill>
          <a:blip r:embed="rId1"/>
          <a:stretch/>
        </p:blipFill>
        <p:spPr>
          <a:xfrm>
            <a:off x="2771640" y="1557360"/>
            <a:ext cx="365148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04T06:02:58Z</dcterms:created>
  <dc:creator>Татьяна</dc:creator>
  <dc:description/>
  <dc:language>en-US</dc:language>
  <cp:lastModifiedBy>Windows User</cp:lastModifiedBy>
  <dcterms:modified xsi:type="dcterms:W3CDTF">2019-10-19T20:50:41Z</dcterms:modified>
  <cp:revision>32</cp:revision>
  <dc:subject/>
  <dc:title>5 ИЮНЯ – МЕЖДУНАРОДНЫЙ ДЕНЬ ОХРАНЫ ОКРУЖАЮЩЕЙ СРЕДЫ. ДЕНЬ ЭКОЛОГА.</dc:title>
</cp:coreProperties>
</file>