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8B5C4-26D3-44AD-8788-6BAD1B3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AE517-8B71-4292-A99C-ED54C41F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3DD18-7302-4EC8-AC51-6B2C66DB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76D9B-0AA7-47AE-ABAB-F12CF032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EB0BA-23BC-4674-A2E7-2E1461E7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8D0DB-F193-4963-818E-93F20741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1D540-5437-401D-846B-840DA4CC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CF92F-4BF0-4841-A9D0-C92E63B4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860C7-8AA9-42A3-AF76-D7DB8B7B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090DB-6038-4900-84EB-0901846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F947E-79E8-4CC8-A1F1-5A7D015E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FEF4A-1B04-42ED-9037-E5AE2F64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948EE-366E-4A18-8A7A-096D0D34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5DF26-5E12-452F-B023-E86EB83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922F4-AAD3-4E3D-9D5F-067C73F0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1F8A5-830D-417B-9D7B-877D503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D501E-252E-4E2A-A1AC-5D3C3AE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6CA8E-AD78-42D7-B9C3-EB987AB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266B0-BC97-41FD-8C50-01149254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C3FC1-30C1-41E0-ACE2-D1A30708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BE873-DF1F-4B88-8116-C99A0447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62CBB-0EE4-4355-BD7A-0E911D79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52CD2-0680-4CCA-AF0B-397D18E3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7B420-F8FA-4D18-A893-DDCF3D69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B1EEE-7BE8-45B0-BF87-6C50D520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1FE00-9D71-4906-89E8-55ED31B3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0736B-FA91-4406-B967-9E400B01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3060B-9569-4147-AE28-33D21EC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15619-A96E-47DB-A4B4-3CB8C30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C5FAC-FA21-42A9-8D0A-379FC990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254-6E20-403E-B1DA-8F8873FA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D8B1D-D3B7-4727-B9F7-BD266D6D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D7AFE-526A-45B4-B1A5-D3573E7F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CE0DF-AFFA-4F60-8513-154B5881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EE4-C1DB-4345-A56B-102015DC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39D-4825-46DA-A4B7-91B6149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46D-3DE0-437A-85DF-83A51EEB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2C2-C6EA-4933-90E0-D1715515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C29-9D28-4AC4-82C7-41436888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297-14E2-4449-A7F1-772BCE6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C94-2C39-42E6-8CAB-393310E1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368-1742-4DAA-958C-E1BF4C8C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C3C-342D-4E0B-B487-A57FD127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AA0-5221-4BAA-8792-DBD570C7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7FE-2711-4AFE-8D7C-62B45117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A023-9112-4064-A255-3AB8C1E3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9E7E-0D6C-42EC-BC16-0A69058B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12CC-A5D3-4D6B-8FC2-276C75DD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18BB-8D61-43F9-8BA8-A05F61B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EF6E-A5C1-49DB-A525-3FC1D01A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18EC-DB47-4CF1-8B1D-251B1349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9B0B-B9C5-458A-834E-B762605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342D-47E4-4F52-8D1B-E5E8F07A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97E9-D869-4146-B0ED-D7D5AEB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CAB2-11AD-4BA7-8D69-1799E3B4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A8F6-40FE-467C-8219-A9FCC29B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5E7A-D5BB-44E9-8843-684C60FA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4409-52E2-46CB-825B-DE6F03C9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4766-17D0-4F26-A033-045EF653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DD80D-CDCF-4301-A572-06806E20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0323-A76B-4A20-AF1A-6DD65277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3803-FD4D-4DC3-84D4-F5341B97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89A7-8205-40BE-A074-BA4EBAC0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B629-22AE-4197-AE79-D49850D5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3228-0AA4-4515-B6A7-F8560C7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5EE8-709F-4499-BFF1-471E7387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E9E4-D82F-4A1A-99F9-953AC386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CC33-C157-4B8F-BB15-1DB7CD1A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01ED-3C7E-4862-A06E-BF5831D3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2271-015C-49DB-BAF9-14797C6E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FD06-2BD8-4D00-803F-B9EDF39E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92936-4811-4480-B844-AEE8B66E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D80D-7C37-4A61-912C-6F3D5F4A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ED20-69A6-49A7-8BE3-ED61F075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1F47A-1DF8-4179-A5BC-AF203669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BBF8-F8E6-42D4-945B-50183BD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53E4-09E6-4BCB-8A00-A7B41A0D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50F30-1D89-4BF9-954C-CA609798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EC48-3808-4960-BCC1-77A3AF48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1DC9-59C8-4DA3-A282-240591F2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33F2-CD08-4211-9B13-AD74358A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B4067-F04C-45A8-9221-5CE4EAD1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4BDB-A25F-4D3F-9FF0-BCF1D8C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2838-5D1A-4F75-868F-E42C2CA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BDBB-2E4F-4ACF-97F4-20D90EF2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658A-286D-45DA-9377-88E9A7FF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3DB6-4A5A-4027-8441-94FA8025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2B6D-C72E-426D-8776-41D8FF1F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1B2B1-8924-4D78-AA73-38D2ED9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F153D-9CEF-42DE-ACC1-A855E412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8CA7-5C9B-4098-AC4F-51B21008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4C9F-F6C9-4F69-88F9-B1FA12A2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68AFC-4032-4FF2-ADD3-4C4B8586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ADFFE-DBCF-4779-8135-86612D89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894B-1382-4AF9-94F6-03E43012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B64B1-B244-46FC-A86E-2B18788F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6171F-E417-49C2-965D-90904361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FBD4-2B36-4CB7-9318-2F6CC4A7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5A85-BD8D-447D-926C-9D8B050C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8EBC-3FCF-4BF1-9D63-DC812271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AE55F-B0C7-4B08-80EE-3366E029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B47DC-32C8-4E4D-A10F-B9602D1F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45A08-9FE4-412B-9816-8732021E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71484-4B29-499F-9B7E-E91ED356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EED5A-6DF1-4BC6-A419-0D7A2A43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2B75E-00AC-4D7B-854D-55E376FD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3DF34-E1FA-40D5-9F1D-E70E8477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8B9FB-804E-4882-88BC-D03490C1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9AA25-5C43-42EB-9AE6-E9A3722F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3EEE4-B0A1-4498-B52C-48CAD80D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C2A7-76DC-45B0-8A1F-A6DC8085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6562-9D33-4DE4-B599-3CF60032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2483D-11CD-4B96-AC98-26A97B0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64AFF-6DD8-4F90-A409-EBE1C4C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E2C3C-E98E-46F5-AFEE-3B680565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CD34-714C-466E-81F3-88BEE27D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17A2A-5D39-4854-BF6B-03DAD84E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C08BE-3286-41D2-92D4-0EAAA182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F20CD-E8BE-46AA-89C9-45C1719B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ACAC8-0B46-4E60-92C1-A51B0570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F21A-8AFC-4F8E-891C-8772293ACF4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58E3-EA55-4716-921B-8FCF33AFE7F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D502-929F-4CD7-8B55-27A1DA8FF54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0E47-7EAD-444E-AB2D-1FC7A034DB4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727F-5B21-4CA2-89AB-9B21BB26876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CF9B-DA7B-4960-AE8E-9C8E1E5E169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E75F-C11E-407C-A9AD-DAAD5A3AB22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8112-0CB3-4A68-B311-46488DF08AC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9F4A-4133-49DE-B2AC-4A84249D82B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A7B9-4BF1-4EFE-9976-D5FED5E6684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usf.ru/vk/" TargetMode="External"/><Relationship Id="rId3" Type="http://schemas.openxmlformats.org/officeDocument/2006/relationships/hyperlink" Target="https://ru.wikipedia.org/" TargetMode="External"/><Relationship Id="rId4" Type="http://schemas.openxmlformats.org/officeDocument/2006/relationships/hyperlink" Target="https://www.labirint.ru/reviews/goods/437324/" TargetMode="External"/><Relationship Id="rId5" Type="http://schemas.openxmlformats.org/officeDocument/2006/relationships/hyperlink" Target="https://vk.com/vladislavkrapivin" TargetMode="External"/><Relationship Id="rId6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одзаголовок 2"/>
          <p:cNvSpPr/>
          <p:nvPr/>
        </p:nvSpPr>
        <p:spPr>
          <a:xfrm>
            <a:off x="1258920" y="4437000"/>
            <a:ext cx="7058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1859b"/>
                </a:solidFill>
                <a:latin typeface="Palatino Linotype"/>
              </a:rPr>
              <a:t>(Для детей школьного, послешкольного и пенсионного возра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1859b"/>
                </a:solidFill>
                <a:latin typeface="Palatino Linotype"/>
              </a:rPr>
              <a:t>По страницам книг Владислава Крапив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635280" y="620280"/>
            <a:ext cx="4975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504d"/>
                </a:solidFill>
                <a:latin typeface="Palatino Linotype"/>
              </a:rPr>
              <a:t>"Трое с площади Карронад"</a:t>
            </a:r>
            <a:r>
              <a:rPr b="1" lang="ru-RU" sz="2200" spc="-1" strike="noStrike">
                <a:solidFill>
                  <a:srgbClr val="19434f"/>
                </a:solidFill>
                <a:latin typeface="Palatino Linotype"/>
              </a:rPr>
              <a:t> - поэма о Городе у самого синего на свете моря и о настоящей мальчишеской дружб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434f"/>
                </a:solidFill>
                <a:latin typeface="Palatino Linotype"/>
              </a:rPr>
              <a:t>	</a:t>
            </a:r>
            <a:r>
              <a:rPr b="1" lang="ru-RU" sz="2200" spc="-1" strike="noStrike">
                <a:solidFill>
                  <a:srgbClr val="19434f"/>
                </a:solidFill>
                <a:latin typeface="Palatino Linotype"/>
              </a:rPr>
              <a:t>…</a:t>
            </a:r>
            <a:r>
              <a:rPr b="1" lang="ru-RU" sz="2200" spc="-1" strike="noStrike">
                <a:solidFill>
                  <a:srgbClr val="19434f"/>
                </a:solidFill>
                <a:latin typeface="Palatino Linotype"/>
              </a:rPr>
              <a:t>Пятиклассник Славка Семибратов грезит о кораблях, яхтах, парусниках, изучает морские сигналы и всё свободное время проводит на небольшом озере – единственном водоёме в его родном городе. И вот, наконец, сбывается Славкина мечта – он вместе с мамой переезжает в приморский город, где всё связано с морем и флотом и где его ждут настоящие верные друзья, опасные испытания и захватывающие приключения...</a:t>
            </a:r>
            <a:r>
              <a:rPr b="1" lang="ru-RU" sz="2300" spc="-1" strike="noStrike">
                <a:solidFill>
                  <a:srgbClr val="19434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02904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504d"/>
                </a:solidFill>
                <a:latin typeface="Palatino Linotype"/>
              </a:rPr>
              <a:t>"Трое с площади Карронад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46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«Они были почти такие, какими представил их Славка, впервые оказавшись на площади Карронад. Только третий — в съехавшем набок галстуке, со сбившимся бинтом на колене, с приподнятыми ветром волосами — не был угрюмым. Он смотрел спокойно и открыто. Они все смотрели спокойно и открыто - маленький артиллерист со старинных бастионов, двенадцатилетний юнга из морской пехоты и нынешний мальчишка из ближней школы. В их лицах не было суровости. Но улыбок тоже не было.»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203800" y="836640"/>
            <a:ext cx="3419640" cy="5289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Цикл </a:t>
            </a:r>
            <a:r>
              <a:rPr b="1" lang="ru-RU" sz="1800" spc="-1" strike="noStrike">
                <a:solidFill>
                  <a:srgbClr val="c0504d"/>
                </a:solidFill>
                <a:latin typeface="Palatino Linotype"/>
              </a:rPr>
              <a:t>“В глубине Великого Кристалла”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создавался, начиная с 1988 г., когда появились </a:t>
            </a:r>
            <a:r>
              <a:rPr b="1" lang="ru-RU" sz="1800" spc="-1" strike="noStrike">
                <a:solidFill>
                  <a:srgbClr val="266678"/>
                </a:solidFill>
                <a:latin typeface="Palatino Linotype"/>
              </a:rPr>
              <a:t>“Выстрел с монитора”, “Гуси-гуси,га-га-га”.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266678"/>
                </a:solidFill>
                <a:latin typeface="Palatino Linotype"/>
              </a:rPr>
              <a:t>“Застава на якорном поле”,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266678"/>
                </a:solidFill>
                <a:latin typeface="Palatino Linotype"/>
              </a:rPr>
              <a:t>“Крик петуха”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1" lang="ru-RU" sz="1800" spc="-1" strike="noStrike">
                <a:solidFill>
                  <a:srgbClr val="266678"/>
                </a:solidFill>
                <a:latin typeface="Palatino Linotype"/>
              </a:rPr>
              <a:t>“Белый шарик матроса Вильсона”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продолжили его в 1989 г. Это цикл фантастических повестей, объединённых общей картиной метавселенной, имеющей форму кристалла, каждая грань которого является отдельной вселенной. Ведущую роль в произведениях цикла играют дети, имеющие особые способности, позволяющие им проникать в параллельные вселенные. Особая роль отводится сообществу Хранителей – Командоров, призванному охранять таких детей. На примере вымышленного мира автором рассматриваются проблемы реального мира – беспризорность, насилие над детьми и их защита от произвола. Ещё одним лейтмотивом произведений цикла является отношение матери и ребёнка, тоска детей по родителям, с которыми они так или иначе разлуче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8497800" cy="174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5508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Palatino Linotype"/>
              </a:rPr>
              <a:t>Особым образом тему антиутопии затрагивает </a:t>
            </a:r>
            <a:r>
              <a:rPr b="1" lang="ru-RU" sz="2000" spc="-1" strike="noStrike">
                <a:solidFill>
                  <a:srgbClr val="c0504d"/>
                </a:solidFill>
                <a:latin typeface="Palatino Linotype"/>
              </a:rPr>
              <a:t>"Застава на Якорном поле".</a:t>
            </a:r>
            <a:r>
              <a:rPr b="1" lang="ru-RU" sz="1900" spc="-1" strike="noStrike">
                <a:solidFill>
                  <a:srgbClr val="000000"/>
                </a:solidFill>
                <a:latin typeface="Palatino Linotype"/>
              </a:rPr>
              <a:t> Гигантский мегаполис, благоустроенное и гуманное общество. Но основной мотив "Заставы" – никакое общество не спасет человека, если он одинок и ему плохо. Даже если он обладает невероятными способностями. Чувством одиночества ребенка, потерявшего родителей в огромном благополучном городе пронизаны страницы повест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Palatino Linotype"/>
              </a:rPr>
              <a:t>Двенадцатилетнему Матвею Радомиру по прозвищу «Ёжики» сообщили о гибели мамы и поместили его в интернат для детей, наделённых необычными способностями. Когда Матвей почти примирился со своей потерей и своей новой жизнью, он услышал маму и отправился на её поиски. Ёжики удаётся </a:t>
            </a:r>
            <a:r>
              <a:rPr b="1" i="1" lang="ru-RU" sz="1900" spc="-1" strike="noStrike">
                <a:solidFill>
                  <a:srgbClr val="000000"/>
                </a:solidFill>
                <a:latin typeface="Palatino Linotype"/>
              </a:rPr>
              <a:t>прямой переход</a:t>
            </a:r>
            <a:r>
              <a:rPr b="1" lang="ru-RU" sz="1900" spc="-1" strike="noStrike">
                <a:solidFill>
                  <a:srgbClr val="000000"/>
                </a:solidFill>
                <a:latin typeface="Palatino Linotype"/>
              </a:rPr>
              <a:t> — он попадает в мир, где находится Якорное поле и где теперь живёт его мам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5651640" y="765000"/>
            <a:ext cx="303192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79280" y="2923920"/>
            <a:ext cx="8569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вести о Великом Кристалле — увлекательные приключенческие произведения, некоторые из них близки жанру триллера. Писатель умело строит сюжет: головокружительные перемещения в пространстве и во времени, загадки и тайны, погони — все это держит читателя в постоянном напряжении. Но лихо закрученная приключенческая интрига — не самоцель для Крапивина, а желание автора в доступной для читателя форме донести простую, как мир, истину: нет ничего ценнее человеческой жизни, в первую очередь — жизни ребенка. Ибо ребенок — существо слабое и беззащитное, даже когда он владеет приемами телепортации, левитации и телекинеза, а переместиться из одного пространства в другое ему легче, чем открыть дверь в соседнюю комна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2857680" cy="25909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2592360" cy="2570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"По моему мнению, современному подростку не хватает некоего нравственного стержня, понятия о рыцарстве, мальчишеском благородстве... Ему не хватает твердости характера, убеждений, стремления к самостоятельности решений и поступков. Начиная с повести "Мальчик со шпагой", я хочу создать образ современного мальчишки таким, каким я его вижу, хотел бы видеть. Это не рыцарь без страха и упрека, он может и поплакать, и даже бояться чего-нибудь, но в критический момент он обнажит шпагу и сразится против несправедливости, подлости. Он поступит так из-за убеждений" (В.Крапивин. Впереди по курсу - будущее. 1982 г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f497d"/>
                </a:solidFill>
                <a:latin typeface="Bookman Old Style"/>
              </a:rPr>
              <a:t>Презентацию подготови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f497d"/>
                </a:solidFill>
                <a:latin typeface="Bookman Old Style"/>
              </a:rPr>
              <a:t>Чеченева М.Д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f497d"/>
                </a:solidFill>
                <a:latin typeface="Bookman Old Style"/>
              </a:rPr>
              <a:t>учитель русского языка и  литератур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f497d"/>
                </a:solidFill>
                <a:latin typeface="Bookman Old Style"/>
              </a:rPr>
              <a:t>МКОУ Братковской СО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Список литературы и Интенет-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рапивин В.П. Собрание сочинений. Кн. 27. Шестая Бастионная: Повести, рассказы. – М.: Центр-полиграф, 200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рапивин В.П. Трое с площади Карронад. М.; Издательский дом Мещерякова, 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185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1859b"/>
                </a:solidFill>
                <a:uFillTx/>
                <a:latin typeface="Palatino Linotype"/>
                <a:hlinkClick r:id="rId2"/>
              </a:rPr>
              <a:t>http://www.rusf.ru/vk/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185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1859b"/>
                </a:solidFill>
                <a:uFillTx/>
                <a:latin typeface="Palatino Linotype"/>
                <a:hlinkClick r:id="rId3"/>
              </a:rPr>
              <a:t>https://ru.wikipedia.org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185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1859b"/>
                </a:solidFill>
                <a:uFillTx/>
                <a:latin typeface="Palatino Linotype"/>
                <a:hlinkClick r:id="rId4"/>
              </a:rPr>
              <a:t>https://www.labirint.ru/reviews/goods/437324/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185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1859b"/>
                </a:solidFill>
                <a:uFillTx/>
                <a:latin typeface="Palatino Linotype"/>
                <a:hlinkClick r:id="rId5"/>
              </a:rPr>
              <a:t>https://vk.com/vladislavkrapivin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Спасибо за внимание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038840" cy="2941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4859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en-US" sz="3000" spc="-1" strike="noStrike">
                <a:solidFill>
                  <a:srgbClr val="163c46"/>
                </a:solidFill>
                <a:latin typeface="Palatino Linotype"/>
              </a:rPr>
              <a:t>Владислав Петрович Крапивин – российский писатель, автор множества интересных произведе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163c46"/>
                </a:solidFill>
                <a:latin typeface="Palatino Linotype"/>
              </a:rPr>
              <a:t>	</a:t>
            </a:r>
            <a:r>
              <a:rPr b="1" i="1" lang="en-US" sz="3000" spc="-1" strike="noStrike">
                <a:solidFill>
                  <a:srgbClr val="163c46"/>
                </a:solidFill>
                <a:latin typeface="Palatino Linotype"/>
              </a:rPr>
              <a:t>для детей и о детя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427640" y="2332080"/>
            <a:ext cx="425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Владислав Петрович Крапивин родился 14 октября 1938 года в Тюме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В этом году мы отмечаем 80-летний юбилей В.П.Крапивина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03884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258920" y="404640"/>
            <a:ext cx="7200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Первая книга Владислава Крапивина </a:t>
            </a:r>
            <a:r>
              <a:rPr b="0" lang="en-US" sz="2200" spc="-1" strike="noStrike">
                <a:solidFill>
                  <a:srgbClr val="163c46"/>
                </a:solidFill>
                <a:latin typeface="Palatino Linotype"/>
              </a:rPr>
              <a:t>"Рейс "Ориона"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вышла в 1962 году в Свердловске. Спустя два года автор был принят в члены Союза писателей СССР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454040" cy="2016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0" y="2205000"/>
            <a:ext cx="86756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В настоящее время у В. Крапивина около двухсот изданий на различных языках. Его книги были включены в "Золотую библиотеку избранных произведений для детей и юношества", "Библиотеку приключений и научной фантастики", "Библиотеку мировой литературы для детей", в японскую 26-томную серию "Избранные сочинения русских писателей для подростков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Книги Владислава Крапивина неоднократно переиздавались в Польше, Чехословакии, Болгарии, Германии, Японии, Венгрии, переводились на английский, испанский, персидский и другие языки.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124000" y="1844640"/>
            <a:ext cx="68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Отвечая на вопрос о том, почему он выбрал именно детскую литературу основным занятием в жизни, Крапивин неизменно говорит: “Дети обычно скорее хотят стать взрослыми, а мне наоборот, хотелось, чтобы подольше было детство... Не хватало собственного детства из-за войны, наверное, поэтому и стал писать о ребятах и для ребят”, и еще - “Мне всегда двенадцать лет”.</a:t>
            </a:r>
            <a:r>
              <a:rPr b="1" i="1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2286000" cy="3430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78920" y="1484280"/>
            <a:ext cx="4032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b"/>
                </a:solidFill>
                <a:latin typeface="Palatino Linotype"/>
              </a:rPr>
              <a:t>	</a:t>
            </a:r>
            <a:r>
              <a:rPr b="1" i="1" lang="ru-RU" sz="2600" spc="-1" strike="noStrike">
                <a:solidFill>
                  <a:srgbClr val="163c46"/>
                </a:solidFill>
                <a:latin typeface="Garamond"/>
              </a:rPr>
              <a:t>Барабаны, паруса, шпаги - неизменные атрибуты его книг, выросшие до уровня символ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63c46"/>
                </a:solidFill>
                <a:latin typeface="Garamond"/>
              </a:rPr>
              <a:t>	</a:t>
            </a:r>
            <a:r>
              <a:rPr b="1" i="1" lang="ru-RU" sz="2600" spc="-1" strike="noStrike">
                <a:solidFill>
                  <a:srgbClr val="163c46"/>
                </a:solidFill>
                <a:latin typeface="Garamond"/>
              </a:rPr>
              <a:t>Романтика - в крови крапивинских героев, которые умеют мечтать, ощущая зов дальних дорог и островов.</a:t>
            </a:r>
            <a:r>
              <a:rPr b="0" i="1" lang="ru-RU" sz="2600" spc="-1" strike="noStrike">
                <a:solidFill>
                  <a:srgbClr val="163c46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3816360" cy="3489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В своих произведениях Крапивин создал легко узнаваемый образ подростка: его мальчишки - “мятежники, повстанцы, защитники, воины, романтики”. Они отличаются нравственной чистотой, справедливостью, обостренным чувством собственного достоинства. Не менее важно, что они энергичны в утверждении своего взгляда на мир, жизненной позиции, способны на Поступок, мужественны и последовательны. Может быть, поэтому герои Крапивина часто “лезут в разные истории”, чтобы защитить свою честь и спасти кого-то от “молний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 rot="501600">
            <a:off x="6588000" y="3428640"/>
            <a:ext cx="1857600" cy="2878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 rot="21143400">
            <a:off x="3419280" y="3428640"/>
            <a:ext cx="2466720" cy="32130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 rot="21435600">
            <a:off x="930240" y="3831840"/>
            <a:ext cx="21668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5940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</a:rPr>
              <a:t>Трилогия </a:t>
            </a:r>
            <a:r>
              <a:rPr b="1" lang="en-US" sz="2400" spc="-1" strike="noStrike">
                <a:solidFill>
                  <a:srgbClr val="c0504d"/>
                </a:solidFill>
                <a:latin typeface="Palatino Linotype"/>
              </a:rPr>
              <a:t>“Мальчик со шпагой”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</a:rPr>
              <a:t> - произведение, в котором наиболее полно воплотилась авторская концепция мира и ребенка в нем. Главный герой - Сережа Каховский - из тех “чудаков” и мечтателей, которые в борьбе за справедливое мироустройство готовы преодолевать любые трудности, а потому их конфликты с собой и с окружающей средой носят сугубо взрослый, серьезный, драматический характер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654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Garamond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c0504d"/>
                </a:solidFill>
                <a:latin typeface="Garamond"/>
                <a:ea typeface="Times New Roman"/>
              </a:rPr>
              <a:t>Та сторона, где ветер"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5111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2200" spc="-1" strike="noStrike">
                <a:solidFill>
                  <a:srgbClr val="19434f"/>
                </a:solidFill>
                <a:latin typeface="Palatino Linotype"/>
              </a:rPr>
              <a:t>Пестрят в небе над посёлком Береговым разноцветные квадратики воздушных змеев. Однажды в небе над посёлком появился большой белый змей, поднялся выше других и не отзывался на воздушные позывные. Разозлённый Генка решает проучить нахального незнакомца - хозяина белого "конверта". Так он знакомится со слепым мальчиком Владиком, и эта встреча становится поворотной в их судьбах. Это повесть о мальчишках с верными и смелыми сердцами, о настоящей дружбе, о том, как научиться любить и понимать друг друга, сопереживать и вовремя приходить на помощь.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141720" cy="417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3T13:11:39Z</dcterms:created>
  <dc:creator>Фокина Лидия Петровна</dc:creator>
  <dc:description/>
  <cp:keywords>Шаблон презентации</cp:keywords>
  <dc:language>en-US</dc:language>
  <cp:lastModifiedBy>21151</cp:lastModifiedBy>
  <dcterms:modified xsi:type="dcterms:W3CDTF">2019-10-20T16:14:04Z</dcterms:modified>
  <cp:revision>51</cp:revision>
  <dc:subject/>
  <dc:title>Киноплёнка</dc:title>
</cp:coreProperties>
</file>