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1096-BEFC-4FA4-851D-AE10580E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1166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579F-DE65-4978-A70E-9439E48F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5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1166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1166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B607-58FE-4272-A52C-ECDFC680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51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51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1166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1166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1166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AD41-0A97-4FEF-9288-919457B72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B956-9235-42CC-9B7A-B04A0E680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B22F-3AC6-49F0-A52D-E14EB19B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1CB8-D782-4EB1-A2A1-A3D3D725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040" y="190512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9825-A36B-4747-811D-0EBAE9BB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097E-1D0D-4ACD-9DCB-7962DB40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EE3E-256F-4A8A-998C-26A84857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040" y="190512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1166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2624-81C1-46D3-8D3B-49E6D7D2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9D8C-0F45-4FCE-96D9-A21474C8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040" y="1905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040" y="41166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C014-18E3-4294-B646-E4DBBE02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040" y="1905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1166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7A40-B364-42D8-972D-32F5D082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1166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6E85-7776-4752-B387-A5879C5A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040" y="1905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1166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040" y="41166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DA57-D3C0-4A11-BE7E-AD0194E6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5720" y="19051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000" y="19051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1166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5720" y="41166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000" y="41166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E73D-624F-4244-8FEA-E18120C8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6852-85D1-442E-94C2-2A1124F9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512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D56A-3176-49DF-B71F-CCBC0246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ED2E-B9DC-44FC-8284-FE7C1182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50F7-FAFF-4B16-B8A9-67EF3450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512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1166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DBA5-A77D-4FA5-9A40-CB7BCC49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5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1166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5065-D291-4772-ADCD-F1065D3D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5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1166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A8AF-D473-4AEA-B0B6-E71F62F8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200" cy="6856560"/>
            <a:chOff x="0" y="0"/>
            <a:chExt cx="914220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1120" cy="6856560"/>
              <a:chOff x="0" y="0"/>
              <a:chExt cx="9141120" cy="685656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1120" cy="6398640"/>
                <a:chOff x="0" y="304920"/>
                <a:chExt cx="9141120" cy="63986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12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04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860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16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772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264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720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176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668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088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580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036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492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6984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440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7896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352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8844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264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39756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248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560" y="0"/>
                <a:ext cx="8530920" cy="6856560"/>
                <a:chOff x="304560" y="0"/>
                <a:chExt cx="8530920" cy="685656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56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876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368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824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280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736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228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648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140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596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052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508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000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420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6912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404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7824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316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8772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228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39684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176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0596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088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1544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000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456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2948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404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1960" y="0"/>
              <a:ext cx="579024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7640" y="0"/>
              <a:ext cx="144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3640" y="1415880"/>
              <a:ext cx="1782360" cy="2322360"/>
              <a:chOff x="413640" y="1415880"/>
              <a:chExt cx="1782360" cy="23223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3640" y="1512360"/>
                <a:ext cx="1782360" cy="1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8760"/>
                <a:ext cx="1080" cy="23194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920" y="1415880"/>
                <a:ext cx="192960" cy="19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101000"/>
              </a:lnSpc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101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0147CA-E564-4F24-9CB6-1A0095343C18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2200" cy="6856560"/>
            <a:chOff x="0" y="0"/>
            <a:chExt cx="9142200" cy="685656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2200" cy="6856560"/>
              <a:chOff x="0" y="0"/>
              <a:chExt cx="9142200" cy="685656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1960" y="0"/>
                <a:ext cx="579024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1120" cy="6856560"/>
                <a:chOff x="0" y="0"/>
                <a:chExt cx="9141120" cy="68565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56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12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04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896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52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08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00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756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248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740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196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652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144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600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092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584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004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496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8988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444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39936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428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56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12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04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860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16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08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00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720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212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704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160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616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108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564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056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512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7968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460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8916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372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39864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356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0776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268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1760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216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672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164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620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7640" y="0"/>
                <a:ext cx="144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2800" cy="2849400"/>
              <a:chOff x="4680" y="887400"/>
              <a:chExt cx="6652800" cy="28494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880" y="887400"/>
                <a:ext cx="1440" cy="2849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1360"/>
                <a:ext cx="5096880" cy="4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760" y="1486800"/>
                <a:ext cx="6048720" cy="4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240" y="136584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3680" cy="2874960"/>
              <a:chOff x="2349360" y="3098880"/>
              <a:chExt cx="6043680" cy="287496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2640"/>
                <a:ext cx="6043680" cy="1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08720" y="3098880"/>
                <a:ext cx="1080" cy="287496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720" y="531108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CB3D383-BE16-4A6E-AE19-4815F2E05456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101000"/>
              </a:lnSpc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101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1557000"/>
            <a:ext cx="77709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Тема урока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3233520"/>
            <a:ext cx="8228160" cy="11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дачи на построение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435640" y="4365720"/>
            <a:ext cx="2097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Какими  инструментами мы пользовались?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4129200" cy="28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0760" y="417600"/>
            <a:ext cx="737712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Итог урока …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93644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56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Что Вы узнали сегодня на уроке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3556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Что нового открыли для себя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3556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Что Вам было наиболее интересно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3556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Какие способы построения понравились больше всего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990360" y="2276640"/>
            <a:ext cx="746892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Задачи на построение – это такие задачи, при решении которых нужно построить геометрическую фигуру, удовлетворяющую условиям задачи, с помощью циркуля и линейки без делений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564000" y="765000"/>
            <a:ext cx="2097000" cy="14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765000"/>
            <a:ext cx="7770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Цель урок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3141360"/>
            <a:ext cx="822816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760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знакомиться с основными  задачами на построение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7600" indent="-327600">
              <a:lnSpc>
                <a:spcPct val="91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еление отрезка пополам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7600" indent="-327600">
              <a:lnSpc>
                <a:spcPct val="91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строение  угла равного данному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7600" indent="-327600">
              <a:lnSpc>
                <a:spcPct val="91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строение биссектрисы угла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7600" indent="-327600">
              <a:lnSpc>
                <a:spcPct val="91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строение перпендикуляра к  прямой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760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760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6084720" y="333360"/>
            <a:ext cx="209736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9273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Какие  нам понадобятся инструменты?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23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линейк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7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7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циркул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ь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948360" y="5157720"/>
            <a:ext cx="1764000" cy="121284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2314440" y="3033720"/>
            <a:ext cx="4771800" cy="937080"/>
            <a:chOff x="2314440" y="3033720"/>
            <a:chExt cx="4771800" cy="937080"/>
          </a:xfrm>
        </p:grpSpPr>
        <p:sp>
          <p:nvSpPr>
            <p:cNvPr id="220" name=""/>
            <p:cNvSpPr/>
            <p:nvPr/>
          </p:nvSpPr>
          <p:spPr>
            <a:xfrm rot="240000">
              <a:off x="2328480" y="3228120"/>
              <a:ext cx="4743000" cy="5778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2645640" y="3033720"/>
              <a:ext cx="1440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240000">
              <a:off x="2603880" y="3244320"/>
              <a:ext cx="15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949840" y="3063600"/>
              <a:ext cx="14040" cy="19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240000">
              <a:off x="2908440" y="3274200"/>
              <a:ext cx="152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3256200" y="3091680"/>
              <a:ext cx="1440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240000">
              <a:off x="3214080" y="3302640"/>
              <a:ext cx="15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3560400" y="3121920"/>
              <a:ext cx="1404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240000">
              <a:off x="3519000" y="3332520"/>
              <a:ext cx="152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3865320" y="3150000"/>
              <a:ext cx="1440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240000">
              <a:off x="3824640" y="3360600"/>
              <a:ext cx="15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170960" y="3180240"/>
              <a:ext cx="1404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240000">
              <a:off x="4129560" y="3390840"/>
              <a:ext cx="152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4475520" y="3210120"/>
              <a:ext cx="14400" cy="19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240000">
              <a:off x="4433760" y="3418920"/>
              <a:ext cx="152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4781520" y="3238200"/>
              <a:ext cx="1440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240000">
              <a:off x="4739400" y="3449160"/>
              <a:ext cx="15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5085720" y="3268440"/>
              <a:ext cx="1404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240000">
              <a:off x="5044320" y="3479040"/>
              <a:ext cx="152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392080" y="3296520"/>
              <a:ext cx="1440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240000">
              <a:off x="5349960" y="3507120"/>
              <a:ext cx="15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5696280" y="3326760"/>
              <a:ext cx="14040" cy="19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240000">
              <a:off x="5654880" y="3537360"/>
              <a:ext cx="152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6002640" y="3354840"/>
              <a:ext cx="1440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240000">
              <a:off x="5960520" y="3565440"/>
              <a:ext cx="15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6306840" y="3384720"/>
              <a:ext cx="1404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240000">
              <a:off x="6265080" y="3595680"/>
              <a:ext cx="152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6611400" y="3413160"/>
              <a:ext cx="1440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240000">
              <a:off x="6571080" y="3623760"/>
              <a:ext cx="15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6917400" y="3443040"/>
              <a:ext cx="1404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240000">
              <a:off x="6875280" y="3654000"/>
              <a:ext cx="15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2236680" y="4308120"/>
            <a:ext cx="2963160" cy="2233440"/>
            <a:chOff x="2236680" y="4308120"/>
            <a:chExt cx="2963160" cy="2233440"/>
          </a:xfrm>
        </p:grpSpPr>
        <p:sp>
          <p:nvSpPr>
            <p:cNvPr id="252" name=""/>
            <p:cNvSpPr/>
            <p:nvPr/>
          </p:nvSpPr>
          <p:spPr>
            <a:xfrm rot="4200000">
              <a:off x="3562920" y="3757320"/>
              <a:ext cx="143280" cy="252828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500000"/>
            </a:gra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2400000">
              <a:off x="3910680" y="4309560"/>
              <a:ext cx="153000" cy="23655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500000"/>
            </a:gra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4100000">
              <a:off x="2315160" y="5365080"/>
              <a:ext cx="71640" cy="229680"/>
            </a:xfrm>
            <a:prstGeom prst="triangle">
              <a:avLst>
                <a:gd name="adj" fmla="val 50000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4100000">
              <a:off x="3044880" y="6331320"/>
              <a:ext cx="71640" cy="229680"/>
            </a:xfrm>
            <a:prstGeom prst="triangle">
              <a:avLst>
                <a:gd name="adj" fmla="val 50000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3300000">
              <a:off x="4576680" y="4428720"/>
              <a:ext cx="286560" cy="459720"/>
            </a:xfrm>
            <a:prstGeom prst="flowChartOffpageConnector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3300000">
              <a:off x="4961880" y="4301280"/>
              <a:ext cx="142920" cy="3060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454545"/>
                </a:gs>
                <a:gs pos="100000">
                  <a:srgbClr val="969696"/>
                </a:gs>
              </a:gsLst>
              <a:lin ang="10800000"/>
            </a:gra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712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Задача № 1</a:t>
            </a:r>
            <a:br>
              <a:rPr sz="2800"/>
            </a:b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Деление отрезка пополам.</a:t>
            </a: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907560"/>
            <a:ext cx="777096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Из точек 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и 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B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циркулем описывается окружность радиусом 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AB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. Пусть 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C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и 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C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1 – точки пересечения этих окружностей. Они лежат в разных полуплоскостях относительно прямой 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AB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. С помощью линейки соединить точки 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C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и 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C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1. Отрезок 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CC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1 пересекает отрезок 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AB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в точке 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O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. Эта точка – середина отрезка 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AB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763640" y="3573360"/>
            <a:ext cx="2274840" cy="28814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384880" y="3500280"/>
            <a:ext cx="2266920" cy="31687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7829640" y="404640"/>
            <a:ext cx="7174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408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Задача № 2</a:t>
            </a:r>
            <a:br>
              <a:rPr sz="2800"/>
            </a:b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Построение угла  равного данному.</a:t>
            </a: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77096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Проведем окружность с центром в вершине данного угла. Пусть 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B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и 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C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– точки пересечения окружности со сторонами угла. Радиусом 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AB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проведем окружность с центром в точке 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1 – начальной точке данного луча. Точку пересечения этой окружности с данным лучом обозначим 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B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1. Опишем окружность с центром в 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B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1 и радиусом 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BC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. Точка пересечения 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C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1 построенных окружностей в указанной полуплоскости лежит на стороне искомого угла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835280" y="4005360"/>
            <a:ext cx="2158920" cy="25779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5076720" y="3933720"/>
            <a:ext cx="2113200" cy="26640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7829640" y="404640"/>
            <a:ext cx="7174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60280"/>
            <a:ext cx="77709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Задача № 3</a:t>
            </a:r>
            <a:br>
              <a:rPr sz="2800"/>
            </a:b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Построение биссектрисы угла.</a:t>
            </a:r>
            <a:br>
              <a:rPr sz="2800"/>
            </a:b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Из вершины 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данного угла, как из центра, опишем окружность произвольного радиуса. Пусть 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B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и 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C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– точки пересечения ее со сторонами угла. Построим еще две окружности с тем же радиусом с центрами в 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B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и 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C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. Пусть 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– точка их пересечения. Тогда [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AD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) – искомая биссектриса угла 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547640" y="4005360"/>
            <a:ext cx="2400480" cy="22604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4788000" y="3792600"/>
            <a:ext cx="2663640" cy="25876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7829640" y="404640"/>
            <a:ext cx="7174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549000"/>
            <a:ext cx="777096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Задача № 4</a:t>
            </a:r>
            <a:br>
              <a:rPr sz="2800"/>
            </a:b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Построение перпендикуляра  к прямой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Отложим от точки 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O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по разные стороны от нее на прямой 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одинаковые отрезки 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OA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OB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. Проведем две окружности одинакового радиуса 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AB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с центром в точках 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и 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B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соответственно. Они пересекаются в точке 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C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. Проведем прямую (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OC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). Она перпендикулярна прямой 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258920" y="3789360"/>
            <a:ext cx="2400120" cy="22096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5003640" y="3573360"/>
            <a:ext cx="2400480" cy="24480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7829640" y="404640"/>
            <a:ext cx="7174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74160"/>
            <a:ext cx="77724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С какими задачами  на построение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мы познакомились ?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5256360" cy="3613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итаренко</cp:lastModifiedBy>
  <dcterms:modified xsi:type="dcterms:W3CDTF">2008-01-30T12:08:30Z</dcterms:modified>
  <cp:revision>6</cp:revision>
  <dc:subject/>
  <dc:title>Задачи на построение – это такие задачи, при решении которых нужно построить геометрическую фигуру, удовлетворяющую условиям задачи, с помощью циркуля и линейки без делений</dc:title>
</cp:coreProperties>
</file>