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A75-EF6A-4EB8-998A-AE9F1E4B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C5C-F588-44F3-A162-FC5D721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F77-A2CC-4CD7-AB0C-7CA16D67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F2F-5BE5-416F-976C-2AE34A83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853-6495-4923-8E29-3E5FAC6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036-ABF3-49F8-8366-72D1035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4DA-9365-4D62-88BF-327CC57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9A1-AB18-497D-99D1-7EF49BCF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D98-22CE-4DC6-B301-466A7F0F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44B-9AEF-41DB-8873-7FE77A9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E04-8620-4A7D-8512-9562ABA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7C1-538C-4FF0-81C2-B0176411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0e9"/>
            </a:gs>
            <a:gs pos="100000">
              <a:srgbClr val="3e8e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3E8-0EEC-4D84-93BE-DFA656DE1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7785360" cy="1481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s://vscolu.ru/wp-content/uploads/2016/11/zimuyushie-pticy-51612-9665.jpg"/>
          <p:cNvPicPr/>
          <p:nvPr/>
        </p:nvPicPr>
        <p:blipFill>
          <a:blip r:embed="rId2"/>
          <a:stretch/>
        </p:blipFill>
        <p:spPr>
          <a:xfrm>
            <a:off x="-6480" y="2779560"/>
            <a:ext cx="5065920" cy="34689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4" descr=""/>
          <p:cNvPicPr/>
          <p:nvPr/>
        </p:nvPicPr>
        <p:blipFill>
          <a:blip r:embed="rId3"/>
          <a:stretch/>
        </p:blipFill>
        <p:spPr>
          <a:xfrm>
            <a:off x="262080" y="1663560"/>
            <a:ext cx="8028000" cy="8906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5" descr=""/>
          <p:cNvPicPr/>
          <p:nvPr/>
        </p:nvPicPr>
        <p:blipFill>
          <a:blip r:embed="rId4"/>
          <a:stretch/>
        </p:blipFill>
        <p:spPr>
          <a:xfrm>
            <a:off x="5078520" y="2755800"/>
            <a:ext cx="3932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rezentacii.org/uploads/files/18/08/63959/data/pres/screen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2" descr=""/>
          <p:cNvPicPr/>
          <p:nvPr/>
        </p:nvPicPr>
        <p:blipFill>
          <a:blip r:embed="rId2"/>
          <a:stretch/>
        </p:blipFill>
        <p:spPr>
          <a:xfrm>
            <a:off x="146160" y="-146160"/>
            <a:ext cx="5535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1224/000296ab-5aa7a8a1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46160" y="566640"/>
            <a:ext cx="50655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ds04.infourok.ru/uploads/ex/07c6/00047495-8409c189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2" descr=""/>
          <p:cNvPicPr/>
          <p:nvPr/>
        </p:nvPicPr>
        <p:blipFill>
          <a:blip r:embed="rId2"/>
          <a:stretch/>
        </p:blipFill>
        <p:spPr>
          <a:xfrm>
            <a:off x="1768320" y="-146160"/>
            <a:ext cx="49611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s://ds04.infourok.ru/uploads/ex/0416/0016fafd-3dd213c3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" descr=""/>
          <p:cNvPicPr/>
          <p:nvPr/>
        </p:nvPicPr>
        <p:blipFill>
          <a:blip r:embed="rId2"/>
          <a:stretch/>
        </p:blipFill>
        <p:spPr>
          <a:xfrm>
            <a:off x="749160" y="-231840"/>
            <a:ext cx="40910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presentacii.ru/documents_2/668c40c8a743a7fe4d6391d9281eb954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2" descr=""/>
          <p:cNvPicPr/>
          <p:nvPr/>
        </p:nvPicPr>
        <p:blipFill>
          <a:blip r:embed="rId2"/>
          <a:stretch/>
        </p:blipFill>
        <p:spPr>
          <a:xfrm>
            <a:off x="1805040" y="-122400"/>
            <a:ext cx="54673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0T09:03:08Z</dcterms:created>
  <dc:creator>Инна</dc:creator>
  <dc:description/>
  <dc:language>en-US</dc:language>
  <cp:lastModifiedBy>Инна</cp:lastModifiedBy>
  <dcterms:modified xsi:type="dcterms:W3CDTF">2019-10-20T09:24:54Z</dcterms:modified>
  <cp:revision>3</cp:revision>
  <dc:subject/>
  <dc:title>Зимующие птицы</dc:title>
</cp:coreProperties>
</file>