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B8F-56E1-4D28-AA98-027BDF70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ECC-7095-4323-BBC7-A2E538B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11F-5B09-462F-991E-EF1777EE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9AC-468E-401F-AEA0-FB0100F4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15D-65DE-4F86-91D3-A45D4C9C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D79-17FE-4D11-8AA0-C9F525E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764-BA06-427C-AEB4-9683B481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E96-3495-4F64-B088-F7F6DBE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9D4-B89C-4D9E-A9D7-E922DB6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0A7-2E5A-4D3C-9843-F2228D4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32A-98CA-4DF1-82B2-AFE3873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E37-F291-4258-BC4A-0E36EAD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144EE6-C74C-43C9-84C8-69CFDADBAC1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40440" y="1989000"/>
            <a:ext cx="786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А    И     Т     С    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Р     П   В   Е   К     У    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00120" y="1700280"/>
            <a:ext cx="6132600" cy="720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00120" y="3487680"/>
            <a:ext cx="7947000" cy="576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http://freeppt.ru/Prew/NightOrhidSlaidPrew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1560"/>
            <a:ext cx="577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3497760" y="2565360"/>
            <a:ext cx="73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4462560" y="286704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Рисунок 10" descr="https://prikolnye-kartinki.ru/img/picture/Nov/15/ab754582160b5257fd9c459adf7feba9/6.jpg"/>
          <p:cNvPicPr/>
          <p:nvPr/>
        </p:nvPicPr>
        <p:blipFill>
          <a:blip r:embed="rId2"/>
          <a:stretch/>
        </p:blipFill>
        <p:spPr>
          <a:xfrm>
            <a:off x="490680" y="1173240"/>
            <a:ext cx="27828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https://prikolnye-kartinki.ru/img/picture/Nov/15/ab754582160b5257fd9c459adf7feba9/6.jpg"/>
          <p:cNvPicPr/>
          <p:nvPr/>
        </p:nvPicPr>
        <p:blipFill>
          <a:blip r:embed="rId3"/>
          <a:stretch/>
        </p:blipFill>
        <p:spPr>
          <a:xfrm>
            <a:off x="6821640" y="853920"/>
            <a:ext cx="2047680" cy="3138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https://prikolnye-kartinki.ru/img/picture/Nov/15/ab754582160b5257fd9c459adf7feba9/6.jpg"/>
          <p:cNvPicPr/>
          <p:nvPr/>
        </p:nvPicPr>
        <p:blipFill>
          <a:blip r:embed="rId4"/>
          <a:stretch/>
        </p:blipFill>
        <p:spPr>
          <a:xfrm>
            <a:off x="3022560" y="4437000"/>
            <a:ext cx="242100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https://prikolnye-kartinki.ru/img/picture/Nov/15/ab754582160b5257fd9c459adf7feba9/6.jpg"/>
          <p:cNvPicPr/>
          <p:nvPr/>
        </p:nvPicPr>
        <p:blipFill>
          <a:blip r:embed="rId5"/>
          <a:stretch/>
        </p:blipFill>
        <p:spPr>
          <a:xfrm>
            <a:off x="347760" y="4437000"/>
            <a:ext cx="220824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https://prikolnye-kartinki.ru/img/picture/Nov/15/ab754582160b5257fd9c459adf7feba9/6.jpg"/>
          <p:cNvPicPr/>
          <p:nvPr/>
        </p:nvPicPr>
        <p:blipFill>
          <a:blip r:embed="rId6"/>
          <a:stretch/>
        </p:blipFill>
        <p:spPr>
          <a:xfrm>
            <a:off x="5742000" y="3749760"/>
            <a:ext cx="3090960" cy="2943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https://i.ytimg.com/vi/8ec8O2DXCUM/maxresdefault.jpg"/>
          <p:cNvPicPr/>
          <p:nvPr/>
        </p:nvPicPr>
        <p:blipFill>
          <a:blip r:embed="rId7"/>
          <a:stretch/>
        </p:blipFill>
        <p:spPr>
          <a:xfrm>
            <a:off x="5119560" y="1447920"/>
            <a:ext cx="17478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366E-006 L 2.22222E-006 -0.20495 C 2.22222E-006 -0.29668 0.06771 -0.40989 0.12309 -0.40989 L 0.24618 -0.40989 E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овень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Медвежонок"/>
          <p:cNvPicPr/>
          <p:nvPr/>
        </p:nvPicPr>
        <p:blipFill>
          <a:blip r:embed="rId2"/>
          <a:stretch/>
        </p:blipFill>
        <p:spPr>
          <a:xfrm>
            <a:off x="7236000" y="260280"/>
            <a:ext cx="176364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042920" y="2687760"/>
          <a:ext cx="6456600" cy="194148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30200"/>
                <a:gridCol w="430200"/>
                <a:gridCol w="430200"/>
                <a:gridCol w="430200"/>
                <a:gridCol w="430200"/>
                <a:gridCol w="432000"/>
                <a:gridCol w="428760"/>
                <a:gridCol w="431640"/>
                <a:gridCol w="430200"/>
                <a:gridCol w="430200"/>
                <a:gridCol w="430200"/>
                <a:gridCol w="431640"/>
                <a:gridCol w="43056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60" name="TextBox 2"/>
          <p:cNvSpPr/>
          <p:nvPr/>
        </p:nvSpPr>
        <p:spPr>
          <a:xfrm>
            <a:off x="3929760" y="17002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=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ставь с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629800" y="3381480"/>
            <a:ext cx="9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46880" y="3344760"/>
            <a:ext cx="8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066200" y="3344760"/>
            <a:ext cx="8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629040" y="338148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386680" y="3429000"/>
            <a:ext cx="87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944000" y="1528920"/>
            <a:ext cx="51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  О   У    И   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65280" y="5299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11280" y="34545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405080" y="516096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496800" y="4635360"/>
            <a:ext cx="3427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081320" y="3429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4103640" y="3867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7451640" y="3843360"/>
            <a:ext cx="185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3997440" y="4362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4103640" y="5005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496880" y="5160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1206000" y="456408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2786040" y="449100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4201560" y="445284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5370480" y="4452840"/>
            <a:ext cx="91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6612840" y="437832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7597080" y="155880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7745040" y="3224160"/>
            <a:ext cx="98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Arial"/>
              </a:rPr>
              <a:t>Б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3219120" y="404640"/>
            <a:ext cx="33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таем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647000" y="15908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и-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562560" y="16365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-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850720" y="16365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н-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114560" y="473868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с-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602880" y="473868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а-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984840" y="31050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-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165360" y="30211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-си-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699520" y="4578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-с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482480" y="310500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00160" y="2492280"/>
            <a:ext cx="19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А-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548160" y="2462040"/>
            <a:ext cx="21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БУ-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200400" y="429264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УЛ-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632640" y="27860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6164280" y="40053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ЕЛ-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2290320" y="540396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А-Н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679400" y="1628640"/>
            <a:ext cx="608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Клу-бок у-пал на по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Кот Бар-сик ка-тал клу-б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о-ба-ка Бо-бка ло-ви-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ко-та. В до-ме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User\Desktop\оформление слайдов\56b5b8579f69a.jpg"/>
          <p:cNvPicPr/>
          <p:nvPr/>
        </p:nvPicPr>
        <p:blipFill>
          <a:blip r:embed="rId3"/>
          <a:stretch/>
        </p:blipFill>
        <p:spPr>
          <a:xfrm>
            <a:off x="5435640" y="3086280"/>
            <a:ext cx="504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http://images.vfl.ru/ii/1338310311/aa633f96/582245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http://hameleons.com/uploads/posts/2010-11/1289041214_vcja9fx2ttmb1hz.jpeg"/>
          <p:cNvPicPr/>
          <p:nvPr/>
        </p:nvPicPr>
        <p:blipFill>
          <a:blip r:embed="rId2"/>
          <a:stretch/>
        </p:blipFill>
        <p:spPr>
          <a:xfrm>
            <a:off x="2195640" y="2133720"/>
            <a:ext cx="4032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10:24Z</dcterms:created>
  <dc:creator>Dragon</dc:creator>
  <dc:description/>
  <dc:language>en-US</dc:language>
  <cp:lastModifiedBy>User</cp:lastModifiedBy>
  <dcterms:modified xsi:type="dcterms:W3CDTF">2019-10-21T15:13:26Z</dcterms:modified>
  <cp:revision>71</cp:revision>
  <dc:subject/>
  <dc:title>Табличное умножение и деление на 2</dc:title>
</cp:coreProperties>
</file>