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25F44-B5B2-493C-A0F9-8FC0C936672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B5A8B-6206-4C78-9E77-E8CBC0B986F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9270E-2D50-489C-B10A-6C6CD02E30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2DFD-1DF9-4280-8142-7E8CB5E3D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6CB2-6551-4DF2-97BA-76FAB54D9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F17B-248B-4E1C-BAAF-2A2810E17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F853-63BB-43E6-BEF9-C698C7880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A0163-48A4-4C97-9AAD-20EFBCF09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3DE21-31A7-4B28-BDBB-8CE86420D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DB58F-4BD7-4443-A845-13E57CDB9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DE5B3-8751-4066-862E-41363BE62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A0822-B0AD-4908-934C-D7F3F5D18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C07F7-5D08-4E80-B51A-8D676D871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040F1-406F-4BEB-AA2A-F5779304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4DFA-746A-4064-A67D-0B9791380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CCF3D-8B9C-43DA-BA20-98713207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BEDCB-38B5-419F-865F-986B29ED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EF159-EDD8-4D21-9379-BA2C9FD0D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07568-FD99-41C4-992F-59D767599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9A979-FB42-4C72-B36E-127D91444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461BA-CB3D-4AE1-AA26-D6DC29D7C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F5BFB-C31F-4FB6-969F-35370BE2F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247B8-6F5E-4D39-A860-3D1B1C264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305C5-92BF-4482-8019-D70DBCF49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B5A8C-E5F6-4B80-8C2E-594E613CB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86D9-7FD9-432F-BE92-E570FDD25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D02A0-6D90-4B64-913F-25EC6595A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EBB97-617F-4F16-9A64-DF80138C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B2B8D-9267-4897-B71A-BC9AE208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37165-01B0-4C56-84E9-B0773A05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F8EE2-BF84-480D-A988-CCF5A10DE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95B20-02A5-4BA1-9590-9DA0937BD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6033A-685C-454C-B55A-D50F85730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4E59D-716C-4D4F-8CB4-F72233CFE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89DD7-1BBA-47F5-A806-DD1018AAD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54376-F198-4849-9B91-76B3D00C3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5883-6893-41C7-A269-FDD2711DB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B1542-CFD3-4494-8926-E465FC239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48B57-DC77-44EF-8256-345264026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EB8FC-E8D9-45AC-9651-87DC6A744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A0901-03E9-46DE-8D0C-D5BCC25B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C18DA-0D64-4488-9048-4326BA97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F0094-503C-4601-95AF-D187DBF9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3F843-A66C-4DF2-8711-1D4B6D3A2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726C8-162A-4CDE-AC5D-18E7A81E4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BA3EE-5398-4406-9DBA-12D7C8D1B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2344-5C35-4CD2-B8A5-6FB4448B3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64E4-B164-4A0D-BB75-C232F08A5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1541-23B9-4366-BE96-90CEBF5B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43B6-7F6E-446F-85C6-39059AE9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B2EC-2670-471D-9ACB-4D352FE3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32F25-4F18-4C36-BA04-FF86E3251938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D4910-B074-4200-9CDF-F1640A18CD90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BB3DC-8FDD-4945-9024-AA6375FA12BF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78A5A-5C52-4C51-B827-D9BE2DBFD9D1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4" descr=""/>
          <p:cNvPicPr/>
          <p:nvPr/>
        </p:nvPicPr>
        <p:blipFill>
          <a:blip r:embed="rId1"/>
          <a:stretch/>
        </p:blipFill>
        <p:spPr>
          <a:xfrm>
            <a:off x="304920" y="4005360"/>
            <a:ext cx="8302680" cy="21873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Picture 2" descr="https://avatars.mds.yandex.net/get-zen_doc/1706517/pub_5d42e7744735a600acd19d17_5d42f4457cccba00add52946/scale_1200"/>
          <p:cNvPicPr/>
          <p:nvPr/>
        </p:nvPicPr>
        <p:blipFill>
          <a:blip r:embed="rId2"/>
          <a:stretch/>
        </p:blipFill>
        <p:spPr>
          <a:xfrm>
            <a:off x="1187280" y="1052640"/>
            <a:ext cx="6471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Диаграмма 10" descr=""/>
          <p:cNvPicPr/>
          <p:nvPr/>
        </p:nvPicPr>
        <p:blipFill>
          <a:blip r:embed="rId1"/>
          <a:stretch/>
        </p:blipFill>
        <p:spPr>
          <a:xfrm>
            <a:off x="281160" y="1925640"/>
            <a:ext cx="4582800" cy="456732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Comic Sans MS"/>
              </a:rPr>
              <a:t>Обращение за помощью при буллинг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Прямоугольник 1"/>
          <p:cNvSpPr/>
          <p:nvPr/>
        </p:nvSpPr>
        <p:spPr>
          <a:xfrm>
            <a:off x="5194440" y="2079720"/>
            <a:ext cx="332100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1800"/>
              </a:spcBef>
              <a:buClr>
                <a:srgbClr val="0f6fc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6fc6"/>
                </a:solidFill>
                <a:latin typeface="Comic Sans MS"/>
              </a:rPr>
              <a:t>Хочет справиться с этим самостояте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800"/>
              </a:spcBef>
              <a:buClr>
                <a:srgbClr val="0f6fc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6fc6"/>
                </a:solidFill>
                <a:latin typeface="Comic Sans MS"/>
              </a:rPr>
              <a:t>Дети могут бояться реакции от обидч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800"/>
              </a:spcBef>
              <a:buClr>
                <a:srgbClr val="0f6fc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6fc6"/>
                </a:solidFill>
                <a:latin typeface="Comic Sans MS"/>
              </a:rPr>
              <a:t>Опасается, что накажут за слаб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800"/>
              </a:spcBef>
              <a:buClr>
                <a:srgbClr val="0f6fc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6fc6"/>
                </a:solidFill>
                <a:latin typeface="Comic Sans MS"/>
              </a:rPr>
              <a:t>Чувствуют, что никто о них не заботи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800"/>
              </a:spcBef>
              <a:buClr>
                <a:srgbClr val="0f6fc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6fc6"/>
                </a:solidFill>
                <a:latin typeface="Comic Sans MS"/>
              </a:rPr>
              <a:t>Дети могут опасаться, что их сверстники отвергн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477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Calibri"/>
              </a:rPr>
              <a:t>Технология реагирования на выявленные или установленные факты </a:t>
            </a:r>
            <a:r>
              <a:rPr b="1" lang="ru-RU" sz="3300" spc="-1" strike="noStrike">
                <a:solidFill>
                  <a:srgbClr val="ff0000"/>
                </a:solidFill>
                <a:latin typeface="Calibri"/>
              </a:rPr>
              <a:t>буллинга</a:t>
            </a:r>
            <a:r>
              <a:rPr b="0" lang="ru-RU" sz="33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3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1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установлении факта либо подозрение на существование ситуации буллирования учитель сообщает о сложившейся ситуации представителю администраци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Администрация, совместно с социально-психологической службой школы принимает решение о неотложности реагирования на выявленный факт агресси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Непосредственная работа с жертвами и преследователям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092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Если ребенок подтвердил Вам в разговоре, что он </a:t>
            </a: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жертва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                                                   буллинга.</a:t>
            </a:r>
            <a:br>
              <a:rPr sz="2500"/>
            </a:b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2133720"/>
            <a:ext cx="82296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кажите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ребенку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Я тебе верю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не жаль, что с тобой это случилос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Это не твоя вин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Хорошо, что ты мне об этом сказал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Я люблю теб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и постараюсь сделать так, чтобы тебе больше не угрожала опасность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58353-ED2E-4471-924D-45E4C6EE8923}" type="slidenum">
              <a:rPr b="0" lang="ru-RU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150480" y="395280"/>
            <a:ext cx="839484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1" lang="ru-RU" sz="3000" spc="-1" strike="noStrike">
                <a:solidFill>
                  <a:srgbClr val="ff0000"/>
                </a:solidFill>
                <a:latin typeface="Comic Sans MS"/>
              </a:rPr>
              <a:t>Психологические рекомендации агрессору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f6fc6"/>
                </a:solidFill>
                <a:latin typeface="Comic Sans MS"/>
              </a:rPr>
              <a:t>Подумайте что вы сделали неправильно, и постарайтесь  найти способы исправить это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f6fc6"/>
                </a:solidFill>
                <a:latin typeface="Comic Sans MS"/>
              </a:rPr>
              <a:t>Сфокусируйтесь на том, что привело Вас к такому поведению, постарайтесь понять, что беря на себя ответственность за свои действия, Вы восстанавливаете собственную целостность и самоуважени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f6fc6"/>
                </a:solidFill>
                <a:latin typeface="Comic Sans MS"/>
              </a:rPr>
              <a:t>Постарайтесь  осознать свои чувств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f6fc6"/>
                </a:solidFill>
                <a:latin typeface="Comic Sans MS"/>
              </a:rPr>
              <a:t>Развивайте позитивную самооценку; положительное отношение к самому себе;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f6fc6"/>
                </a:solidFill>
                <a:latin typeface="Comic Sans MS"/>
              </a:rPr>
              <a:t>Обучайте конструктивным способам выхода эмоций: побоксируй подушку, нарисуй, слепи..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f6fc6"/>
                </a:solidFill>
                <a:latin typeface="Comic Sans MS"/>
              </a:rPr>
              <a:t>Развивайте эмпатию.   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77440" y="189000"/>
            <a:ext cx="788364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Что можно сделать если столкнулись с ситуацией кибертравли?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f6fc6"/>
                </a:solidFill>
                <a:latin typeface="Comic Sans MS"/>
              </a:rPr>
              <a:t>Все зафиксируйте (скриншот экрана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f6fc6"/>
                </a:solidFill>
                <a:latin typeface="Comic Sans MS"/>
              </a:rPr>
              <a:t>Не реагируйте на сообщение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f6fc6"/>
                </a:solidFill>
                <a:latin typeface="Comic Sans MS"/>
              </a:rPr>
              <a:t>Храните доказательства (для провайдера и правоохранительных органов)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f6fc6"/>
                </a:solidFill>
                <a:latin typeface="Comic Sans MS"/>
              </a:rPr>
              <a:t>Заблокируйте буллера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f6fc6"/>
                </a:solidFill>
                <a:latin typeface="Comic Sans MS"/>
              </a:rPr>
              <a:t>Расскажите родителям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omic Sans MS"/>
              </a:rPr>
              <a:t>Вместе с родителями </a:t>
            </a:r>
            <a:r>
              <a:rPr b="0" lang="ru-RU" sz="1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f6fc6"/>
                </a:solidFill>
                <a:latin typeface="Comic Sans MS"/>
                <a:ea typeface="Times New Roman"/>
              </a:rPr>
              <a:t>постарайтесь разобраться в ситуации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f6fc6"/>
                </a:solidFill>
                <a:latin typeface="Comic Sans MS"/>
                <a:ea typeface="Times New Roman"/>
              </a:rPr>
              <a:t>-  (В чем конфликт, кто участник, что за причина, есть ли угроза жизни)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f6fc6"/>
                </a:solidFill>
                <a:latin typeface="Comic Sans MS"/>
                <a:ea typeface="Times New Roman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Обратитесь за помощью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f6fc6"/>
                </a:solidFill>
                <a:latin typeface="Comic Sans MS"/>
                <a:ea typeface="Times New Roman"/>
              </a:rPr>
              <a:t>к администратору ресурса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f6fc6"/>
                </a:solidFill>
                <a:latin typeface="Comic Sans MS"/>
                <a:ea typeface="Times New Roman"/>
              </a:rPr>
              <a:t>Если в травле участвуют ученики школы – к директору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f6fc6"/>
                </a:solidFill>
                <a:latin typeface="Comic Sans MS"/>
                <a:ea typeface="Times New Roman"/>
              </a:rPr>
              <a:t>Если угроза жизни – в правоохранительные органы, приложив доказательства.</a:t>
            </a:r>
            <a:r>
              <a:rPr b="1" lang="ru-RU" sz="1600" spc="-1" strike="noStrike">
                <a:solidFill>
                  <a:srgbClr val="0f6fc6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f6fc6"/>
                </a:solidFill>
                <a:latin typeface="Comic Sans MS"/>
              </a:rPr>
              <a:t>Посоветуйтесь с юристом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57040" y="630360"/>
            <a:ext cx="7886880" cy="55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mic Sans MS"/>
              </a:rPr>
              <a:t>Оказание экстренной психологической помощи детям, родителя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b5395"/>
                </a:solidFill>
                <a:latin typeface="Comic Sans MS"/>
              </a:rPr>
              <a:t>Всероссийский Детский телефон доверия</a:t>
            </a:r>
            <a:br>
              <a:rPr sz="2600"/>
            </a:b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8-800-2000-12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b5395"/>
                </a:solidFill>
                <a:latin typeface="Comic Sans MS"/>
              </a:rPr>
              <a:t>Региональная горячая  линия по вопросам безопасности детей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mic Sans MS"/>
              </a:rPr>
              <a:t>8-800-101-008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70c0"/>
                </a:solidFill>
                <a:latin typeface="Comic Sans MS"/>
              </a:rPr>
              <a:t>Горячая линия по вопросам интернет-безопасност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2600" spc="-1" strike="noStrike">
                <a:solidFill>
                  <a:srgbClr val="ff0000"/>
                </a:solidFill>
                <a:latin typeface="Comic Sans MS"/>
              </a:rPr>
              <a:t>8 800 25 000 15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5" name="Picture 4" descr="http://uraylib.ru/www/images/tel-dov.png"/>
          <p:cNvPicPr/>
          <p:nvPr/>
        </p:nvPicPr>
        <p:blipFill>
          <a:blip r:embed="rId1"/>
          <a:stretch/>
        </p:blipFill>
        <p:spPr>
          <a:xfrm>
            <a:off x="5867280" y="4162320"/>
            <a:ext cx="324504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Прямоугольник 4"/>
          <p:cNvSpPr/>
          <p:nvPr/>
        </p:nvSpPr>
        <p:spPr>
          <a:xfrm>
            <a:off x="1092240" y="4948200"/>
            <a:ext cx="700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Разрешение проблемы буллинга в наших руках. Удачи НАМ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5"/>
          <p:cNvSpPr/>
          <p:nvPr/>
        </p:nvSpPr>
        <p:spPr>
          <a:xfrm>
            <a:off x="5143680" y="214200"/>
            <a:ext cx="2571480" cy="39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C:\Users\Наталия\Desktop\shutterstock_108383702-617x416.jpg"/>
          <p:cNvPicPr/>
          <p:nvPr/>
        </p:nvPicPr>
        <p:blipFill>
          <a:blip r:embed="rId1"/>
          <a:stretch/>
        </p:blipFill>
        <p:spPr>
          <a:xfrm>
            <a:off x="1403280" y="639720"/>
            <a:ext cx="5877000" cy="37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6"/>
          <p:cNvSpPr/>
          <p:nvPr/>
        </p:nvSpPr>
        <p:spPr>
          <a:xfrm>
            <a:off x="595440" y="3228840"/>
            <a:ext cx="7858080" cy="32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Буллинг -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длительное физическое или психическое насилие со стороны индивида или группы в отношении индивида, не способного защитить себя в данной ситу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6"/>
          <p:cNvSpPr/>
          <p:nvPr/>
        </p:nvSpPr>
        <p:spPr>
          <a:xfrm>
            <a:off x="2357280" y="2571840"/>
            <a:ext cx="56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5" descr="540x400_ac"/>
          <p:cNvPicPr/>
          <p:nvPr/>
        </p:nvPicPr>
        <p:blipFill>
          <a:blip r:embed="rId1"/>
          <a:stretch/>
        </p:blipFill>
        <p:spPr>
          <a:xfrm>
            <a:off x="1940040" y="189000"/>
            <a:ext cx="5143320" cy="380988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G:\ДОКУМЕНТЫ\НАСИЛИЕ В ШКОЛЕ\violence-300.jpg"/>
          <p:cNvPicPr/>
          <p:nvPr/>
        </p:nvPicPr>
        <p:blipFill>
          <a:blip r:embed="rId1"/>
          <a:stretch/>
        </p:blipFill>
        <p:spPr>
          <a:xfrm>
            <a:off x="5364000" y="3068640"/>
            <a:ext cx="3240360" cy="325296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Виды буллинг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23640" y="1852200"/>
            <a:ext cx="44701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 . Психологическое насили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ербальное  издевательств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циальное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ибербулинг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965840" y="1889280"/>
            <a:ext cx="40384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2. Физическое насили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Times New Roman"/>
              </a:rPr>
              <a:t>Наиболее часто </a:t>
            </a:r>
            <a:r>
              <a:rPr b="1" i="1" lang="ru-RU" sz="3000" spc="-1" strike="noStrike" u="sng">
                <a:solidFill>
                  <a:srgbClr val="003366"/>
                </a:solidFill>
                <a:uFillTx/>
                <a:latin typeface="Times New Roman"/>
              </a:rPr>
              <a:t>жертвами </a:t>
            </a:r>
            <a:r>
              <a:rPr b="0" lang="ru-RU" sz="3000" spc="-1" strike="noStrike">
                <a:solidFill>
                  <a:srgbClr val="003366"/>
                </a:solidFill>
                <a:latin typeface="Times New Roman"/>
              </a:rPr>
              <a:t> буллинга становятся дети, имеющие:</a:t>
            </a:r>
            <a:r>
              <a:rPr b="0" lang="ru-RU" sz="3600" spc="-1" strike="noStrike">
                <a:solidFill>
                  <a:srgbClr val="003366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35120" y="2525400"/>
            <a:ext cx="8229600" cy="48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физические недостатки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особенности поведения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особенности внешности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неразвитые социальные навыки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страх перед школой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отсутствие опыта жизни в коллективе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болезни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низкий интеллект</a:t>
            </a: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 и трудности в обучении.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4" descr="d6bcb062e4374edfb1ad0cf06a2b"/>
          <p:cNvPicPr/>
          <p:nvPr/>
        </p:nvPicPr>
        <p:blipFill>
          <a:blip r:embed="rId1"/>
          <a:stretch/>
        </p:blipFill>
        <p:spPr>
          <a:xfrm>
            <a:off x="5327640" y="1628640"/>
            <a:ext cx="302436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Социальная структура буллинга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еследователь (булли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Жертв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блюдател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щитник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5" descr="stick_figure_group_bullying_md_wm"/>
          <p:cNvPicPr/>
          <p:nvPr/>
        </p:nvPicPr>
        <p:blipFill>
          <a:blip r:embed="rId1"/>
          <a:stretch/>
        </p:blipFill>
        <p:spPr>
          <a:xfrm>
            <a:off x="3886200" y="2362320"/>
            <a:ext cx="4724280" cy="4495680"/>
          </a:xfrm>
          <a:prstGeom prst="rect">
            <a:avLst/>
          </a:prstGeom>
          <a:ln w="0">
            <a:noFill/>
          </a:ln>
        </p:spPr>
      </p:pic>
      <p:sp>
        <p:nvSpPr>
          <p:cNvPr id="219" name="Объект 3"/>
          <p:cNvSpPr/>
          <p:nvPr/>
        </p:nvSpPr>
        <p:spPr>
          <a:xfrm>
            <a:off x="468360" y="3933720"/>
            <a:ext cx="2681280" cy="26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0000"/>
                </a:solidFill>
                <a:latin typeface="Comic Sans MS"/>
              </a:rPr>
              <a:t>Косвенные участники буллинг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f6fc6"/>
                </a:solidFill>
                <a:latin typeface="Comic Sans MS"/>
                <a:ea typeface="Arial"/>
              </a:rPr>
              <a:t>Р</a:t>
            </a:r>
            <a:r>
              <a:rPr b="1" lang="en-US" sz="1900" spc="-1" strike="noStrike">
                <a:solidFill>
                  <a:srgbClr val="0f6fc6"/>
                </a:solidFill>
                <a:latin typeface="Comic Sans MS"/>
                <a:ea typeface="Arial"/>
              </a:rPr>
              <a:t>одител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f6fc6"/>
                </a:solidFill>
                <a:latin typeface="Comic Sans MS"/>
                <a:ea typeface="Arial"/>
              </a:rPr>
              <a:t>Опекуны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f6fc6"/>
                </a:solidFill>
                <a:latin typeface="Comic Sans MS"/>
                <a:ea typeface="Arial"/>
              </a:rPr>
              <a:t>Учител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f6fc6"/>
                </a:solidFill>
                <a:latin typeface="Comic Sans MS"/>
                <a:ea typeface="Arial"/>
              </a:rPr>
              <a:t>Воспитател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f6fc6"/>
                </a:solidFill>
                <a:latin typeface="Comic Sans MS"/>
                <a:ea typeface="Arial"/>
              </a:rPr>
              <a:t>СМ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56840" y="1935000"/>
            <a:ext cx="814716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школьные принадлежности часто бывают разбросаны по классу или спрятаны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при ответе боязлив, над ним смеются, шутят и комментируют его ответ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на перемене и в столовой держится особняком или вблизи учителя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открытые оскорбления, дразнилки, обидные прозвища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хорошо ладит с учителями, но не с одноклассниками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опоздания, поздний уход из школы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во время игр его не выбирают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ризнаки, по которым можно заподозрить жертву буллинг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G:\ДОКУМЕНТЫ\НАСИЛИЕ В ШКОЛЕ\bully1~s600x600.jpg"/>
          <p:cNvPicPr/>
          <p:nvPr/>
        </p:nvPicPr>
        <p:blipFill>
          <a:blip r:embed="rId1"/>
          <a:stretch/>
        </p:blipFill>
        <p:spPr>
          <a:xfrm>
            <a:off x="2816280" y="-6480"/>
            <a:ext cx="3019320" cy="2078280"/>
          </a:xfrm>
          <a:prstGeom prst="rect">
            <a:avLst/>
          </a:prstGeom>
          <a:ln w="0">
            <a:noFill/>
          </a:ln>
        </p:spPr>
      </p:pic>
      <p:sp>
        <p:nvSpPr>
          <p:cNvPr id="223" name="Прямоугольник 3"/>
          <p:cNvSpPr/>
          <p:nvPr/>
        </p:nvSpPr>
        <p:spPr>
          <a:xfrm>
            <a:off x="3098880" y="3071880"/>
            <a:ext cx="388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Агрессоры</a:t>
            </a:r>
            <a:r>
              <a:rPr b="1" lang="ru-RU" sz="3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, </a:t>
            </a:r>
            <a:r>
              <a:rPr b="1" lang="ru-RU" sz="3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бул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4" name="Прямая со стрелкой 4"/>
          <p:cNvCxnSpPr>
            <a:endCxn id="225" idx="0"/>
          </p:cNvCxnSpPr>
          <p:nvPr/>
        </p:nvCxnSpPr>
        <p:spPr>
          <a:xfrm>
            <a:off x="4929120" y="3785760"/>
            <a:ext cx="2108880" cy="15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6" name="Прямая со стрелкой 5"/>
          <p:cNvCxnSpPr/>
          <p:nvPr/>
        </p:nvCxnSpPr>
        <p:spPr>
          <a:xfrm flipV="1">
            <a:off x="4785840" y="1999800"/>
            <a:ext cx="1894680" cy="1215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7" name="Прямая со стрелкой 6"/>
          <p:cNvCxnSpPr/>
          <p:nvPr/>
        </p:nvCxnSpPr>
        <p:spPr>
          <a:xfrm flipH="1">
            <a:off x="2499480" y="3713760"/>
            <a:ext cx="1715400" cy="78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8" name="Прямая со стрелкой 7"/>
          <p:cNvCxnSpPr/>
          <p:nvPr/>
        </p:nvCxnSpPr>
        <p:spPr>
          <a:xfrm flipH="1" flipV="1">
            <a:off x="2214720" y="1713960"/>
            <a:ext cx="2071800" cy="15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9" name="Прямая со стрелкой 8"/>
          <p:cNvCxnSpPr/>
          <p:nvPr/>
        </p:nvCxnSpPr>
        <p:spPr>
          <a:xfrm flipH="1">
            <a:off x="3857400" y="3857400"/>
            <a:ext cx="714960" cy="121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0" name="Прямоугольник 11"/>
          <p:cNvSpPr/>
          <p:nvPr/>
        </p:nvSpPr>
        <p:spPr>
          <a:xfrm>
            <a:off x="857160" y="4214880"/>
            <a:ext cx="15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полные семь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12"/>
          <p:cNvSpPr/>
          <p:nvPr/>
        </p:nvSpPr>
        <p:spPr>
          <a:xfrm>
            <a:off x="5732640" y="1154160"/>
            <a:ext cx="335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мьи, в которых у матери отмечается негативное отношение к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23"/>
          <p:cNvSpPr/>
          <p:nvPr/>
        </p:nvSpPr>
        <p:spPr>
          <a:xfrm>
            <a:off x="344520" y="1155600"/>
            <a:ext cx="185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ластные авторитарные семь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24"/>
          <p:cNvSpPr/>
          <p:nvPr/>
        </p:nvSpPr>
        <p:spPr>
          <a:xfrm>
            <a:off x="5429160" y="528624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мьи с конфликтными семейными отношения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31"/>
          <p:cNvSpPr/>
          <p:nvPr/>
        </p:nvSpPr>
        <p:spPr>
          <a:xfrm>
            <a:off x="642960" y="5143680"/>
            <a:ext cx="43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мьи с генетической предрасположенностью к насил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Прямоугольник 1"/>
          <p:cNvSpPr/>
          <p:nvPr/>
        </p:nvSpPr>
        <p:spPr>
          <a:xfrm>
            <a:off x="1857240" y="714240"/>
            <a:ext cx="507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оследствия школьного насил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Прямая со стрелкой 2"/>
          <p:cNvCxnSpPr>
            <a:endCxn id="236" idx="0"/>
          </p:cNvCxnSpPr>
          <p:nvPr/>
        </p:nvCxnSpPr>
        <p:spPr>
          <a:xfrm>
            <a:off x="5286240" y="1928880"/>
            <a:ext cx="2037600" cy="192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7" name="Прямая со стрелкой 3"/>
          <p:cNvCxnSpPr/>
          <p:nvPr/>
        </p:nvCxnSpPr>
        <p:spPr>
          <a:xfrm>
            <a:off x="4499640" y="1856880"/>
            <a:ext cx="214920" cy="207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8" name="Прямая со стрелкой 4"/>
          <p:cNvCxnSpPr/>
          <p:nvPr/>
        </p:nvCxnSpPr>
        <p:spPr>
          <a:xfrm flipH="1">
            <a:off x="1856880" y="1856880"/>
            <a:ext cx="1929600" cy="200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9" name="Прямоугольник 5"/>
          <p:cNvSpPr/>
          <p:nvPr/>
        </p:nvSpPr>
        <p:spPr>
          <a:xfrm>
            <a:off x="357120" y="3929040"/>
            <a:ext cx="214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дение самооценки, затравл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6"/>
          <p:cNvSpPr/>
          <p:nvPr/>
        </p:nvSpPr>
        <p:spPr>
          <a:xfrm>
            <a:off x="3500280" y="4071960"/>
            <a:ext cx="200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блемы в учёбе и повед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7"/>
          <p:cNvSpPr/>
          <p:nvPr/>
        </p:nvSpPr>
        <p:spPr>
          <a:xfrm>
            <a:off x="6286680" y="3857760"/>
            <a:ext cx="20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ицидальные наме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Формируется болезнь группы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ет границ, правил, норм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е поощряется сочувствие и сострадание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тсутствует ответственность за поступки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ет положительного лидера в класс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тсутствует групповая иерарх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09:27:16Z</dcterms:created>
  <dc:creator>409-1-н</dc:creator>
  <dc:description/>
  <dc:language>en-US</dc:language>
  <cp:lastModifiedBy>q</cp:lastModifiedBy>
  <dcterms:modified xsi:type="dcterms:W3CDTF">2019-10-20T14:59:03Z</dcterms:modified>
  <cp:revision>95</cp:revision>
  <dc:subject/>
  <dc:title>Психологическая безопасность образовательной среды в ДОЛ</dc:title>
</cp:coreProperties>
</file>