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6D2-6D6F-4971-BA0A-E95E52B7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FD2-4683-4807-B310-7F0B40B1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F41-5F30-4D2D-A821-2AF468F5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798-F93A-4C70-8D1C-FF3CAEE9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335D-EADA-4A7D-B4D4-B6CBF4F7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017D-F364-475D-A152-B4DE58EA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9EFD-7BD3-4E7C-ACD2-C7B96513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46A5-63B9-4EB2-8E77-FC4D644C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3FE-6D38-4B1A-9B2F-E50F9579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27D8-9059-442D-B54D-E7F3E67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12E1-DB0B-4A21-ABFE-28411ACA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CCA-3334-4283-8633-A3FA2085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BE66-9FD7-43F8-89C7-16FF7B9B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6A3E-D215-4B83-8A1D-57CBF08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D97C-79CC-4891-A812-648DBA6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1038-6086-4A5C-A899-5243511F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9B81-753D-41E1-8A3F-A2045D80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48B-A5C0-448A-88E2-1C238B01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CDE-FDA4-4A19-8CE4-26962BB0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CCA-3A22-4F66-9FB3-1AD8DB71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A53-401E-4CAC-BEF0-79D9A98D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FF7-7CB8-41CE-9660-2CFC3593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59A-31EA-48E5-B7B8-EF0152A6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E4F-B3C0-4DCB-9A25-0270D9D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D25E-44EA-42B7-A9D6-25CF6086FC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B411-D14F-44DB-B250-B5282E23F9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имнастические упражнения на бревн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181480" y="457200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Ефремов Андр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БОУ «Лицей имени А.С.Пушки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666880" y="594360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200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рев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имнастический снаряд, специально предназначен­ный для совершенствования функции равновесия, так как площадь опоры ограничена</a:t>
            </a: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евн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ыполняются: передвижения, прыжки, повороты, перевороты, сальто, танцевальные элемент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ое гимнастическое упражнение представляет собой сочетание отдельных элементов и их соедин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ы техники упражнений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. Упражнения на месте (с постоянной опорой). Это статические положения, равновесия, повороты, акробатические элементы (перевороты продольно, стойки силой и др.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I. Упражнения в движении (с переменой опоры). Это разновидности передвижений (без фазы полета), то же с поворотами танцевальные движения, акробатические элемент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II. Упражнения с фазой полета (на месте и в движении): подскоки, прыжки, то же с поворотами, танцевальные связки, прыжковая акробатика и др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новные упражнен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кок в сед на бедре и в упор на колене,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няемые с места или с разбега толчком обеих ног. Страховка производится со стороны мос­тика; поддерживают за руку и неопорную ногу (в последнем вскок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191970_html_5e256c2d"/>
          <p:cNvPicPr/>
          <p:nvPr/>
        </p:nvPicPr>
        <p:blipFill>
          <a:blip r:embed="rId1"/>
          <a:stretch/>
        </p:blipFill>
        <p:spPr>
          <a:xfrm>
            <a:off x="1828800" y="3363840"/>
            <a:ext cx="426708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вижение в упоре на коленях или в упоре ноги врозь на руках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191970_html_m714ec573"/>
          <p:cNvPicPr/>
          <p:nvPr/>
        </p:nvPicPr>
        <p:blipFill>
          <a:blip r:embed="rId1"/>
          <a:stretch/>
        </p:blipFill>
        <p:spPr>
          <a:xfrm>
            <a:off x="1219320" y="2362320"/>
            <a:ext cx="5867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ороты в смешанных упорах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спомогательные элементы, служащие для изменения положения на бревне и для переходов из положения сидя в стойку на ног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191970_html_m2620ce94"/>
          <p:cNvPicPr/>
          <p:nvPr/>
        </p:nvPicPr>
        <p:blipFill>
          <a:blip r:embed="rId1"/>
          <a:stretch/>
        </p:blipFill>
        <p:spPr>
          <a:xfrm>
            <a:off x="2057400" y="3319560"/>
            <a:ext cx="3962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 наиболее простым вариантам равновесий относятся равнове­сие на одной ноге е различным положением рук, в полушпагате, в упоре и в стойке на колене, лежа на груди в седе углом, руки в стороны и д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191970_html_m109e904c"/>
          <p:cNvPicPr/>
          <p:nvPr/>
        </p:nvPicPr>
        <p:blipFill>
          <a:blip r:embed="rId1"/>
          <a:stretch/>
        </p:blipFill>
        <p:spPr>
          <a:xfrm>
            <a:off x="2362320" y="3274920"/>
            <a:ext cx="3429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трудными будут стойки на лопатках и груди, на плече, равновесие на одной ноге с захватом за колено или носок, кольцом и д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191970_html_cfd4c0b"/>
          <p:cNvPicPr/>
          <p:nvPr/>
        </p:nvPicPr>
        <p:blipFill>
          <a:blip r:embed="rId1"/>
          <a:stretch/>
        </p:blipFill>
        <p:spPr>
          <a:xfrm>
            <a:off x="3124080" y="2819520"/>
            <a:ext cx="235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кок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из упора на колене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хом другой ногой назад; то же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з упора присев на одной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прогнувшись;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скок из седа углом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орой одной ногой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191970_html_m791663de"/>
          <p:cNvPicPr/>
          <p:nvPr/>
        </p:nvPicPr>
        <p:blipFill>
          <a:blip r:embed="rId1"/>
          <a:stretch/>
        </p:blipFill>
        <p:spPr>
          <a:xfrm>
            <a:off x="1447920" y="3200400"/>
            <a:ext cx="48639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ИА</cp:lastModifiedBy>
  <dcterms:modified xsi:type="dcterms:W3CDTF">2019-10-21T14:42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