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2.gif" ContentType="image/gif"/>
  <Override PartName="/ppt/media/image12.png" ContentType="image/png"/>
  <Override PartName="/ppt/media/image9.gif" ContentType="image/gif"/>
  <Override PartName="/ppt/media/image17.png" ContentType="image/png"/>
  <Override PartName="/ppt/media/image4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A86-15C6-42F4-B16F-ED83D618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587-A412-4EA2-BD50-E7CB880A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2F3-9339-4F87-B4A9-6325A022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2E0-82B7-4666-86A7-32CA9CAA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1A40-E55E-4F03-B1E3-480E7C99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D30C-A79C-442F-A0E5-9C78E14C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953E-92A8-4B8A-B4B5-2DD35AFD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36E7-5245-44F6-A5CF-AC44A341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E066-CBC7-4A9A-8CC3-509D640D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24B2-141E-40E3-A97A-7007A79C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FF52-A0C7-41D0-BBC7-A5D66EAC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830-6F59-48EB-85C5-B5D9FCD2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B946-0CFC-42F7-97CB-B2AFC63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5F03-26D0-4CB2-9530-5688FB6C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F8EF-336B-4399-9B3C-CE560117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1011-3CF8-48B3-AC8A-4E90D175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0E6C-49C5-44CC-978B-70228A5E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0AA-DDDC-4158-8F83-800EDC73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06B-0400-46DE-B3CD-4B32B3DE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5D9-756F-46BA-ABAD-8E60EF5B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52D-C446-487A-AB21-1CCD577A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95F-A6DF-4877-A496-8FE38BE4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6F7-987B-4B3A-BE8F-9BFBF66B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5F6-A8FA-4073-9E05-302795EE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482D-DFAE-4979-9D3C-58265B2CE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80CE-7551-4D61-A1A6-D0B087A89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Муниципальное бюджетное дошкольное образовательное учреждение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Узякский детский сад 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16000" y="21337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300" spc="-1" strike="noStrike">
                <a:solidFill>
                  <a:srgbClr val="00cc00"/>
                </a:solidFill>
                <a:latin typeface="Blackadder ITC"/>
              </a:rPr>
              <a:t>«</a:t>
            </a:r>
            <a:r>
              <a:rPr b="1" i="1" lang="ru-RU" sz="9300" spc="-1" strike="noStrike">
                <a:solidFill>
                  <a:srgbClr val="00cc00"/>
                </a:solidFill>
                <a:latin typeface="Betina Script Rus"/>
              </a:rPr>
              <a:t>Сэйлэн</a:t>
            </a:r>
            <a:r>
              <a:rPr b="1" lang="ru-RU" sz="9300" spc="-1" strike="noStrike">
                <a:solidFill>
                  <a:srgbClr val="00cc00"/>
                </a:solidFill>
                <a:latin typeface="Blackadder ITC"/>
              </a:rPr>
              <a:t>»</a:t>
            </a:r>
            <a:endParaRPr b="0" lang="en-US" sz="9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Blackadder ITC"/>
              </a:rPr>
              <a:t>Тюлячинского района 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427640" cy="472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2095560"/>
            <a:ext cx="4705200" cy="4762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5640" y="549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шеходный пере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Осторожно, ДЕТ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4106880"/>
            <a:ext cx="3314880" cy="275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3132000" cy="2736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716360" y="2637000"/>
            <a:ext cx="381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нкт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510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Остановка общественного транспорт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775040" cy="5373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29280" y="1197000"/>
            <a:ext cx="4014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леф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2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д презентацией работа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айлова Вера Павл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1989000"/>
            <a:ext cx="2952720" cy="2808360"/>
          </a:xfrm>
          <a:prstGeom prst="ellipse">
            <a:avLst/>
          </a:prstGeom>
          <a:solidFill>
            <a:srgbClr val="ffffff"/>
          </a:solidFill>
          <a:ln w="33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2924280"/>
            <a:ext cx="266544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cc00"/>
                </a:solidFill>
                <a:latin typeface="Tahoma"/>
              </a:rPr>
              <a:t>КОНЕЦ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360" y="1413000"/>
            <a:ext cx="7848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А ДОРОЖНОГО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340000" y="2924280"/>
            <a:ext cx="5353200" cy="17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5840">
                  <a:solidFill>
                    <a:srgbClr val="99ff66"/>
                  </a:solidFill>
                  <a:miter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ВИЖЕНИЯ</a:t>
            </a:r>
            <a:endParaRPr b="1" lang="en-US" sz="7200" spc="1" strike="noStrike">
              <a:ln w="15840">
                <a:solidFill>
                  <a:srgbClr val="99ff66"/>
                </a:solidFill>
                <a:miter/>
              </a:ln>
              <a:solidFill>
                <a:srgbClr val="99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486900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01758E-007 C 0.01146 -0.03978 0.02292 -0.07956 0.04028 -0.08279 C 0.05764 -0.0858 0.07917 -0.02313 0.10469 -0.01873 C 0.13038 -0.01457 0.16788 -0.05227 0.19427 -0.05643 C 0.22066 -0.06059 0.23646 -0.04463 0.26302 -0.04394 C 0.28958 -0.04325 0.33247 -0.05735 0.35347 -0.05273 C 0.37448 -0.0481 0.37118 -0.01688 0.38958 -0.01619 C 0.40781 -0.01573 0.44236 -0.05042 0.46372 -0.05018 C 0.48524 -0.04995 0.49826 -0.01549 0.51823 -0.01503 C 0.53837 -0.01457 0.57101 -0.04487 0.58386 -0.04764 C 0.5967 -0.05042 0.5691 -0.04857 0.59583 -0.03261 C 0.62257 -0.01688 0.71684 0.03423 0.74427 0.04764 C 0.7717 0.06105 0.75781 0.04764 0.76059 0.04764 E">
                                      <p:cBhvr>
                                        <p:cTn id="4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227640" cy="5516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5600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ell MT"/>
              </a:rPr>
              <a:t>Автомоби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7640" y="1989000"/>
            <a:ext cx="291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этого коня ед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нзин, масло и в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лугу не пасё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дорогам он несё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42591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оБ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867280" cy="5950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67280" y="2637000"/>
            <a:ext cx="3276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ленькие домики по улицам бегут, Взрослых и детишек домики вез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рАмВа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6372360" cy="6165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67480" y="1504800"/>
            <a:ext cx="20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92720" y="1413000"/>
            <a:ext cx="2951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озаранку за окош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ук и звон и кутерь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дят красные до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прямым стальным дорож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рОллЕйБуС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6516720" cy="595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78560" y="2060640"/>
            <a:ext cx="266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дивительный вагон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удите с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льсы в воздухе, а 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ржит их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аК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6227640" cy="5732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300720" y="2060640"/>
            <a:ext cx="284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з зелёный загори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начит, можно нам сади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кОрАя ПоМоЩ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6588000" cy="5013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659640" y="1844640"/>
            <a:ext cx="21603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Arial Unicode MS"/>
              </a:rPr>
              <a:t>0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Arial Unicode MS"/>
              </a:rPr>
              <a:t>Ил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Arial Unicode MS"/>
              </a:rPr>
              <a:t>1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44364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b7"/>
                </a:solidFill>
                <a:latin typeface="Arial Black"/>
              </a:rPr>
              <a:t>Он существует ,чтобы тебе помочь </a:t>
            </a:r>
            <a:br>
              <a:rPr sz="3100"/>
            </a:br>
            <a:r>
              <a:rPr b="1" lang="en-US" sz="3100" spc="-1" strike="noStrike">
                <a:solidFill>
                  <a:srgbClr val="ffffb7"/>
                </a:solidFill>
                <a:latin typeface="Arial Black"/>
              </a:rPr>
              <a:t>Путь пройти опасный,</a:t>
            </a:r>
            <a:br>
              <a:rPr sz="3100"/>
            </a:br>
            <a:r>
              <a:rPr b="1" lang="en-US" sz="3100" spc="-1" strike="noStrike">
                <a:solidFill>
                  <a:srgbClr val="ffffb7"/>
                </a:solidFill>
                <a:latin typeface="Arial Black"/>
              </a:rPr>
              <a:t>Горит и день и ночь-</a:t>
            </a:r>
            <a:br>
              <a:rPr sz="3100"/>
            </a:br>
            <a:r>
              <a:rPr b="1" lang="en-US" sz="3100" spc="-1" strike="noStrike">
                <a:solidFill>
                  <a:srgbClr val="ffffb7"/>
                </a:solidFill>
                <a:latin typeface="Arial Black"/>
              </a:rPr>
              <a:t>Зеленый, жёлтый, красный.</a:t>
            </a:r>
            <a:br>
              <a:rPr sz="3100"/>
            </a:br>
            <a:endParaRPr b="1" lang="en-US" sz="31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Рисунок1"/>
          <p:cNvPicPr/>
          <p:nvPr/>
        </p:nvPicPr>
        <p:blipFill>
          <a:blip r:embed="rId1"/>
          <a:stretch/>
        </p:blipFill>
        <p:spPr>
          <a:xfrm>
            <a:off x="6084720" y="404640"/>
            <a:ext cx="3059280" cy="6453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1343160" cy="3895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55640" y="3645000"/>
            <a:ext cx="194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- С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4869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Приготовиться к перех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5950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- Иди впер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05:51:24Z</dcterms:created>
  <dc:creator>Георгий</dc:creator>
  <dc:description/>
  <dc:language>en-US</dc:language>
  <cp:lastModifiedBy>Георгий</cp:lastModifiedBy>
  <dcterms:modified xsi:type="dcterms:W3CDTF">2013-02-17T07:32:28Z</dcterms:modified>
  <cp:revision>2</cp:revision>
  <dc:subject/>
  <dc:title>     </dc:title>
</cp:coreProperties>
</file>