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8.wmf" ContentType="image/x-wm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Segoe"/>
              </a:rPr>
              <a:t>Click to move the slide</a:t>
            </a:r>
            <a:endParaRPr b="0" lang="en-US" sz="3600" spc="-1" strike="noStrike">
              <a:solidFill>
                <a:srgbClr val="c00000"/>
              </a:solidFill>
              <a:latin typeface="Sego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4C81-5041-489A-90DF-CD0E745786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A8F1-C258-48F7-836E-FBE1342AF9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4ECF-2701-4F6C-A753-BAF36A8A8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Sego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52A9-614B-4F76-A137-6E6A586E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Sego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8D2F-9779-44F8-B846-47374AE4D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Sego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BD0E-63C2-488A-BA0F-9720133A6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ED57-5ACB-4F0F-8283-57CF48032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Sego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28A2-24F2-4EAB-B98F-0E073006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Sego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53A0-8DB6-4D75-99B6-6858862E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Sego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38C8-4938-4763-9EF5-B92806D5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59B5-6C9E-4DDD-AADE-541CC071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1FDC-561F-4321-AC0C-BCBDD799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Sego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0BFF-F122-42AA-9F12-01DC8D7B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Sego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C611-6CEB-4453-8E8C-EADDC747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Sego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8EA8-9C16-49F9-BB16-63203E4B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Sego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DA85-E8BD-4ED1-A2E8-5FDAD5E4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Sego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0D6C-1E5C-4692-BE09-8489ACA9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Sego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F9A3-8FF7-4E01-B79D-6294A1A0A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Sego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DCEB-F45F-4B5E-A401-452E49563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Sego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AA19-12E4-445C-96AF-C2710799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Sego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6248-FF2E-4378-895E-FEEE9413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CABB-4040-4E95-9C16-7FBF4635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4306-9C9B-41FC-B28D-D76DB75A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Sego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1117-D94B-4E50-8383-BF388CC3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Sego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3BCC-8F29-4E2B-8C74-744A0F46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Sego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3373-06AE-427B-B88F-946CD027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Segoe"/>
              </a:rPr>
              <a:t>Click to edit the title text format</a:t>
            </a:r>
            <a:endParaRPr b="0" lang="en-US" sz="3600" spc="-1" strike="noStrike">
              <a:solidFill>
                <a:srgbClr val="c00000"/>
              </a:solidFill>
              <a:latin typeface="Sego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B000-55B8-4856-BC08-1021F900B5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Segoe"/>
              </a:rPr>
              <a:t>Click to edit the title text format</a:t>
            </a:r>
            <a:endParaRPr b="0" lang="en-US" sz="3600" spc="-1" strike="noStrike">
              <a:solidFill>
                <a:srgbClr val="c00000"/>
              </a:solidFill>
              <a:latin typeface="Sego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9CCE-986E-4C01-A3D0-C86129C929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900000" y="333360"/>
            <a:ext cx="7417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79280" y="43668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«…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НО ВЫДЕРЖА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ЕЛЕЗНЫЙ  ТОТ СОЛДА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О ВЫСТОЯ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ЕССМЕРТНЫЙ СТАЛИНГРАД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1332000" y="357336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ac090"/>
                </a:solidFill>
                <a:latin typeface="Arial"/>
              </a:rPr>
              <a:t>17.07.1942 – 02.02.194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7380360" y="5724360"/>
            <a:ext cx="20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уравл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post-299-1170433239"/>
          <p:cNvPicPr/>
          <p:nvPr/>
        </p:nvPicPr>
        <p:blipFill>
          <a:blip r:embed="rId1"/>
          <a:stretch/>
        </p:blipFill>
        <p:spPr>
          <a:xfrm>
            <a:off x="609480" y="0"/>
            <a:ext cx="8305920" cy="450864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3"/>
          <p:cNvSpPr/>
          <p:nvPr/>
        </p:nvSpPr>
        <p:spPr>
          <a:xfrm>
            <a:off x="3564000" y="4676760"/>
            <a:ext cx="5557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3 августа в некоторые моменты в воздухе появлялось до 82    немецких  самолё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новремен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stalingrad_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3"/>
          <p:cNvSpPr/>
          <p:nvPr/>
        </p:nvSpPr>
        <p:spPr>
          <a:xfrm>
            <a:off x="3492360" y="981000"/>
            <a:ext cx="36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3 авгус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4"/>
          <p:cNvSpPr/>
          <p:nvPr/>
        </p:nvSpPr>
        <p:spPr>
          <a:xfrm>
            <a:off x="2627280" y="2205000"/>
            <a:ext cx="561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брошено 12.000 бом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зрушено 42.000 зд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гибло 40.000 человек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c00000"/>
              </a:solidFill>
              <a:latin typeface="Sego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Segoe"/>
            </a:endParaRPr>
          </a:p>
        </p:txBody>
      </p:sp>
      <p:pic>
        <p:nvPicPr>
          <p:cNvPr id="121" name="Picture 4" descr="с4"/>
          <p:cNvPicPr/>
          <p:nvPr/>
        </p:nvPicPr>
        <p:blipFill>
          <a:blip r:embed="rId1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8"/>
          <p:cNvSpPr/>
          <p:nvPr/>
        </p:nvSpPr>
        <p:spPr>
          <a:xfrm>
            <a:off x="2627280" y="6308640"/>
            <a:ext cx="47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итва на Мамаевом кург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c00000"/>
              </a:solidFill>
              <a:latin typeface="Sego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Segoe"/>
            </a:endParaRPr>
          </a:p>
        </p:txBody>
      </p:sp>
      <p:pic>
        <p:nvPicPr>
          <p:cNvPr id="125" name="Picture 4" descr="Stalingrad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0416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4"/>
          <p:cNvSpPr/>
          <p:nvPr/>
        </p:nvSpPr>
        <p:spPr>
          <a:xfrm>
            <a:off x="3975480" y="32446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5"/>
          <p:cNvSpPr/>
          <p:nvPr/>
        </p:nvSpPr>
        <p:spPr>
          <a:xfrm>
            <a:off x="7451640" y="6381720"/>
            <a:ext cx="23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евит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3"/>
          <p:cNvSpPr/>
          <p:nvPr/>
        </p:nvSpPr>
        <p:spPr>
          <a:xfrm>
            <a:off x="4643280" y="404640"/>
            <a:ext cx="411984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Calibri"/>
              </a:rPr>
              <a:t>Гитлер  планировал  овладеть  город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Calibri"/>
              </a:rPr>
              <a:t> 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Calibri"/>
              </a:rPr>
              <a:t>за 2 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недели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Сталинградская битва длила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200 дней и ночей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mamaev2"/>
          <p:cNvPicPr/>
          <p:nvPr/>
        </p:nvPicPr>
        <p:blipFill>
          <a:blip r:embed="rId1"/>
          <a:stretch/>
        </p:blipFill>
        <p:spPr>
          <a:xfrm>
            <a:off x="0" y="0"/>
            <a:ext cx="464328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1116000" y="333360"/>
            <a:ext cx="7632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getfull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3"/>
          <p:cNvSpPr/>
          <p:nvPr/>
        </p:nvSpPr>
        <p:spPr>
          <a:xfrm>
            <a:off x="0" y="1773360"/>
            <a:ext cx="68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Там сегодня над Волгой – рекой,</a:t>
            </a: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На священной земле сталинградской</a:t>
            </a: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Рвётся к солнцу цветок полевой</a:t>
            </a: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Из-под каски пробитой солдат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2286000" y="69228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осле войны Сталинград был переименован в Волгогра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8 мая 1965 го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г. Волгограду присвоено звание «Город-геро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Users\ольга\Desktop\original.jpg"/>
          <p:cNvPicPr/>
          <p:nvPr/>
        </p:nvPicPr>
        <p:blipFill>
          <a:blip r:embed="rId1"/>
          <a:stretch/>
        </p:blipFill>
        <p:spPr>
          <a:xfrm>
            <a:off x="755640" y="189000"/>
            <a:ext cx="7848720" cy="560232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3"/>
          <p:cNvSpPr/>
          <p:nvPr/>
        </p:nvSpPr>
        <p:spPr>
          <a:xfrm>
            <a:off x="311940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4"/>
          <p:cNvSpPr/>
          <p:nvPr/>
        </p:nvSpPr>
        <p:spPr>
          <a:xfrm>
            <a:off x="2340000" y="6165720"/>
            <a:ext cx="68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стреча ветеранов на Мамаевом кург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6"/>
          <p:cNvSpPr/>
          <p:nvPr/>
        </p:nvSpPr>
        <p:spPr>
          <a:xfrm>
            <a:off x="7759440" y="57024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ло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2"/>
          <p:cNvSpPr/>
          <p:nvPr/>
        </p:nvSpPr>
        <p:spPr>
          <a:xfrm>
            <a:off x="1403280" y="85680"/>
            <a:ext cx="49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стреча на Мамаевом кург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2520" y="90360"/>
            <a:ext cx="23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5"/>
          <p:cNvSpPr/>
          <p:nvPr/>
        </p:nvSpPr>
        <p:spPr>
          <a:xfrm>
            <a:off x="2843280" y="692280"/>
            <a:ext cx="6511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амаев курган, за тобой Волгоград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И Волга - подарок природы.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десь мыслями я улетаю назад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кровавые страшные годы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десь чувства парят, как орёл над землёй.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десь память встаёт, как живая.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И думаю я о той битве былой,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сё мелкое прочь забывая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десь Родина-мать поднимает свой меч.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акой же я малый пред нею!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Хочу свои чувства словами облечь,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                         Но только сказать не уме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                                   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алентин Пана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DefaultOcx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2" descr="с22"/>
          <p:cNvPicPr/>
          <p:nvPr/>
        </p:nvPicPr>
        <p:blipFill>
          <a:blip r:embed="rId1"/>
          <a:stretch/>
        </p:blipFill>
        <p:spPr>
          <a:xfrm>
            <a:off x="0" y="0"/>
            <a:ext cx="45864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WordArt 5"/>
          <p:cNvSpPr txBox="1"/>
          <p:nvPr/>
        </p:nvSpPr>
        <p:spPr>
          <a:xfrm>
            <a:off x="2771640" y="404640"/>
            <a:ext cx="5904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2 июня 1941 год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WordArt 9"/>
          <p:cNvSpPr txBox="1"/>
          <p:nvPr/>
        </p:nvSpPr>
        <p:spPr>
          <a:xfrm>
            <a:off x="3492360" y="2133720"/>
            <a:ext cx="504036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еликая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течественная 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ойна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Scanned at 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3" name="Прямоугольник 2"/>
          <p:cNvSpPr/>
          <p:nvPr/>
        </p:nvSpPr>
        <p:spPr>
          <a:xfrm>
            <a:off x="539640" y="0"/>
            <a:ext cx="72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Жизнь! Мы славим величье её.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Жить – вот благо и счастье людское!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а него. За счастье твоё и моё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вои жизни отдали геро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Файл:Родина-мать(Волгоград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2"/>
          <p:cNvSpPr/>
          <p:nvPr/>
        </p:nvSpPr>
        <p:spPr>
          <a:xfrm>
            <a:off x="4284720" y="2136600"/>
            <a:ext cx="460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Ты всем,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несущим миру смерть,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тогда сказал решительно: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– Не сметь!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рагов хвастливых ты разбил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о Сталинград!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Победу миру ты добыл о Сталинград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SDC10711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3"/>
          <p:cNvSpPr/>
          <p:nvPr/>
        </p:nvSpPr>
        <p:spPr>
          <a:xfrm>
            <a:off x="1146600" y="5516640"/>
            <a:ext cx="794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клон земле, суровой и прекрасной!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"/>
          <p:cNvSpPr/>
          <p:nvPr/>
        </p:nvSpPr>
        <p:spPr>
          <a:xfrm>
            <a:off x="1619280" y="3244680"/>
            <a:ext cx="773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Спасибо за внимание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3" descr="Убитый мальчик с голубем в руках.jpg"/>
          <p:cNvPicPr/>
          <p:nvPr/>
        </p:nvPicPr>
        <p:blipFill>
          <a:blip r:embed="rId1"/>
          <a:stretch/>
        </p:blipFill>
        <p:spPr>
          <a:xfrm>
            <a:off x="250920" y="260280"/>
            <a:ext cx="4543200" cy="352908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3"/>
          <p:cNvSpPr/>
          <p:nvPr/>
        </p:nvSpPr>
        <p:spPr>
          <a:xfrm>
            <a:off x="3924360" y="9079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4" descr="страх и ужас детей войны.jpg"/>
          <p:cNvPicPr/>
          <p:nvPr/>
        </p:nvPicPr>
        <p:blipFill>
          <a:blip r:embed="rId2"/>
          <a:stretch/>
        </p:blipFill>
        <p:spPr>
          <a:xfrm>
            <a:off x="4716360" y="1989000"/>
            <a:ext cx="414972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151175208лен"/>
          <p:cNvPicPr/>
          <p:nvPr/>
        </p:nvPicPr>
        <p:blipFill>
          <a:blip r:embed="rId1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Segoe"/>
              </a:rPr>
              <a:t>5</a:t>
            </a:r>
            <a:endParaRPr b="0" lang="en-US" sz="3600" spc="-1" strike="noStrike">
              <a:solidFill>
                <a:srgbClr val="c00000"/>
              </a:solidFill>
              <a:latin typeface="Sego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Segoe"/>
            </a:endParaRPr>
          </a:p>
        </p:txBody>
      </p:sp>
      <p:pic>
        <p:nvPicPr>
          <p:cNvPr id="102" name="Picture 5" descr="0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c00000"/>
              </a:solidFill>
              <a:latin typeface="Sego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Segoe"/>
            </a:endParaRPr>
          </a:p>
        </p:txBody>
      </p:sp>
      <p:pic>
        <p:nvPicPr>
          <p:cNvPr id="105" name="Picture 4" descr="с5"/>
          <p:cNvPicPr/>
          <p:nvPr/>
        </p:nvPicPr>
        <p:blipFill>
          <a:blip r:embed="rId1"/>
          <a:stretch/>
        </p:blipFill>
        <p:spPr>
          <a:xfrm>
            <a:off x="0" y="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4"/>
          <p:cNvSpPr/>
          <p:nvPr/>
        </p:nvSpPr>
        <p:spPr>
          <a:xfrm>
            <a:off x="4794120" y="623736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идеорол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Segoe"/>
              </a:rPr>
              <a:t>С</a:t>
            </a:r>
            <a:endParaRPr b="0" lang="en-US" sz="3600" spc="-1" strike="noStrike">
              <a:solidFill>
                <a:srgbClr val="c00000"/>
              </a:solidFill>
              <a:latin typeface="Sego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Segoe"/>
            </a:endParaRPr>
          </a:p>
        </p:txBody>
      </p:sp>
      <p:pic>
        <p:nvPicPr>
          <p:cNvPr id="109" name="Picture 4" descr="с6"/>
          <p:cNvPicPr/>
          <p:nvPr/>
        </p:nvPicPr>
        <p:blipFill>
          <a:blip r:embed="rId1"/>
          <a:stretch/>
        </p:blipFill>
        <p:spPr>
          <a:xfrm>
            <a:off x="2000160" y="0"/>
            <a:ext cx="495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179280" y="1197000"/>
            <a:ext cx="667872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«Судьбе было угодн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чтобы я одерж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решающую побе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 город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осящем им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амого Сталин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итлер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gitl_paulus"/>
          <p:cNvPicPr/>
          <p:nvPr/>
        </p:nvPicPr>
        <p:blipFill>
          <a:blip r:embed="rId1"/>
          <a:stretch/>
        </p:blipFill>
        <p:spPr>
          <a:xfrm>
            <a:off x="4378320" y="692280"/>
            <a:ext cx="4592520" cy="57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1476360" y="765000"/>
            <a:ext cx="734364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«Каждый командир, красноармеец и политработник должен понять, что наши средства небезграничны. Территория Советского государства — это не пустыня, а люди — рабочие, крестьяне, интеллигенция,– наши отцы, матери, жены, братья, дети. /...…/ Отступать дальше – значит загубить себя и загубить вместе с тем нашу Роди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Ни шагу назад!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Таким теперь должен быть наш главный призыв. Надо упорно, до последней капли крови защищать каждую позицию, каждый метр советской территории, цепляться за каждый клочок советской земли и отстаивать его до последней возможност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И.В.Ста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"/>
          <p:cNvSpPr/>
          <p:nvPr/>
        </p:nvSpPr>
        <p:spPr>
          <a:xfrm>
            <a:off x="2556000" y="18900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ИКАЗ  №2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6:33:26Z</dcterms:created>
  <dc:creator>ПК</dc:creator>
  <dc:description>Корпорация Майкрософт
Шаблон оформления</dc:description>
  <cp:keywords>Шаблон оформления</cp:keywords>
  <dc:language>en-US</dc:language>
  <cp:lastModifiedBy>ольга</cp:lastModifiedBy>
  <dcterms:modified xsi:type="dcterms:W3CDTF">2013-01-28T18:00:01Z</dcterms:modified>
  <cp:revision>76</cp:revision>
  <dc:subject>Шаблон оформления</dc:subject>
  <dc:title>Сталинградская битва  17.07.1942 – 02.02.194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899631049</vt:lpwstr>
  </property>
</Properties>
</file>