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D4-5E4F-45F5-B557-CF5707B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699-A175-4BA2-BAE3-0F6F25BF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626-1B94-42E3-B0DE-54D68E4C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A79-F640-4CA9-882F-BBE6F9EE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C6E-C6AA-4019-A6DE-096A396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E0F-265D-4005-B024-7598FFB4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870-6004-46B9-9528-207060D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9C5-D026-46C9-B355-42C53968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A5E-F3B5-4C7E-942A-6F4CE605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AB2-150E-440D-8D9E-2AE87C5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75C-29DB-45AA-A766-68B5339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ED8-D461-4804-8FA3-73C18993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1F6BD9-106C-4ED7-A8AF-3846ADC0559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33960" y="1989000"/>
            <a:ext cx="656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   Б     Т     С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Р     Ш   В   Ж   К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95280" y="2394000"/>
            <a:ext cx="6132600" cy="720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00120" y="3998880"/>
            <a:ext cx="6132600" cy="576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322040" y="66348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343640" y="12002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7356600" y="184644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7382520" y="24955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7457040" y="3168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495920" y="378000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7451640" y="663480"/>
            <a:ext cx="1152720" cy="391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269080" y="380880"/>
            <a:ext cx="49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СПОМНИ ПРАВИ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РАВЬ ОШИБ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752480" y="191628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ЖЫ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356360" y="2209680"/>
            <a:ext cx="16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ЖИВ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813360" y="2209680"/>
            <a:ext cx="16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ЫШ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203840" y="34290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АЛЫШ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366440" y="372096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КАМ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059560" y="501336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ЧЯ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392800" y="5013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ЧЮ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352520" y="1557360"/>
            <a:ext cx="746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Лыжы мчятся по снеж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ружыт снег пушыст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ахнет свежестью в лес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И ёлочкой душысто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10:24Z</dcterms:created>
  <dc:creator>Dragon</dc:creator>
  <dc:description/>
  <dc:language>en-US</dc:language>
  <cp:lastModifiedBy>User</cp:lastModifiedBy>
  <dcterms:modified xsi:type="dcterms:W3CDTF">2018-12-18T12:05:04Z</dcterms:modified>
  <cp:revision>75</cp:revision>
  <dc:subject/>
  <dc:title>Табличное умножение и деление на 2</dc:title>
</cp:coreProperties>
</file>