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461-7CF1-4C20-AFD0-E91B36E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A70-1709-49EE-B824-4324611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CFF-8632-448A-AD7A-7F33CA21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193-309A-41A6-81E1-92D483FD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FA3-744A-4FA3-A3B1-890A285E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13-F615-468C-9015-1AE7C52E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8E3-0CBA-44D3-A1BC-06ABA21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C0B-C33D-4E65-8B4B-016983B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0A6-18F1-41A7-A3DA-2120C2C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9F4-5418-4D2A-A862-5ADAD16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E19-9624-4EE2-9989-1BB71AC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E5F-CFA2-4340-B70C-1F4848A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Капля 7"/>
          <p:cNvGrpSpPr/>
          <p:nvPr/>
        </p:nvGrpSpPr>
        <p:grpSpPr>
          <a:xfrm>
            <a:off x="6480" y="-103320"/>
            <a:ext cx="8924760" cy="6809040"/>
            <a:chOff x="6480" y="-103320"/>
            <a:chExt cx="8924760" cy="6809040"/>
          </a:xfrm>
        </p:grpSpPr>
        <p:pic>
          <p:nvPicPr>
            <p:cNvPr id="1" name="Капля 7" descr=""/>
            <p:cNvPicPr/>
            <p:nvPr/>
          </p:nvPicPr>
          <p:blipFill>
            <a:blip r:embed="rId3"/>
            <a:stretch/>
          </p:blipFill>
          <p:spPr>
            <a:xfrm>
              <a:off x="6480" y="-103320"/>
              <a:ext cx="8924760" cy="68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6200000">
              <a:off x="2131200" y="217800"/>
              <a:ext cx="4663800" cy="61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8" descr="69415893_08.png"/>
          <p:cNvPicPr/>
          <p:nvPr/>
        </p:nvPicPr>
        <p:blipFill>
          <a:blip r:embed="rId4"/>
          <a:stretch/>
        </p:blipFill>
        <p:spPr>
          <a:xfrm>
            <a:off x="108000" y="4727520"/>
            <a:ext cx="1657440" cy="21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D78-6D57-4218-A699-06693BCF8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Рисунок 9" descr="69415901_09.png"/>
          <p:cNvPicPr/>
          <p:nvPr/>
        </p:nvPicPr>
        <p:blipFill>
          <a:blip r:embed="rId5"/>
          <a:stretch/>
        </p:blipFill>
        <p:spPr>
          <a:xfrm>
            <a:off x="7667640" y="4581360"/>
            <a:ext cx="1384200" cy="21272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5" descr=""/>
          <p:cNvPicPr/>
          <p:nvPr/>
        </p:nvPicPr>
        <p:blipFill>
          <a:blip r:embed="rId6"/>
          <a:stretch/>
        </p:blipFill>
        <p:spPr>
          <a:xfrm>
            <a:off x="7402680" y="0"/>
            <a:ext cx="174132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1"/>
          <p:cNvGrpSpPr/>
          <p:nvPr/>
        </p:nvGrpSpPr>
        <p:grpSpPr>
          <a:xfrm>
            <a:off x="468360" y="1628640"/>
            <a:ext cx="7219800" cy="5480640"/>
            <a:chOff x="468360" y="1628640"/>
            <a:chExt cx="7219800" cy="5480640"/>
          </a:xfrm>
        </p:grpSpPr>
        <p:sp>
          <p:nvSpPr>
            <p:cNvPr id="49" name="TextBox 2"/>
            <p:cNvSpPr/>
            <p:nvPr/>
          </p:nvSpPr>
          <p:spPr>
            <a:xfrm>
              <a:off x="1766880" y="5065560"/>
              <a:ext cx="5258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Monotype Corsiva"/>
                </a:rPr>
                <a:t>Подготовила: Коломыцева Л. 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Monotype Corsiva"/>
                </a:rPr>
                <a:t>           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Monotype Corsiva"/>
                </a:rPr>
                <a:t>воспитат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TextBox 3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7219800" cy="247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-34560" y="189000"/>
            <a:ext cx="81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аимодей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сотрудниками ДОУ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1187280" y="214884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ов гимнастики после сна, включая упражнения на профилактику плоскостопия и нарушения осанки совместно с инструктором ФИЗО и медработ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узыкальным руководителем мелодичной музыки, вызывающей положительные эмоции для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медработником самомассаж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и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18960" y="404640"/>
            <a:ext cx="649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бота с детьм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755640" y="1498320"/>
            <a:ext cx="885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дыхательно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навыкам самомасс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ые физические упраж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нестандарт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художественного слова,   способствующего повышению интересов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а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-70560" y="33336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Результативност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826920" y="1684440"/>
            <a:ext cx="7705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был сформирован навык «активного просыпания» (дети легче просыпаются, активнее включаются в деятельность после дневного с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повысился интерес к физическим упражнениям, управлению собственным     телом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611280" y="1197000"/>
            <a:ext cx="756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способствовал сближению с семьями воспитанников: родители принимали активное участие в проводим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оводимые мероприятия положительно повлияли на общее здоровье детей: анализ заболеваемости детей позволил отметить тенденции к её сни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61080" y="260280"/>
            <a:ext cx="52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ерспекти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68360" y="12920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работы в старших групп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и пополнение физкультурного оборудования. 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332000" y="-14544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итератур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15058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ямовская В.Г. « Как воспитать здорового ребёнка», Москва, 199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енко Т.Е. «Бодрящая гимнастика для дошкольников », Санкт-Петербург, 20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189440" y="1341360"/>
            <a:ext cx="648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539640" y="123840"/>
            <a:ext cx="82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Я не боюсь ещё и ещё раз повторить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бота о здоровье – важнейший труд воспитателя»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             В.А. Сухомли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724760" y="404640"/>
            <a:ext cx="419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робл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42920" y="155736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невного сна дети просыпаются вялыми, у них низкая работоспособность, так как мышечный тонус расслаблен. Все органы и системы (сердечнососудистая, дыхательная, нервная и т.д.) не подготовлены к тем нагрузкам, которые предстоит преодолевать организму ребёнка в процессе деятельности вечером. Ослабленное здоровье детей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161360" y="404640"/>
            <a:ext cx="550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Цель проек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684360" y="178452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е оздоровление де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ривычки здорового образа жизни, самоорганиз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00000" y="-1929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и проек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5280" y="111060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мышечный то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положительные эмоции при выполнении физических упражнений и прочих режимных моментов во второй полов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рофилактике сколиоза и        плоскостопия у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-18828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едполагаемый         результа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76360" y="214956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укрепление здоровья детей, качественное изменение показателей по сколиозу и плоскосто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навыка физической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аботоспособности детей, снижение утомляемости во второй половине дня и в конце не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4125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едварительная рабо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22200" y="225324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Анкетирование родителей на те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здоровье всерьёз 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одбор и изучение литературы по те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Осмотр детей медработн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-1011960" y="340920"/>
            <a:ext cx="94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сновные направлен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ализации проек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72920" y="220680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трудничество с семь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825120" y="3070440"/>
            <a:ext cx="81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заимодействие с сотрудниками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919080" y="400680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-905760" y="476280"/>
            <a:ext cx="999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трудничество с семьёй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826920" y="142956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консультации «На зарядку становись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й досуг «Здоровье в порядке – спасибо заряд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а – передвижка «Чтобы расти здоров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фотостенда « Развиваясь с каждым днём - мы здоровыми растё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ссажных ковриков для ходьбы и упражнений дома и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03:01Z</dcterms:created>
  <dc:creator>РЕТ</dc:creator>
  <dc:description/>
  <dc:language>en-US</dc:language>
  <cp:lastModifiedBy>Alexandrque</cp:lastModifiedBy>
  <dcterms:modified xsi:type="dcterms:W3CDTF">2019-10-14T14:06:01Z</dcterms:modified>
  <cp:revision>11</cp:revision>
  <dc:subject/>
  <dc:title>Презентация PowerPoint</dc:title>
</cp:coreProperties>
</file>