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4B5-2A68-4B1F-90E4-55432892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C5F-5AED-4684-B0F7-B69DC26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182-5BE8-4BDC-AF2E-9672FE43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E49-FB77-43BB-8205-954C4BBF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95A2-2F65-4C02-B9D0-7151EA7F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15F6-15BF-49C2-8F5D-3070807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460-136D-44AA-99D3-8E4AF5F5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C67-11E2-4006-BB1D-9AE3A19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745D-72CF-45E0-B36E-28DE1FDD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68B5-8CA7-4E46-894E-17B6A98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5629-65A6-47DB-86CC-1CE85F1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2DC-DB47-4B17-92AF-A228D780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15B-EE14-49CE-B611-8B9C03D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5949-828F-4317-AB85-2DE5623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B54-AA83-4CF6-9DE1-34B93AD5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2DC8-1A91-4890-A88B-795D1D01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92B9-48E7-41B0-827A-65075093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FDF-C228-48D3-BF51-2BF862A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624-45EB-44B1-82F4-2DE328F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B54-417C-4C4C-9AFB-2DEFCE5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BBE-F067-47CD-81AE-1782DAD7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90C-B8F4-4DC0-B755-822ED13C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D84-309C-469E-9F84-1C5DD57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1B3-83F9-45FA-A6B5-9DCB37D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E66-96E4-4059-83A7-1619A3A6A9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AC2D-F659-4BA4-B4AC-1191171294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102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утешествие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               по Москв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4" descr="ч"/>
          <p:cNvPicPr/>
          <p:nvPr/>
        </p:nvPicPr>
        <p:blipFill>
          <a:blip r:embed="rId1"/>
          <a:stretch/>
        </p:blipFill>
        <p:spPr>
          <a:xfrm>
            <a:off x="1692360" y="1778040"/>
            <a:ext cx="6480000" cy="3746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оверь себ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, стоящий на  берегах Москвы-реки, основанный более 850 лет назад, столица нашей Роди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то был основателем этого город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то изображён на гербе Москв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ая главная, самая славная, самая красивая площадь Моск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рдце Моск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кирпича какого цвета сложены стены московского Кремл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называются часы, по которым сверяет время вся стран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м, в восстановлении которого принимали участие миллионы россиян, внося пожертв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называется культурное учреждение, которое прославилось на весь мир своими оперными и балетными постановкам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называется музей картин великих художник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Москва –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     столица нашей Родины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4508280"/>
            <a:ext cx="7543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од Москва был основан более 850 лет назад на берегах Москвы-ре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ателем Москвы  был князь Юрий Долгорукий, которому теперь в центре города установлен памятн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Герб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это эмблема гор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гербе Москвы изображён всадник с копьём, поражающий змея. Это святой Георгий Победонос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ф"/>
          <p:cNvPicPr/>
          <p:nvPr/>
        </p:nvPicPr>
        <p:blipFill>
          <a:blip r:embed="rId1"/>
          <a:stretch/>
        </p:blipFill>
        <p:spPr>
          <a:xfrm>
            <a:off x="971640" y="177336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SC00114"/>
          <p:cNvPicPr/>
          <p:nvPr/>
        </p:nvPicPr>
        <p:blipFill>
          <a:blip r:embed="rId2"/>
          <a:stretch/>
        </p:blipFill>
        <p:spPr>
          <a:xfrm>
            <a:off x="3635280" y="1773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я"/>
          <p:cNvPicPr/>
          <p:nvPr/>
        </p:nvPicPr>
        <p:blipFill>
          <a:blip r:embed="rId3"/>
          <a:stretch/>
        </p:blipFill>
        <p:spPr>
          <a:xfrm>
            <a:off x="6516720" y="1773360"/>
            <a:ext cx="23922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Достопримечательности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                      Москв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8" descr="я"/>
          <p:cNvPicPr/>
          <p:nvPr/>
        </p:nvPicPr>
        <p:blipFill>
          <a:blip r:embed="rId1"/>
          <a:stretch/>
        </p:blipFill>
        <p:spPr>
          <a:xfrm>
            <a:off x="6443640" y="1844640"/>
            <a:ext cx="2500200" cy="1865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4005360"/>
            <a:ext cx="336096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льшой теат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льшой Кремлёвский дворец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гила Неизвестного солда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нежная площад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0" descr="я"/>
          <p:cNvPicPr/>
          <p:nvPr/>
        </p:nvPicPr>
        <p:blipFill>
          <a:blip r:embed="rId2"/>
          <a:stretch/>
        </p:blipFill>
        <p:spPr>
          <a:xfrm>
            <a:off x="1258920" y="1916280"/>
            <a:ext cx="244944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DSC00115"/>
          <p:cNvPicPr/>
          <p:nvPr/>
        </p:nvPicPr>
        <p:blipFill>
          <a:blip r:embed="rId3"/>
          <a:stretch/>
        </p:blipFill>
        <p:spPr>
          <a:xfrm>
            <a:off x="4140360" y="1773360"/>
            <a:ext cx="1944360" cy="230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я"/>
          <p:cNvPicPr/>
          <p:nvPr/>
        </p:nvPicPr>
        <p:blipFill>
          <a:blip r:embed="rId4"/>
          <a:stretch/>
        </p:blipFill>
        <p:spPr>
          <a:xfrm>
            <a:off x="4211640" y="4437000"/>
            <a:ext cx="1965240" cy="218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м"/>
          <p:cNvPicPr/>
          <p:nvPr/>
        </p:nvPicPr>
        <p:blipFill>
          <a:blip r:embed="rId5"/>
          <a:stretch/>
        </p:blipFill>
        <p:spPr>
          <a:xfrm>
            <a:off x="6443640" y="4417920"/>
            <a:ext cx="252108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Московский Кремл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980720"/>
            <a:ext cx="3816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Москва. Крем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и два имени всегда рядом, потому что Кремль – сердце Москвы. Его древние стены с зубцами. Бойницами, сторожевыми башнями стоят на высоком холме и отражаются в водах Москвы-реки. Купола шлемов похожи на шлемы богатырей. В далёкие времена Кремль был крепостью, за стенами которой жители древней Москвы спасались от врага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. Яковл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ы"/>
          <p:cNvPicPr/>
          <p:nvPr/>
        </p:nvPicPr>
        <p:blipFill>
          <a:blip r:embed="rId1"/>
          <a:stretch/>
        </p:blipFill>
        <p:spPr>
          <a:xfrm>
            <a:off x="4788000" y="2421000"/>
            <a:ext cx="4176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Из истории Кремля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(картины А.М.Васнецов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5013000"/>
            <a:ext cx="754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снование Москвы. Постройка первых стен Кремля Юрием Долгоруки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Московский Кремль при Иване Калит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DSC00118"/>
          <p:cNvPicPr/>
          <p:nvPr/>
        </p:nvPicPr>
        <p:blipFill>
          <a:blip r:embed="rId1"/>
          <a:stretch/>
        </p:blipFill>
        <p:spPr>
          <a:xfrm>
            <a:off x="395280" y="1628640"/>
            <a:ext cx="4248000" cy="296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DSC00119"/>
          <p:cNvPicPr/>
          <p:nvPr/>
        </p:nvPicPr>
        <p:blipFill>
          <a:blip r:embed="rId2"/>
          <a:stretch/>
        </p:blipFill>
        <p:spPr>
          <a:xfrm>
            <a:off x="5003640" y="162864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2000" y="4437000"/>
            <a:ext cx="72784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территории Кремля находятся уник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и истории и культуры, которыми гордится Росс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ская баш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м Василия блаженного (Покровский собо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окольня «Иван Велики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я"/>
          <p:cNvPicPr/>
          <p:nvPr/>
        </p:nvPicPr>
        <p:blipFill>
          <a:blip r:embed="rId1"/>
          <a:stretch/>
        </p:blipFill>
        <p:spPr>
          <a:xfrm>
            <a:off x="6516720" y="1844640"/>
            <a:ext cx="2265480" cy="252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с"/>
          <p:cNvPicPr/>
          <p:nvPr/>
        </p:nvPicPr>
        <p:blipFill>
          <a:blip r:embed="rId2"/>
          <a:stretch/>
        </p:blipFill>
        <p:spPr>
          <a:xfrm>
            <a:off x="1187280" y="1773360"/>
            <a:ext cx="24242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я"/>
          <p:cNvPicPr/>
          <p:nvPr/>
        </p:nvPicPr>
        <p:blipFill>
          <a:blip r:embed="rId3"/>
          <a:stretch/>
        </p:blipFill>
        <p:spPr>
          <a:xfrm>
            <a:off x="3897360" y="184464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1619280" y="18900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«Москва, Москва! Люблю тебя как сын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Как русский – сильно, пламенно и нежно!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Люблю священный блеск твоих седин,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И этот Кремль, зубчатый, безмятежный»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М. Ю. Лермо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Каменное ди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640" y="4436640"/>
            <a:ext cx="770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мотрят люди и глазам не верят. Поднимается над площадью каменное диво с узорчатыми стенами и главами. И каждая из этих глав украшена на свой манер причудливой каменной резьбой. Волнисты. Ребристые, игольчатые. И разноцветные. Словно радуга».  А. Кард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ревянный храм иконы Казанской Божьей матери (Казанский собо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ческий муз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я"/>
          <p:cNvPicPr/>
          <p:nvPr/>
        </p:nvPicPr>
        <p:blipFill>
          <a:blip r:embed="rId1"/>
          <a:stretch/>
        </p:blipFill>
        <p:spPr>
          <a:xfrm>
            <a:off x="1476360" y="1506600"/>
            <a:ext cx="3600360" cy="268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я"/>
          <p:cNvPicPr/>
          <p:nvPr/>
        </p:nvPicPr>
        <p:blipFill>
          <a:blip r:embed="rId2"/>
          <a:stretch/>
        </p:blipFill>
        <p:spPr>
          <a:xfrm>
            <a:off x="5651640" y="1432080"/>
            <a:ext cx="316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Красная площад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4149360"/>
            <a:ext cx="8424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огда-то на Руси словом «красный» называли не только цвет. «Красный» означало также «красивый». А ещё «главный». «славный», «почётный», «самый дорогой».Главный вход в терем назывался красным крыльцом. Самое почётное место в доме – красным уг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и решили люди московские назвать свою самую главную, самую славную и самую красивую площадь Красной»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Кард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ч"/>
          <p:cNvPicPr/>
          <p:nvPr/>
        </p:nvPicPr>
        <p:blipFill>
          <a:blip r:embed="rId1"/>
          <a:stretch/>
        </p:blipFill>
        <p:spPr>
          <a:xfrm>
            <a:off x="2627280" y="1628640"/>
            <a:ext cx="43210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амятники литейного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                         искусств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64000" y="4941360"/>
            <a:ext cx="5046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-колок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-п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я"/>
          <p:cNvPicPr/>
          <p:nvPr/>
        </p:nvPicPr>
        <p:blipFill>
          <a:blip r:embed="rId1"/>
          <a:stretch/>
        </p:blipFill>
        <p:spPr>
          <a:xfrm>
            <a:off x="1979640" y="198900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я"/>
          <p:cNvPicPr/>
          <p:nvPr/>
        </p:nvPicPr>
        <p:blipFill>
          <a:blip r:embed="rId2"/>
          <a:stretch/>
        </p:blipFill>
        <p:spPr>
          <a:xfrm>
            <a:off x="5435640" y="1989000"/>
            <a:ext cx="3382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0:35:24Z</dcterms:created>
  <dc:creator>Оксана</dc:creator>
  <dc:description/>
  <dc:language>en-US</dc:language>
  <cp:lastModifiedBy>User</cp:lastModifiedBy>
  <dcterms:modified xsi:type="dcterms:W3CDTF">2019-10-21T14:19:42Z</dcterms:modified>
  <cp:revision>15</cp:revision>
  <dc:subject/>
  <dc:title>Путешествие                 по Москве</dc:title>
</cp:coreProperties>
</file>