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4.png" ContentType="image/pn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wmf" ContentType="image/x-wmf"/>
  <Override PartName="/ppt/media/image30.png" ContentType="image/png"/>
  <Override PartName="/ppt/media/image5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2.png" ContentType="image/png"/>
  <Override PartName="/ppt/media/image23.png" ContentType="image/png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A21A-CE71-4B31-AE82-E18428634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11F7-986D-4439-AA8D-636CC3C91B2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062-F650-42DB-ABD8-2BF0A457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1EC-EA52-4936-9A3A-BBD14B49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70A-288B-42EE-BB5F-D733F149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73F-96FF-4B49-B41E-E60A14EB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306-0E26-4250-A2A0-5CEA5808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B40-AD05-4C89-8067-DD89D23A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31E-EC30-4C89-8AA4-FBDFCD1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B20-7103-4843-A01C-7A017C3C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447-5D30-46E2-8924-234AE1C6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D10-CF18-44DE-AC52-34365EEE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589-63A0-46DE-8B2A-853F8D84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757-DC96-4902-911E-90A60DDD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2C5C-AE60-47DF-814C-293DEF82E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39640" y="2141280"/>
            <a:ext cx="813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  <a:ea typeface="Arial"/>
              </a:rPr>
              <a:t>Техника и принципы нанесения размеров</a:t>
            </a:r>
            <a:r>
              <a:rPr b="0" i="1" lang="ru-RU" sz="6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3284280" y="1268280"/>
            <a:ext cx="24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Тема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571840" y="2857680"/>
            <a:ext cx="4000320" cy="39002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812520" y="428760"/>
            <a:ext cx="763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и наличии нескольких изображений все разме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тносящиеся к одному конструктивному элемен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екомендуетс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руппировать в одном 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 располагать их на том изображении, н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о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еометрическая форма данн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казана наиболее по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3" descr="7_3.jpeg"/>
          <p:cNvPicPr/>
          <p:nvPr/>
        </p:nvPicPr>
        <p:blipFill>
          <a:blip r:embed="rId1"/>
          <a:stretch/>
        </p:blipFill>
        <p:spPr>
          <a:xfrm>
            <a:off x="857160" y="2286000"/>
            <a:ext cx="2928960" cy="12142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4071960" y="8571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ри недостатке места для стрелок на размерных линиях, расположенных цепочкой, стрелки допускается заменять засечками, наносимыми под углом 4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Book Antiqua"/>
                <a:ea typeface="Arial"/>
              </a:rPr>
              <a:t>0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к размерным линиям, или четко наносимыми т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4" descr="7_4.jpeg"/>
          <p:cNvPicPr/>
          <p:nvPr/>
        </p:nvPicPr>
        <p:blipFill>
          <a:blip r:embed="rId2"/>
          <a:stretch/>
        </p:blipFill>
        <p:spPr>
          <a:xfrm>
            <a:off x="857160" y="357120"/>
            <a:ext cx="2928960" cy="1285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145600" y="178596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5" descr="7_5.jpeg"/>
          <p:cNvPicPr/>
          <p:nvPr/>
        </p:nvPicPr>
        <p:blipFill>
          <a:blip r:embed="rId3"/>
          <a:stretch/>
        </p:blipFill>
        <p:spPr>
          <a:xfrm>
            <a:off x="928800" y="4714920"/>
            <a:ext cx="2928960" cy="12142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4000680" y="4214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ри недостатке места для стрелки из-за близко расположенной контурной или выносной линии последние допускается прер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2428560"/>
            <a:ext cx="38862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Нанесение размеров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 радиусов ду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28680" y="557208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Нанесение размер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угл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214960" y="2500200"/>
            <a:ext cx="3219480" cy="2637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42960" y="3929040"/>
            <a:ext cx="2595600" cy="24685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6"/>
          <p:cNvSpPr/>
          <p:nvPr/>
        </p:nvSpPr>
        <p:spPr>
          <a:xfrm rot="10800000">
            <a:off x="3214800" y="57862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4071960" y="314316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357120" y="428760"/>
            <a:ext cx="4576680" cy="2143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6"/>
          <p:cNvSpPr/>
          <p:nvPr/>
        </p:nvSpPr>
        <p:spPr>
          <a:xfrm rot="10800000">
            <a:off x="4714920" y="35676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5715000" y="357120"/>
            <a:ext cx="3214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0000"/>
                </a:solidFill>
                <a:latin typeface="Calibri"/>
              </a:rPr>
              <a:t>Нанесение размеров </a:t>
            </a:r>
            <a:br>
              <a:rPr sz="2600"/>
            </a:br>
            <a:r>
              <a:rPr b="1" i="1" lang="ru-RU" sz="2600" spc="-1" strike="noStrike">
                <a:solidFill>
                  <a:srgbClr val="990000"/>
                </a:solidFill>
                <a:latin typeface="Calibri"/>
              </a:rPr>
              <a:t>диаметров окру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643120" y="1428840"/>
            <a:ext cx="6248520" cy="785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228600" y="21420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оразмерность зна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букв и размерных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 rot="2531400">
            <a:off x="5179680" y="693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ttp://festival.1september.ru/files/articles/57/5713/571315/img8.jpg"/>
          <p:cNvPicPr/>
          <p:nvPr/>
        </p:nvPicPr>
        <p:blipFill>
          <a:blip r:embed="rId2"/>
          <a:stretch/>
        </p:blipFill>
        <p:spPr>
          <a:xfrm>
            <a:off x="5500800" y="2428920"/>
            <a:ext cx="3595680" cy="32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L:\001.jpg"/>
          <p:cNvPicPr/>
          <p:nvPr/>
        </p:nvPicPr>
        <p:blipFill>
          <a:blip r:embed="rId3"/>
          <a:stretch/>
        </p:blipFill>
        <p:spPr>
          <a:xfrm>
            <a:off x="522360" y="2143080"/>
            <a:ext cx="474660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7"/>
          <p:cNvSpPr/>
          <p:nvPr/>
        </p:nvSpPr>
        <p:spPr>
          <a:xfrm>
            <a:off x="5429160" y="5929200"/>
            <a:ext cx="2928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лщина де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РАСПОЛОЖЕНИЕ РАЗМЕРНЫХ ЧИС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5" descr="7_12.jpeg"/>
          <p:cNvPicPr/>
          <p:nvPr/>
        </p:nvPicPr>
        <p:blipFill>
          <a:blip r:embed="rId1"/>
          <a:stretch/>
        </p:blipFill>
        <p:spPr>
          <a:xfrm>
            <a:off x="571680" y="2571840"/>
            <a:ext cx="3786120" cy="328608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3"/>
          <p:cNvSpPr/>
          <p:nvPr/>
        </p:nvSpPr>
        <p:spPr>
          <a:xfrm>
            <a:off x="214200" y="107172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мерные числа линейных размеров при различных наклонах размерных линий располагаются так, как показано ниж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7" descr="7_13.jpeg"/>
          <p:cNvPicPr/>
          <p:nvPr/>
        </p:nvPicPr>
        <p:blipFill>
          <a:blip r:embed="rId2"/>
          <a:stretch/>
        </p:blipFill>
        <p:spPr>
          <a:xfrm>
            <a:off x="4857840" y="100008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5"/>
          <p:cNvSpPr/>
          <p:nvPr/>
        </p:nvSpPr>
        <p:spPr>
          <a:xfrm>
            <a:off x="4357800" y="48578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необходимо нанести размер в заштрихованной зоне, то размерное число размещается на полке линии-выно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7129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несение размеров угл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5" descr="7_14.jpeg"/>
          <p:cNvPicPr/>
          <p:nvPr/>
        </p:nvPicPr>
        <p:blipFill>
          <a:blip r:embed="rId1"/>
          <a:stretch/>
        </p:blipFill>
        <p:spPr>
          <a:xfrm>
            <a:off x="2000160" y="1357200"/>
            <a:ext cx="51102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7"/>
          <p:cNvSpPr/>
          <p:nvPr/>
        </p:nvSpPr>
        <p:spPr>
          <a:xfrm>
            <a:off x="1571760" y="535788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 заштрихованной зоне угловые размерные числа наносятся на полке линии-выно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0"/>
          <p:cNvSpPr/>
          <p:nvPr/>
        </p:nvSpPr>
        <p:spPr>
          <a:xfrm>
            <a:off x="642960" y="142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онусность. Перед размерным числом, определяющим конусность, ставят знак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оторый представляет собой равнобедренный треугольник с острым углом при верш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8"/>
          <p:cNvCxnSpPr/>
          <p:nvPr/>
        </p:nvCxnSpPr>
        <p:spPr>
          <a:xfrm flipV="1">
            <a:off x="6429240" y="678960"/>
            <a:ext cx="202320" cy="1072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56" name="AutoShape 19"/>
          <p:cNvCxnSpPr/>
          <p:nvPr/>
        </p:nvCxnSpPr>
        <p:spPr>
          <a:xfrm>
            <a:off x="6429240" y="785520"/>
            <a:ext cx="202320" cy="608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57" name="AutoShape 20"/>
          <p:cNvCxnSpPr/>
          <p:nvPr/>
        </p:nvCxnSpPr>
        <p:spPr>
          <a:xfrm>
            <a:off x="6630480" y="678960"/>
            <a:ext cx="1080" cy="1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pic>
        <p:nvPicPr>
          <p:cNvPr id="158" name="Picture 21" descr=""/>
          <p:cNvPicPr/>
          <p:nvPr/>
        </p:nvPicPr>
        <p:blipFill>
          <a:blip r:embed="rId1"/>
          <a:stretch/>
        </p:blipFill>
        <p:spPr>
          <a:xfrm>
            <a:off x="182520" y="2357280"/>
            <a:ext cx="8413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642960" y="2858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клон. Перед размерным числом, определяющим уклон прямой, ставят знак    ,вершина которого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олжна быть направлена в сторону уклона (ска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AutoShape 15"/>
          <p:cNvCxnSpPr/>
          <p:nvPr/>
        </p:nvCxnSpPr>
        <p:spPr>
          <a:xfrm flipH="1">
            <a:off x="2356920" y="6751440"/>
            <a:ext cx="167040" cy="1069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1" name="AutoShape 15"/>
          <p:cNvCxnSpPr/>
          <p:nvPr/>
        </p:nvCxnSpPr>
        <p:spPr>
          <a:xfrm flipH="1">
            <a:off x="2509560" y="6903720"/>
            <a:ext cx="167040" cy="1069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2" name="AutoShape 4"/>
          <p:cNvCxnSpPr/>
          <p:nvPr/>
        </p:nvCxnSpPr>
        <p:spPr>
          <a:xfrm flipH="1">
            <a:off x="3642840" y="857160"/>
            <a:ext cx="167040" cy="1072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3" name="AutoShape 5"/>
          <p:cNvCxnSpPr/>
          <p:nvPr/>
        </p:nvCxnSpPr>
        <p:spPr>
          <a:xfrm>
            <a:off x="3642840" y="963360"/>
            <a:ext cx="16704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pic>
        <p:nvPicPr>
          <p:cNvPr id="164" name="Picture 17" descr=""/>
          <p:cNvPicPr/>
          <p:nvPr/>
        </p:nvPicPr>
        <p:blipFill>
          <a:blip r:embed="rId1"/>
          <a:stretch/>
        </p:blipFill>
        <p:spPr>
          <a:xfrm>
            <a:off x="201600" y="2928960"/>
            <a:ext cx="8350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4475160" cy="556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нанесения размеров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А – размеры конструктивных элементов;</a:t>
            </a:r>
            <a:br>
              <a:rPr sz="3200"/>
            </a:br>
            <a:r>
              <a:rPr b="1" lang="ru-RU" sz="3200" spc="-1" strike="noStrike">
                <a:solidFill>
                  <a:srgbClr val="ff9900"/>
                </a:solidFill>
                <a:latin typeface="Calibri"/>
              </a:rPr>
              <a:t>Б – координирующие размеры;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В – габаритные разм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4859280" y="333360"/>
          <a:ext cx="3716280" cy="61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33360"/>
                    <a:ext cx="371628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000080" y="2428920"/>
            <a:ext cx="6815160" cy="3911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4200" y="3571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В каком бы масштабе не выполнялось изображение, размеры на чертеже наносят действительные, т.е. размеры при уменьшении и увеличении изображения не изме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28760" y="1472400"/>
            <a:ext cx="817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формировать знания о видах размер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о правилах, приёмах и методах нанесения разме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формировать опыт самостоя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преодоления познавательных затруд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Тренировать умение анализировать, сравнивать и рассуждать, умения оценивать свою деятельность, коммуникативные умения слушать друг друга, высказывать свою точку зрения, аргументировать её, работать в паре,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Найдит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http://festival.1september.ru/files/articles/57/5713/571315/img11.jpg"/>
          <p:cNvPicPr/>
          <p:nvPr/>
        </p:nvPicPr>
        <p:blipFill>
          <a:blip r:embed="rId1"/>
          <a:stretch/>
        </p:blipFill>
        <p:spPr>
          <a:xfrm>
            <a:off x="415800" y="928800"/>
            <a:ext cx="4370400" cy="598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://festival.1september.ru/files/articles/57/5713/571315/img12.jpg"/>
          <p:cNvPicPr/>
          <p:nvPr/>
        </p:nvPicPr>
        <p:blipFill>
          <a:blip r:embed="rId2"/>
          <a:stretch/>
        </p:blipFill>
        <p:spPr>
          <a:xfrm>
            <a:off x="4500720" y="1071720"/>
            <a:ext cx="4176720" cy="53528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285840" y="6500880"/>
            <a:ext cx="837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показа правильного решения в окне «выделить»  выберите область выделения и щелкните внутри квадр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0438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 каком чертеже  правильно  нанесены размерные линии (на чертежах даны не все требуемые размеры).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чем ошибки остальных чертежей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3" descr="карточки задания по черчению 003.jpg"/>
          <p:cNvPicPr/>
          <p:nvPr/>
        </p:nvPicPr>
        <p:blipFill>
          <a:blip r:embed="rId1"/>
          <a:stretch/>
        </p:blipFill>
        <p:spPr>
          <a:xfrm>
            <a:off x="988920" y="1500120"/>
            <a:ext cx="7083360" cy="521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Самостоятельная работа по карточкам</a:t>
            </a:r>
            <a:br>
              <a:rPr sz="2500"/>
            </a:b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Нанесение размеров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(Детали плоские толщиной 5 мм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5960" y="1642680"/>
            <a:ext cx="2643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71680" y="1714320"/>
            <a:ext cx="27147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Содержимое 7" descr="https://sites.google.com/site/ucitelskijparkurtdm/_/rsrc/1326108471236/metodiceskaa-kopilka/cercenie/%D1%83%D1%80%D0%BE%D0%BA4.png"/>
          <p:cNvPicPr/>
          <p:nvPr/>
        </p:nvPicPr>
        <p:blipFill>
          <a:blip r:embed="rId1"/>
          <a:stretch/>
        </p:blipFill>
        <p:spPr>
          <a:xfrm>
            <a:off x="630360" y="2428920"/>
            <a:ext cx="67993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356920" y="1642680"/>
            <a:ext cx="17146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14640" y="2071800"/>
            <a:ext cx="178596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69840" y="2071800"/>
            <a:ext cx="8869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171360" y="1500120"/>
          <a:ext cx="836136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500120"/>
                    <a:ext cx="836136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Прямоугольник 2"/>
          <p:cNvSpPr/>
          <p:nvPr/>
        </p:nvSpPr>
        <p:spPr>
          <a:xfrm>
            <a:off x="2437920" y="78588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равните чертежи в таблице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539640" y="68580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нанесении размеров необходимо учитывать особенности изготовления, характер работы каждого эле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меры наносят так, чтобы при изготовлении детали не приходилось выяснять что-либо  путем подсч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меры на рабочем чертеже детали должны быть нанесены так, чтобы обеспечить наименьшую трудоемкость изготовления дет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Снимок.PNG"/>
          <p:cNvPicPr/>
          <p:nvPr/>
        </p:nvPicPr>
        <p:blipFill>
          <a:blip r:embed="rId1"/>
          <a:stretch/>
        </p:blipFill>
        <p:spPr>
          <a:xfrm>
            <a:off x="4429080" y="1714680"/>
            <a:ext cx="4286160" cy="264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Ольга\Desktop\Снимок 2.PNG"/>
          <p:cNvPicPr/>
          <p:nvPr/>
        </p:nvPicPr>
        <p:blipFill>
          <a:blip r:embed="rId2"/>
          <a:stretch/>
        </p:blipFill>
        <p:spPr>
          <a:xfrm>
            <a:off x="0" y="1500120"/>
            <a:ext cx="4643280" cy="356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920" y="4714560"/>
            <a:ext cx="8772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определения величины изображенного изделия или какой- либо его части по чертежу на нем проставляются размеры. Правила нанесения размеров устанавливают стандарты ЕСКД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80440" y="357120"/>
            <a:ext cx="53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Что не хватает для изготовления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Добавьте необходимую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69360" y="635796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показа правильного решения в окне «выделить»  выберите область выделения и щелкните внутри квадр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3635280" y="825480"/>
          <a:ext cx="530064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825480"/>
                    <a:ext cx="530064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Прямоугольник 2"/>
          <p:cNvSpPr/>
          <p:nvPr/>
        </p:nvSpPr>
        <p:spPr>
          <a:xfrm>
            <a:off x="500040" y="2071800"/>
            <a:ext cx="2714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айдите ошиб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опущ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и нанес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аз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457440" y="1341360"/>
          <a:ext cx="5264280" cy="49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7440" y="1341360"/>
                    <a:ext cx="526428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Прямоугольник 2"/>
          <p:cNvSpPr/>
          <p:nvPr/>
        </p:nvSpPr>
        <p:spPr>
          <a:xfrm>
            <a:off x="714240" y="2071800"/>
            <a:ext cx="20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анесение раз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 ГО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971800" y="3808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Разме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914400" y="228600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линейны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6477120" y="2362320"/>
            <a:ext cx="1990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угловы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66" name="AutoShape 7"/>
          <p:cNvSpPr/>
          <p:nvPr/>
        </p:nvSpPr>
        <p:spPr>
          <a:xfrm rot="7801800">
            <a:off x="3488040" y="131148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 rot="2946600">
            <a:off x="4631040" y="13122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 rot="5400000">
            <a:off x="1430640" y="32169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 rot="5400000">
            <a:off x="7069320" y="314064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0" y="4191120"/>
            <a:ext cx="426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лина, ширина, толщина, выс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иаметр или радиус измеряемой части изделия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5953320" y="4267080"/>
            <a:ext cx="244224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еличина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″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4"/>
          <p:cNvSpPr/>
          <p:nvPr/>
        </p:nvSpPr>
        <p:spPr>
          <a:xfrm>
            <a:off x="1643040" y="1000080"/>
            <a:ext cx="2924280" cy="1285920"/>
          </a:xfrm>
          <a:custGeom>
            <a:avLst/>
            <a:gdLst>
              <a:gd name="textAreaLeft" fmla="*/ 0 w 2924280"/>
              <a:gd name="textAreaRight" fmla="*/ 2924640 w 29242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3696" h="1872">
                <a:moveTo>
                  <a:pt x="0" y="0"/>
                </a:moveTo>
                <a:lnTo>
                  <a:pt x="0" y="1872"/>
                </a:lnTo>
                <a:lnTo>
                  <a:pt x="3696" y="1872"/>
                </a:lnTo>
                <a:lnTo>
                  <a:pt x="3696" y="1056"/>
                </a:lnTo>
                <a:lnTo>
                  <a:pt x="2592" y="1056"/>
                </a:lnTo>
                <a:lnTo>
                  <a:pt x="2592" y="432"/>
                </a:lnTo>
                <a:lnTo>
                  <a:pt x="1488" y="432"/>
                </a:lnTo>
                <a:lnTo>
                  <a:pt x="148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1214280" y="1000080"/>
            <a:ext cx="428760" cy="1285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58680 h 1285920"/>
              <a:gd name="textAreaBottom" fmla="*/ 122724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5"/>
                  <a:pt x="10800" y="3149"/>
                </a:cubicBezTo>
                <a:lnTo>
                  <a:pt x="10800" y="7651"/>
                </a:lnTo>
                <a:cubicBezTo>
                  <a:pt x="10800" y="9226"/>
                  <a:pt x="5400" y="10800"/>
                  <a:pt x="0" y="10800"/>
                </a:cubicBezTo>
                <a:cubicBezTo>
                  <a:pt x="5400" y="10800"/>
                  <a:pt x="10800" y="12375"/>
                  <a:pt x="10800" y="13949"/>
                </a:cubicBezTo>
                <a:lnTo>
                  <a:pt x="10800" y="18451"/>
                </a:lnTo>
                <a:cubicBezTo>
                  <a:pt x="10800" y="2002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 rot="16200000">
            <a:off x="2932920" y="996120"/>
            <a:ext cx="349200" cy="2928960"/>
          </a:xfrm>
          <a:custGeom>
            <a:avLst/>
            <a:gdLst>
              <a:gd name="textAreaLeft" fmla="*/ 223200 w 349200"/>
              <a:gd name="textAreaRight" fmla="*/ 349560 w 349200"/>
              <a:gd name="textAreaTop" fmla="*/ 74520 h 2928960"/>
              <a:gd name="textAreaBottom" fmla="*/ 285444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9"/>
                  <a:pt x="10800" y="1758"/>
                </a:cubicBezTo>
                <a:lnTo>
                  <a:pt x="10800" y="8906"/>
                </a:lnTo>
                <a:cubicBezTo>
                  <a:pt x="10800" y="9785"/>
                  <a:pt x="5400" y="10664"/>
                  <a:pt x="0" y="10664"/>
                </a:cubicBezTo>
                <a:cubicBezTo>
                  <a:pt x="5400" y="10664"/>
                  <a:pt x="10800" y="11543"/>
                  <a:pt x="10800" y="12422"/>
                </a:cubicBezTo>
                <a:lnTo>
                  <a:pt x="10800" y="19842"/>
                </a:lnTo>
                <a:cubicBezTo>
                  <a:pt x="10800" y="2072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42920" y="13572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ы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500120" y="27147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иней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15"/>
          <p:cNvGrpSpPr/>
          <p:nvPr/>
        </p:nvGrpSpPr>
        <p:grpSpPr>
          <a:xfrm>
            <a:off x="7286760" y="428760"/>
            <a:ext cx="1665000" cy="2827440"/>
            <a:chOff x="7286760" y="428760"/>
            <a:chExt cx="1665000" cy="2827440"/>
          </a:xfrm>
        </p:grpSpPr>
        <p:sp>
          <p:nvSpPr>
            <p:cNvPr id="79" name="Line 9"/>
            <p:cNvSpPr/>
            <p:nvPr/>
          </p:nvSpPr>
          <p:spPr>
            <a:xfrm>
              <a:off x="7286760" y="1242720"/>
              <a:ext cx="0" cy="12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>
              <a:off x="8909640" y="1242720"/>
              <a:ext cx="0" cy="12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14"/>
            <p:cNvGrpSpPr/>
            <p:nvPr/>
          </p:nvGrpSpPr>
          <p:grpSpPr>
            <a:xfrm>
              <a:off x="7286760" y="428760"/>
              <a:ext cx="1665000" cy="2827440"/>
              <a:chOff x="7286760" y="428760"/>
              <a:chExt cx="1665000" cy="2827440"/>
            </a:xfrm>
          </p:grpSpPr>
          <p:sp>
            <p:nvSpPr>
              <p:cNvPr id="82" name="Oval 5"/>
              <p:cNvSpPr/>
              <p:nvPr/>
            </p:nvSpPr>
            <p:spPr>
              <a:xfrm>
                <a:off x="7286760" y="428760"/>
                <a:ext cx="1622880" cy="16279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11"/>
              <p:cNvSpPr/>
              <p:nvPr/>
            </p:nvSpPr>
            <p:spPr>
              <a:xfrm rot="16200000">
                <a:off x="7990920" y="1908000"/>
                <a:ext cx="256680" cy="1665000"/>
              </a:xfrm>
              <a:custGeom>
                <a:avLst/>
                <a:gdLst>
                  <a:gd name="textAreaLeft" fmla="*/ 164160 w 256680"/>
                  <a:gd name="textAreaRight" fmla="*/ 257040 w 256680"/>
                  <a:gd name="textAreaTop" fmla="*/ 43200 h 1665000"/>
                  <a:gd name="textAreaBottom" fmla="*/ 1621800 h 166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12"/>
              <p:cNvSpPr/>
              <p:nvPr/>
            </p:nvSpPr>
            <p:spPr>
              <a:xfrm>
                <a:off x="7458120" y="2857320"/>
                <a:ext cx="145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диамет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8"/>
          <p:cNvGrpSpPr/>
          <p:nvPr/>
        </p:nvGrpSpPr>
        <p:grpSpPr>
          <a:xfrm>
            <a:off x="1834920" y="4941720"/>
            <a:ext cx="2729160" cy="1571760"/>
            <a:chOff x="1834920" y="4941720"/>
            <a:chExt cx="2729160" cy="1571760"/>
          </a:xfrm>
        </p:grpSpPr>
        <p:sp>
          <p:nvSpPr>
            <p:cNvPr id="86" name="Line 6"/>
            <p:cNvSpPr/>
            <p:nvPr/>
          </p:nvSpPr>
          <p:spPr>
            <a:xfrm flipH="1">
              <a:off x="1834920" y="4941720"/>
              <a:ext cx="1941480" cy="157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1835280" y="6513480"/>
              <a:ext cx="2728800" cy="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9"/>
          <p:cNvSpPr/>
          <p:nvPr/>
        </p:nvSpPr>
        <p:spPr>
          <a:xfrm rot="19965000">
            <a:off x="4140360" y="4652640"/>
            <a:ext cx="744480" cy="1757160"/>
          </a:xfrm>
          <a:custGeom>
            <a:avLst/>
            <a:gdLst>
              <a:gd name="textAreaLeft" fmla="*/ 0 w 744480"/>
              <a:gd name="textAreaRight" fmla="*/ 268920 w 744480"/>
              <a:gd name="textAreaTop" fmla="*/ 68040 h 1757160"/>
              <a:gd name="textAreaBottom" fmla="*/ 1689120 h 17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3"/>
                  <a:pt x="10800" y="2686"/>
                </a:cubicBezTo>
                <a:lnTo>
                  <a:pt x="10800" y="8114"/>
                </a:lnTo>
                <a:cubicBezTo>
                  <a:pt x="10800" y="9457"/>
                  <a:pt x="16200" y="10800"/>
                  <a:pt x="21600" y="10800"/>
                </a:cubicBezTo>
                <a:cubicBezTo>
                  <a:pt x="16200" y="10800"/>
                  <a:pt x="10800" y="12143"/>
                  <a:pt x="10800" y="13486"/>
                </a:cubicBezTo>
                <a:lnTo>
                  <a:pt x="10800" y="18914"/>
                </a:lnTo>
                <a:cubicBezTo>
                  <a:pt x="10800" y="2025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0"/>
          <p:cNvSpPr/>
          <p:nvPr/>
        </p:nvSpPr>
        <p:spPr>
          <a:xfrm>
            <a:off x="928800" y="3643200"/>
            <a:ext cx="457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Углов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меры, которые характеризуют величину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6" descr="http://festival.1september.ru/files/articles/57/5713/571315/img1.jpg"/>
          <p:cNvPicPr/>
          <p:nvPr/>
        </p:nvPicPr>
        <p:blipFill>
          <a:blip r:embed="rId1"/>
          <a:stretch/>
        </p:blipFill>
        <p:spPr>
          <a:xfrm>
            <a:off x="5911920" y="3840120"/>
            <a:ext cx="2784240" cy="28116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7"/>
          <p:cNvSpPr/>
          <p:nvPr/>
        </p:nvSpPr>
        <p:spPr>
          <a:xfrm>
            <a:off x="5003640" y="1052640"/>
            <a:ext cx="1656000" cy="1511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511280"/>
              <a:gd name="textAreaBottom" fmla="*/ 539640 h 1511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5400000">
            <a:off x="6134400" y="1505520"/>
            <a:ext cx="216000" cy="893880"/>
          </a:xfrm>
          <a:custGeom>
            <a:avLst/>
            <a:gdLst>
              <a:gd name="textAreaLeft" fmla="*/ 0 w 216000"/>
              <a:gd name="textAreaRight" fmla="*/ 78120 w 216000"/>
              <a:gd name="textAreaTop" fmla="*/ 34560 h 893880"/>
              <a:gd name="textAreaBottom" fmla="*/ 85932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3"/>
                  <a:pt x="10800" y="2686"/>
                </a:cubicBezTo>
                <a:lnTo>
                  <a:pt x="10800" y="8393"/>
                </a:lnTo>
                <a:cubicBezTo>
                  <a:pt x="10800" y="9736"/>
                  <a:pt x="16200" y="11079"/>
                  <a:pt x="21600" y="11079"/>
                </a:cubicBezTo>
                <a:cubicBezTo>
                  <a:pt x="16200" y="11079"/>
                  <a:pt x="10800" y="12422"/>
                  <a:pt x="10800" y="13765"/>
                </a:cubicBezTo>
                <a:lnTo>
                  <a:pt x="10800" y="18914"/>
                </a:lnTo>
                <a:cubicBezTo>
                  <a:pt x="10800" y="2025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788000" y="2205000"/>
            <a:ext cx="23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ди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8" descr=""/>
          <p:cNvPicPr/>
          <p:nvPr/>
        </p:nvPicPr>
        <p:blipFill>
          <a:blip r:embed="rId1"/>
          <a:stretch/>
        </p:blipFill>
        <p:spPr>
          <a:xfrm>
            <a:off x="5929200" y="4000680"/>
            <a:ext cx="2695680" cy="2571480"/>
          </a:xfrm>
          <a:prstGeom prst="rect">
            <a:avLst/>
          </a:prstGeom>
          <a:ln w="0">
            <a:noFill/>
          </a:ln>
        </p:spPr>
      </p:pic>
      <p:sp>
        <p:nvSpPr>
          <p:cNvPr id="95" name="Line 6"/>
          <p:cNvSpPr/>
          <p:nvPr/>
        </p:nvSpPr>
        <p:spPr>
          <a:xfrm>
            <a:off x="3419640" y="57276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3348000" y="31352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211640" y="31352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3851280" y="2071800"/>
            <a:ext cx="2077920" cy="10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86280" y="150012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носн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 rot="16200000">
            <a:off x="3816360" y="554832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348000" y="6014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4211640" y="2928960"/>
            <a:ext cx="1717560" cy="78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786280" y="242892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ерн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 flipV="1" rot="16200000">
            <a:off x="4428000" y="5728320"/>
            <a:ext cx="72720" cy="360360"/>
          </a:xfrm>
          <a:custGeom>
            <a:avLst/>
            <a:gdLst>
              <a:gd name="textAreaLeft" fmla="*/ 46440 w 72720"/>
              <a:gd name="textAreaRight" fmla="*/ 73080 w 7272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 flipH="1" rot="31200">
            <a:off x="4140000" y="6014880"/>
            <a:ext cx="8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.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 rot="16200000">
            <a:off x="3535920" y="4315680"/>
            <a:ext cx="9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9"/>
          <p:cNvSpPr/>
          <p:nvPr/>
        </p:nvSpPr>
        <p:spPr>
          <a:xfrm flipV="1">
            <a:off x="4071960" y="3785760"/>
            <a:ext cx="1785960" cy="7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5143680" y="335772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ер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36"/>
          <p:cNvSpPr/>
          <p:nvPr/>
        </p:nvSpPr>
        <p:spPr>
          <a:xfrm flipH="1">
            <a:off x="1571400" y="3143160"/>
            <a:ext cx="18478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7"/>
          <p:cNvSpPr/>
          <p:nvPr/>
        </p:nvSpPr>
        <p:spPr>
          <a:xfrm flipH="1" flipV="1">
            <a:off x="1571400" y="5715000"/>
            <a:ext cx="185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8"/>
          <p:cNvSpPr/>
          <p:nvPr/>
        </p:nvSpPr>
        <p:spPr>
          <a:xfrm flipH="1">
            <a:off x="3429000" y="3143160"/>
            <a:ext cx="1440" cy="257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 50"/>
          <p:cNvSpPr/>
          <p:nvPr/>
        </p:nvSpPr>
        <p:spPr>
          <a:xfrm>
            <a:off x="1387440" y="3171960"/>
            <a:ext cx="347760" cy="2571480"/>
          </a:xfrm>
          <a:custGeom>
            <a:avLst/>
            <a:gdLst/>
            <a:ahLst/>
            <a:rect l="l" t="t" r="r" b="b"/>
            <a:pathLst>
              <a:path w="347915" h="2571750">
                <a:moveTo>
                  <a:pt x="155479" y="0"/>
                </a:moveTo>
                <a:cubicBezTo>
                  <a:pt x="168179" y="171450"/>
                  <a:pt x="165316" y="344769"/>
                  <a:pt x="193579" y="514350"/>
                </a:cubicBezTo>
                <a:cubicBezTo>
                  <a:pt x="198008" y="540924"/>
                  <a:pt x="235070" y="549577"/>
                  <a:pt x="250729" y="571500"/>
                </a:cubicBezTo>
                <a:cubicBezTo>
                  <a:pt x="267235" y="594608"/>
                  <a:pt x="274740" y="623044"/>
                  <a:pt x="288829" y="647700"/>
                </a:cubicBezTo>
                <a:cubicBezTo>
                  <a:pt x="347915" y="751101"/>
                  <a:pt x="311052" y="657219"/>
                  <a:pt x="345979" y="762000"/>
                </a:cubicBezTo>
                <a:cubicBezTo>
                  <a:pt x="339629" y="838200"/>
                  <a:pt x="335863" y="914660"/>
                  <a:pt x="326929" y="990600"/>
                </a:cubicBezTo>
                <a:cubicBezTo>
                  <a:pt x="323146" y="1022757"/>
                  <a:pt x="313202" y="1053912"/>
                  <a:pt x="307879" y="1085850"/>
                </a:cubicBezTo>
                <a:cubicBezTo>
                  <a:pt x="300497" y="1130140"/>
                  <a:pt x="293529" y="1174545"/>
                  <a:pt x="288829" y="1219200"/>
                </a:cubicBezTo>
                <a:cubicBezTo>
                  <a:pt x="280824" y="1295244"/>
                  <a:pt x="280593" y="1372104"/>
                  <a:pt x="269779" y="1447800"/>
                </a:cubicBezTo>
                <a:cubicBezTo>
                  <a:pt x="261500" y="1505756"/>
                  <a:pt x="242633" y="1561740"/>
                  <a:pt x="231679" y="1619250"/>
                </a:cubicBezTo>
                <a:cubicBezTo>
                  <a:pt x="217224" y="1695137"/>
                  <a:pt x="218008" y="1774563"/>
                  <a:pt x="193579" y="1847850"/>
                </a:cubicBezTo>
                <a:lnTo>
                  <a:pt x="155479" y="1962150"/>
                </a:lnTo>
                <a:cubicBezTo>
                  <a:pt x="149129" y="1981200"/>
                  <a:pt x="141299" y="1999819"/>
                  <a:pt x="136429" y="2019300"/>
                </a:cubicBezTo>
                <a:lnTo>
                  <a:pt x="117379" y="2095500"/>
                </a:lnTo>
                <a:cubicBezTo>
                  <a:pt x="137020" y="2566887"/>
                  <a:pt x="0" y="2484486"/>
                  <a:pt x="174529" y="25717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53"/>
          <p:cNvSpPr/>
          <p:nvPr/>
        </p:nvSpPr>
        <p:spPr>
          <a:xfrm>
            <a:off x="5929200" y="2071800"/>
            <a:ext cx="2643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54"/>
          <p:cNvSpPr/>
          <p:nvPr/>
        </p:nvSpPr>
        <p:spPr>
          <a:xfrm>
            <a:off x="5857920" y="3786120"/>
            <a:ext cx="2714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56"/>
          <p:cNvSpPr/>
          <p:nvPr/>
        </p:nvSpPr>
        <p:spPr>
          <a:xfrm>
            <a:off x="5928480" y="2928960"/>
            <a:ext cx="2643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ЗМЕРНЫЕ ЧИСЛА И РАЗМЕРНЫЕ ЛИ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РАЗМЕРНЫЕ ЛИНИИ ПАРАЛЛЕЛЬНЫ ДРУГ ДРУГ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rcRect l="0" t="0" r="7227" b="0"/>
          <a:stretch/>
        </p:blipFill>
        <p:spPr>
          <a:xfrm>
            <a:off x="2765520" y="1700280"/>
            <a:ext cx="487836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2"/>
          <p:cNvSpPr/>
          <p:nvPr/>
        </p:nvSpPr>
        <p:spPr>
          <a:xfrm rot="16200000">
            <a:off x="7143480" y="4642920"/>
            <a:ext cx="71640" cy="3571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357120"/>
              <a:gd name="textAreaBottom" fmla="*/ 34416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72"/>
                  <a:pt x="10800" y="2544"/>
                </a:cubicBezTo>
                <a:lnTo>
                  <a:pt x="10800" y="8256"/>
                </a:lnTo>
                <a:cubicBezTo>
                  <a:pt x="10800" y="9528"/>
                  <a:pt x="5400" y="10800"/>
                  <a:pt x="0" y="10800"/>
                </a:cubicBezTo>
                <a:cubicBezTo>
                  <a:pt x="5400" y="10800"/>
                  <a:pt x="10800" y="12072"/>
                  <a:pt x="10800" y="13344"/>
                </a:cubicBezTo>
                <a:lnTo>
                  <a:pt x="10800" y="19056"/>
                </a:lnTo>
                <a:cubicBezTo>
                  <a:pt x="10800" y="2032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6791760" y="492912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7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071800" y="4500720"/>
            <a:ext cx="92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eeece1"/>
                </a:solidFill>
                <a:latin typeface="Arial"/>
              </a:rPr>
              <a:t>2 отв.      </a:t>
            </a:r>
            <a:r>
              <a:rPr b="0" lang="en-US" sz="1400" spc="-1" strike="noStrike">
                <a:solidFill>
                  <a:srgbClr val="eeece1"/>
                </a:solidFill>
                <a:latin typeface="Arial"/>
              </a:rPr>
              <a:t>Ø</a:t>
            </a:r>
            <a:r>
              <a:rPr b="0" lang="ru-RU" sz="1400" spc="-1" strike="noStrike">
                <a:solidFill>
                  <a:srgbClr val="eeece1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642960" y="565776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Если на чертеже несколько размерных линий, параллельных друг другу, то ближе к изображению наносят меньший раз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6:45:05Z</dcterms:created>
  <dc:creator>Ольга</dc:creator>
  <dc:description/>
  <dc:language>en-US</dc:language>
  <cp:lastModifiedBy>MPTT_1K_38011_Komp</cp:lastModifiedBy>
  <cp:lastPrinted>2019-10-16T14:13:52Z</cp:lastPrinted>
  <dcterms:modified xsi:type="dcterms:W3CDTF">2019-10-21T10:24:29Z</dcterms:modified>
  <cp:revision>74</cp:revision>
  <dc:subject/>
  <dc:title>НАНЕСЕНИЕ РАЗМЕРОВ  НА ЧЕРТЕЖЕ.</dc:title>
</cp:coreProperties>
</file>