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825163" cy="77549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6B7-5CB2-4A60-A4CD-7C2A8EC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97441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481280"/>
            <a:ext cx="97441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88A-BB7A-4DC8-A810-6D66BC68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920" y="180792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48128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920" y="448128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1BD-7A42-48E3-B680-3F783EA1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313740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5800" y="1807920"/>
            <a:ext cx="313740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520" y="1807920"/>
            <a:ext cx="313740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481280"/>
            <a:ext cx="313740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5800" y="4481280"/>
            <a:ext cx="313740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520" y="4481280"/>
            <a:ext cx="313740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6E4-5CB3-4780-A9DF-78BC6B5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07920"/>
            <a:ext cx="974412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F82-F325-4627-947D-4E32E259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97441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B2E-F947-491C-8030-BD2C4415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47548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920" y="1807920"/>
            <a:ext cx="47548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EBA-A5E7-4679-AFF4-6531FC7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8EA-6C7B-41E6-BEDF-3E8673FC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11040"/>
            <a:ext cx="974412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8A3-9160-432D-A6D6-5AD2BA79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920" y="1807920"/>
            <a:ext cx="47548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48128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EA8-CEC7-4ACB-8174-C899E5E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47548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920" y="180792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920" y="448128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E8B-C245-44CA-B680-DC07190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920" y="1807920"/>
            <a:ext cx="47548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481280"/>
            <a:ext cx="97441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C4C-4295-4817-89B0-BA3F555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07920"/>
            <a:ext cx="97441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060680"/>
            <a:ext cx="2527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0440" y="7060680"/>
            <a:ext cx="342576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7640" y="7060680"/>
            <a:ext cx="252756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6D7-FE3B-4AB9-8650-9DF2595CF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9520" y="204840"/>
            <a:ext cx="770580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руг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Картинка 17 из 1471"/>
          <p:cNvPicPr/>
          <p:nvPr/>
        </p:nvPicPr>
        <p:blipFill>
          <a:blip r:embed="rId1"/>
          <a:srcRect l="20765" t="19350" r="26056" b="17484"/>
          <a:stretch/>
        </p:blipFill>
        <p:spPr>
          <a:xfrm>
            <a:off x="84240" y="58680"/>
            <a:ext cx="5616360" cy="511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Картинка 13 из 1471"/>
          <p:cNvPicPr/>
          <p:nvPr/>
        </p:nvPicPr>
        <p:blipFill>
          <a:blip r:embed="rId2"/>
          <a:srcRect l="0" t="0" r="0" b="10342"/>
          <a:stretch/>
        </p:blipFill>
        <p:spPr>
          <a:xfrm>
            <a:off x="5700600" y="73080"/>
            <a:ext cx="5126040" cy="250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Картинка 2 из 7184"/>
          <p:cNvPicPr/>
          <p:nvPr/>
        </p:nvPicPr>
        <p:blipFill>
          <a:blip r:embed="rId3"/>
          <a:stretch/>
        </p:blipFill>
        <p:spPr>
          <a:xfrm>
            <a:off x="5700600" y="2195640"/>
            <a:ext cx="5126040" cy="281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3802_1211042375"/>
          <p:cNvPicPr/>
          <p:nvPr/>
        </p:nvPicPr>
        <p:blipFill>
          <a:blip r:embed="rId4"/>
          <a:stretch/>
        </p:blipFill>
        <p:spPr>
          <a:xfrm>
            <a:off x="6781680" y="4813200"/>
            <a:ext cx="4044960" cy="294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Картинка 6 из 20422"/>
          <p:cNvPicPr/>
          <p:nvPr/>
        </p:nvPicPr>
        <p:blipFill>
          <a:blip r:embed="rId5"/>
          <a:stretch/>
        </p:blipFill>
        <p:spPr>
          <a:xfrm>
            <a:off x="0" y="4965840"/>
            <a:ext cx="67816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85d377218d4a73e085366445c8d0a884"/>
          <p:cNvPicPr/>
          <p:nvPr/>
        </p:nvPicPr>
        <p:blipFill>
          <a:blip r:embed="rId1"/>
          <a:stretch/>
        </p:blipFill>
        <p:spPr>
          <a:xfrm>
            <a:off x="84240" y="33480"/>
            <a:ext cx="10609200" cy="7746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3397320" y="784080"/>
            <a:ext cx="410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Лук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Картинка 29 из 3968"/>
          <p:cNvPicPr/>
          <p:nvPr/>
        </p:nvPicPr>
        <p:blipFill>
          <a:blip r:embed="rId1"/>
          <a:stretch/>
        </p:blipFill>
        <p:spPr>
          <a:xfrm>
            <a:off x="0" y="0"/>
            <a:ext cx="10826640" cy="7753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6996240" y="639720"/>
            <a:ext cx="410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ращ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артинка 18 из 5266"/>
          <p:cNvPicPr/>
          <p:nvPr/>
        </p:nvPicPr>
        <p:blipFill>
          <a:blip r:embed="rId1"/>
          <a:stretch/>
        </p:blipFill>
        <p:spPr>
          <a:xfrm>
            <a:off x="0" y="0"/>
            <a:ext cx="10826640" cy="7753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5700600" y="781200"/>
            <a:ext cx="4105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Катапуль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397320" y="784080"/>
            <a:ext cx="410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дкос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picture"/>
          <p:cNvPicPr/>
          <p:nvPr/>
        </p:nvPicPr>
        <p:blipFill>
          <a:blip r:embed="rId1"/>
          <a:srcRect l="8858" t="1501" r="9999" b="6506"/>
          <a:stretch/>
        </p:blipFill>
        <p:spPr>
          <a:xfrm>
            <a:off x="372960" y="1212840"/>
            <a:ext cx="10153800" cy="6120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аньян"/>
          <p:cNvPicPr/>
          <p:nvPr/>
        </p:nvPicPr>
        <p:blipFill>
          <a:blip r:embed="rId1"/>
          <a:stretch/>
        </p:blipFill>
        <p:spPr>
          <a:xfrm>
            <a:off x="0" y="0"/>
            <a:ext cx="10826640" cy="77533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876240" y="347760"/>
            <a:ext cx="8858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Калькутский бань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Баньян, Флорида, США"/>
          <p:cNvPicPr/>
          <p:nvPr/>
        </p:nvPicPr>
        <p:blipFill>
          <a:blip r:embed="rId1"/>
          <a:stretch/>
        </p:blipFill>
        <p:spPr>
          <a:xfrm>
            <a:off x="0" y="0"/>
            <a:ext cx="10826640" cy="7753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0" y="6972480"/>
            <a:ext cx="10598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пирается на 300 тысяч колон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Картинка 8 из 5964"/>
          <p:cNvPicPr/>
          <p:nvPr/>
        </p:nvPicPr>
        <p:blipFill>
          <a:blip r:embed="rId1"/>
          <a:stretch/>
        </p:blipFill>
        <p:spPr>
          <a:xfrm>
            <a:off x="0" y="0"/>
            <a:ext cx="10826640" cy="77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828960" y="784080"/>
            <a:ext cx="410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Бал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Картинка 8 из 64000"/>
          <p:cNvPicPr/>
          <p:nvPr/>
        </p:nvPicPr>
        <p:blipFill>
          <a:blip r:embed="rId1"/>
          <a:srcRect l="0" t="0" r="0" b="14835"/>
          <a:stretch/>
        </p:blipFill>
        <p:spPr>
          <a:xfrm>
            <a:off x="144360" y="1068480"/>
            <a:ext cx="7645680" cy="433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Картинка 61 из 64000"/>
          <p:cNvPicPr/>
          <p:nvPr/>
        </p:nvPicPr>
        <p:blipFill>
          <a:blip r:embed="rId2"/>
          <a:stretch/>
        </p:blipFill>
        <p:spPr>
          <a:xfrm>
            <a:off x="4680000" y="3084480"/>
            <a:ext cx="59180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артинка 3 из 121807"/>
          <p:cNvPicPr/>
          <p:nvPr/>
        </p:nvPicPr>
        <p:blipFill>
          <a:blip r:embed="rId1"/>
          <a:stretch/>
        </p:blipFill>
        <p:spPr>
          <a:xfrm>
            <a:off x="0" y="0"/>
            <a:ext cx="10826640" cy="7753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324240" y="7120080"/>
            <a:ext cx="4105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Ар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1440" y="923400"/>
            <a:ext cx="96962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формы и/или объёма тела под действием внешни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028960" y="276120"/>
            <a:ext cx="66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ФОРМАЦИЯ -</a:t>
            </a:r>
            <a:endParaRPr b="1" lang="en-US" sz="1800" spc="1" strike="noStrike">
              <a:ln w="3492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Line 5"/>
          <p:cNvSpPr/>
          <p:nvPr/>
        </p:nvSpPr>
        <p:spPr>
          <a:xfrm flipH="1">
            <a:off x="2604600" y="1860480"/>
            <a:ext cx="1079640" cy="720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58040" y="1932120"/>
            <a:ext cx="1008000" cy="64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17680" y="2580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упру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42040" y="3228840"/>
            <a:ext cx="338472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чезают после прекращения действия внешни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8"/>
          <p:cNvSpPr/>
          <p:nvPr/>
        </p:nvSpPr>
        <p:spPr>
          <a:xfrm>
            <a:off x="228600" y="3228840"/>
            <a:ext cx="63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стью исчезают после прекращения действия внешн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жа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ги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р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дв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6492960" y="64612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669b2b61-e921-11dc-95ff-0800200c9a66/3_13.sw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853320" y="25869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лас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6643" t="58857" r="32275" b="16538"/>
          <a:stretch/>
        </p:blipFill>
        <p:spPr>
          <a:xfrm>
            <a:off x="6060960" y="4524480"/>
            <a:ext cx="1081080" cy="180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2688" t="61810" r="52217" b="18492"/>
          <a:stretch/>
        </p:blipFill>
        <p:spPr>
          <a:xfrm>
            <a:off x="2749680" y="4740120"/>
            <a:ext cx="2447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01"/>
          <p:cNvPicPr/>
          <p:nvPr/>
        </p:nvPicPr>
        <p:blipFill>
          <a:blip r:embed="rId1"/>
          <a:stretch/>
        </p:blipFill>
        <p:spPr>
          <a:xfrm>
            <a:off x="1380960" y="0"/>
            <a:ext cx="8209080" cy="7753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541680" y="1068480"/>
            <a:ext cx="4105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Колонны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Картинка 3 из 2546"/>
          <p:cNvPicPr/>
          <p:nvPr/>
        </p:nvPicPr>
        <p:blipFill>
          <a:blip r:embed="rId1"/>
          <a:srcRect l="0" t="0" r="0" b="8208"/>
          <a:stretch/>
        </p:blipFill>
        <p:spPr>
          <a:xfrm>
            <a:off x="58680" y="11160"/>
            <a:ext cx="10826640" cy="7753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4476600" y="784080"/>
            <a:ext cx="410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упол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21 из 64000"/>
          <p:cNvPicPr/>
          <p:nvPr/>
        </p:nvPicPr>
        <p:blipFill>
          <a:blip r:embed="rId1"/>
          <a:stretch/>
        </p:blipFill>
        <p:spPr>
          <a:xfrm>
            <a:off x="158760" y="2193840"/>
            <a:ext cx="5614920" cy="4203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Картинка 27 из 64000"/>
          <p:cNvPicPr/>
          <p:nvPr/>
        </p:nvPicPr>
        <p:blipFill>
          <a:blip r:embed="rId2"/>
          <a:srcRect l="0" t="10396" r="0" b="0"/>
          <a:stretch/>
        </p:blipFill>
        <p:spPr>
          <a:xfrm>
            <a:off x="5989680" y="1152360"/>
            <a:ext cx="4573440" cy="6396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804960" y="784080"/>
            <a:ext cx="439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Амортизатор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99880" y="1068480"/>
            <a:ext cx="10298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 Под действием какой силы пружина, имеющая коэффициент жесткости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/м, сжалась на   4 с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 Определите  удлинение  пружины,   если  на  нее действует  сила 10 Н, а коэффи-циент жесткости пружины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/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 По своим графикам определить коэффициент жесткости пружины (или резин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252960" y="784080"/>
            <a:ext cx="410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Задач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441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1080" y="1807920"/>
            <a:ext cx="97441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25, задания 25.1 - 25.6 рабочей тетради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Чему равен коэффициент жесткости стержня, если под действием груза 1000 Н он удлинился на 1 м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660240" y="781200"/>
            <a:ext cx="97221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70000" y="216720"/>
            <a:ext cx="557208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а упругост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F</a:t>
            </a:r>
            <a:r>
              <a:rPr b="1" i="1" lang="ru-RU" sz="4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уп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электромагнитная сила, возникающая при деформации тела и направленная в сторону, противоположную направлению смещения частиц тела при деформации. Приложена к деформируемому те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6997680" y="6324480"/>
            <a:ext cx="35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669b2b61-e921-11dc-95ff-0800200c9a66/3_13.sw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5264280" y="852480"/>
            <a:ext cx="5562360" cy="532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34040" y="636480"/>
            <a:ext cx="50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7763040" y="781200"/>
            <a:ext cx="1250640" cy="672840"/>
            <a:chOff x="7763040" y="781200"/>
            <a:chExt cx="1250640" cy="672840"/>
          </a:xfrm>
        </p:grpSpPr>
        <p:sp>
          <p:nvSpPr>
            <p:cNvPr id="59" name="Text Box 21"/>
            <p:cNvSpPr/>
            <p:nvPr/>
          </p:nvSpPr>
          <p:spPr>
            <a:xfrm>
              <a:off x="7763040" y="781200"/>
              <a:ext cx="1250640" cy="67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ru-RU" sz="4000" spc="-1" strike="noStrike" baseline="-25000">
                  <a:solidFill>
                    <a:srgbClr val="000000"/>
                  </a:solidFill>
                  <a:latin typeface="Times New Roman"/>
                </a:rPr>
                <a:t>уп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2"/>
            <p:cNvSpPr/>
            <p:nvPr/>
          </p:nvSpPr>
          <p:spPr>
            <a:xfrm>
              <a:off x="7860960" y="78120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7"/>
          <p:cNvSpPr/>
          <p:nvPr/>
        </p:nvSpPr>
        <p:spPr>
          <a:xfrm>
            <a:off x="588960" y="28224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1454040" y="2028960"/>
            <a:ext cx="2519640" cy="793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V="1">
            <a:off x="2676600" y="781200"/>
            <a:ext cx="1440" cy="199224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2749680" y="492120"/>
            <a:ext cx="1251000" cy="673200"/>
            <a:chOff x="2749680" y="492120"/>
            <a:chExt cx="1251000" cy="673200"/>
          </a:xfrm>
        </p:grpSpPr>
        <p:sp>
          <p:nvSpPr>
            <p:cNvPr id="65" name="Text Box 5"/>
            <p:cNvSpPr/>
            <p:nvPr/>
          </p:nvSpPr>
          <p:spPr>
            <a:xfrm>
              <a:off x="2749680" y="492120"/>
              <a:ext cx="125100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6"/>
            <p:cNvSpPr/>
            <p:nvPr/>
          </p:nvSpPr>
          <p:spPr>
            <a:xfrm>
              <a:off x="2847960" y="4921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30"/>
          <p:cNvSpPr/>
          <p:nvPr/>
        </p:nvSpPr>
        <p:spPr>
          <a:xfrm flipV="1">
            <a:off x="51768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 flipV="1">
            <a:off x="94932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 flipV="1">
            <a:off x="397512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440532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4"/>
          <p:cNvSpPr/>
          <p:nvPr/>
        </p:nvSpPr>
        <p:spPr>
          <a:xfrm flipV="1">
            <a:off x="1380960" y="28209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 flipV="1">
            <a:off x="311004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6"/>
          <p:cNvSpPr/>
          <p:nvPr/>
        </p:nvSpPr>
        <p:spPr>
          <a:xfrm flipV="1">
            <a:off x="354168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 flipV="1">
            <a:off x="224640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 flipV="1">
            <a:off x="181440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 flipV="1">
            <a:off x="2678040" y="28209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7623000" y="555480"/>
            <a:ext cx="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6883560" y="3041640"/>
            <a:ext cx="1487160" cy="1339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7623000" y="1572840"/>
            <a:ext cx="0" cy="147636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421320" y="555480"/>
            <a:ext cx="226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3"/>
          <p:cNvSpPr/>
          <p:nvPr/>
        </p:nvSpPr>
        <p:spPr>
          <a:xfrm flipV="1">
            <a:off x="6467400" y="420840"/>
            <a:ext cx="18432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4"/>
          <p:cNvSpPr/>
          <p:nvPr/>
        </p:nvSpPr>
        <p:spPr>
          <a:xfrm flipV="1">
            <a:off x="8408880" y="420840"/>
            <a:ext cx="18432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5"/>
          <p:cNvSpPr/>
          <p:nvPr/>
        </p:nvSpPr>
        <p:spPr>
          <a:xfrm flipV="1">
            <a:off x="8685360" y="420840"/>
            <a:ext cx="1839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6"/>
          <p:cNvSpPr/>
          <p:nvPr/>
        </p:nvSpPr>
        <p:spPr>
          <a:xfrm flipV="1">
            <a:off x="6743880" y="420840"/>
            <a:ext cx="18540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7"/>
          <p:cNvSpPr/>
          <p:nvPr/>
        </p:nvSpPr>
        <p:spPr>
          <a:xfrm flipV="1">
            <a:off x="7854840" y="420840"/>
            <a:ext cx="18432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 flipV="1">
            <a:off x="8131320" y="420840"/>
            <a:ext cx="1857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 flipV="1">
            <a:off x="7299360" y="420840"/>
            <a:ext cx="1839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 flipV="1">
            <a:off x="7023240" y="420840"/>
            <a:ext cx="1839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1"/>
          <p:cNvSpPr/>
          <p:nvPr/>
        </p:nvSpPr>
        <p:spPr>
          <a:xfrm flipV="1">
            <a:off x="7577280" y="420840"/>
            <a:ext cx="1839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39"/>
          <p:cNvCxnSpPr/>
          <p:nvPr/>
        </p:nvCxnSpPr>
        <p:spPr>
          <a:xfrm>
            <a:off x="156960" y="6469200"/>
            <a:ext cx="648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1" name="Picture 57" descr="Картинка 14 из 2272"/>
          <p:cNvPicPr/>
          <p:nvPr/>
        </p:nvPicPr>
        <p:blipFill>
          <a:blip r:embed="rId1"/>
          <a:stretch/>
        </p:blipFill>
        <p:spPr>
          <a:xfrm>
            <a:off x="6781680" y="4095720"/>
            <a:ext cx="350532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Картинка 33 из 64000"/>
          <p:cNvPicPr/>
          <p:nvPr/>
        </p:nvPicPr>
        <p:blipFill>
          <a:blip r:embed="rId2"/>
          <a:stretch/>
        </p:blipFill>
        <p:spPr>
          <a:xfrm>
            <a:off x="3757680" y="0"/>
            <a:ext cx="277164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1" descr="Картинка 2 из 3237"/>
          <p:cNvPicPr/>
          <p:nvPr/>
        </p:nvPicPr>
        <p:blipFill>
          <a:blip r:embed="rId3"/>
          <a:srcRect l="35462" t="0" r="26246" b="28003"/>
          <a:stretch/>
        </p:blipFill>
        <p:spPr>
          <a:xfrm>
            <a:off x="-708120" y="4308480"/>
            <a:ext cx="3618000" cy="482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7934400" y="5100120"/>
            <a:ext cx="792000" cy="201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582040" y="4381560"/>
            <a:ext cx="1251000" cy="673200"/>
            <a:chOff x="8582040" y="4381560"/>
            <a:chExt cx="1251000" cy="673200"/>
          </a:xfrm>
        </p:grpSpPr>
        <p:sp>
          <p:nvSpPr>
            <p:cNvPr id="96" name="Text Box 21"/>
            <p:cNvSpPr/>
            <p:nvPr/>
          </p:nvSpPr>
          <p:spPr>
            <a:xfrm>
              <a:off x="8582040" y="4381560"/>
              <a:ext cx="125100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ru-RU" sz="4000" spc="-1" strike="noStrike" baseline="-25000">
                  <a:solidFill>
                    <a:srgbClr val="ff0000"/>
                  </a:solidFill>
                  <a:latin typeface="Times New Roman"/>
                </a:rPr>
                <a:t>уп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8680320" y="4381560"/>
              <a:ext cx="519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3" descr="xva"/>
          <p:cNvPicPr/>
          <p:nvPr/>
        </p:nvPicPr>
        <p:blipFill>
          <a:blip r:embed="rId1"/>
          <a:stretch/>
        </p:blipFill>
        <p:spPr>
          <a:xfrm>
            <a:off x="1668600" y="3444840"/>
            <a:ext cx="6984720" cy="430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80" y="1644480"/>
            <a:ext cx="99853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возникновения сил упругости  является взаимодействие молекул тела. На малых расстояниях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отталкиваютс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а больших –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гиваютс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804960" y="276120"/>
            <a:ext cx="914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а возникновения</a:t>
            </a:r>
            <a:endParaRPr b="1" lang="en-US" sz="1800" spc="1" strike="noStrike">
              <a:ln w="3492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лы упругости</a:t>
            </a:r>
            <a:endParaRPr b="1" lang="en-US" sz="1800" spc="1" strike="noStrike">
              <a:ln w="3492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2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1" name="Прямая со стрелкой 5"/>
          <p:cNvCxnSpPr/>
          <p:nvPr/>
        </p:nvCxnSpPr>
        <p:spPr>
          <a:xfrm flipH="1" flipV="1">
            <a:off x="1524960" y="967680"/>
            <a:ext cx="51480" cy="597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7"/>
          <p:cNvCxnSpPr/>
          <p:nvPr/>
        </p:nvCxnSpPr>
        <p:spPr>
          <a:xfrm>
            <a:off x="1596600" y="6938640"/>
            <a:ext cx="8209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8"/>
          <p:cNvSpPr/>
          <p:nvPr/>
        </p:nvSpPr>
        <p:spPr>
          <a:xfrm>
            <a:off x="444600" y="8175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,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096920" y="6900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4"/>
          <p:cNvCxnSpPr/>
          <p:nvPr/>
        </p:nvCxnSpPr>
        <p:spPr>
          <a:xfrm flipV="1">
            <a:off x="1596960" y="1931760"/>
            <a:ext cx="4177440" cy="500760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grpSp>
        <p:nvGrpSpPr>
          <p:cNvPr id="106" name="Group 27"/>
          <p:cNvGrpSpPr/>
          <p:nvPr/>
        </p:nvGrpSpPr>
        <p:grpSpPr>
          <a:xfrm>
            <a:off x="9013680" y="6918480"/>
            <a:ext cx="1440000" cy="705240"/>
            <a:chOff x="9013680" y="6918480"/>
            <a:chExt cx="1440000" cy="705240"/>
          </a:xfrm>
        </p:grpSpPr>
        <p:sp>
          <p:nvSpPr>
            <p:cNvPr id="107" name="TextBox 9"/>
            <p:cNvSpPr/>
            <p:nvPr/>
          </p:nvSpPr>
          <p:spPr>
            <a:xfrm>
              <a:off x="9734400" y="704232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м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0"/>
                <p:cNvSpPr txBox="1"/>
                <p:nvPr/>
              </p:nvSpPr>
              <p:spPr>
                <a:xfrm>
                  <a:off x="9013680" y="6918480"/>
                  <a:ext cx="9208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TextBox 17"/>
          <p:cNvSpPr/>
          <p:nvPr/>
        </p:nvSpPr>
        <p:spPr>
          <a:xfrm>
            <a:off x="299880" y="-11160"/>
            <a:ext cx="102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График зависимости силы упругости от удлин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32240" y="784080"/>
            <a:ext cx="453708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Роберт Гук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bert Hooke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1635 -1703 г.г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ooke_robert_"/>
          <p:cNvPicPr/>
          <p:nvPr/>
        </p:nvPicPr>
        <p:blipFill>
          <a:blip r:embed="rId1"/>
          <a:stretch/>
        </p:blipFill>
        <p:spPr>
          <a:xfrm>
            <a:off x="31680" y="420840"/>
            <a:ext cx="5472360" cy="6900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629320" y="2652840"/>
            <a:ext cx="5197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лся 18 июля 1635 г.  в местечке Фрешуотер на английском острове Уайт в семье настоятеля местной церкв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стории физики он известен как первый, кто установил связь силы упругости и де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397320" y="2761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Закон Г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3"/>
              <p:cNvSpPr txBox="1"/>
              <p:nvPr/>
            </p:nvSpPr>
            <p:spPr>
              <a:xfrm>
                <a:off x="660240" y="2179800"/>
                <a:ext cx="9433080" cy="30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452600" y="1716120"/>
            <a:ext cx="7705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лы упруг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2:51:01Z</dcterms:created>
  <dc:creator>Admin</dc:creator>
  <dc:description/>
  <dc:language>en-US</dc:language>
  <cp:lastModifiedBy>Манино</cp:lastModifiedBy>
  <dcterms:modified xsi:type="dcterms:W3CDTF">2011-01-18T06:54:56Z</dcterms:modified>
  <cp:revision>24</cp:revision>
  <dc:subject/>
  <dc:title>Слайд 1</dc:title>
</cp:coreProperties>
</file>