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5.png" ContentType="image/png"/>
  <Override PartName="/ppt/media/image30.png" ContentType="image/png"/>
  <Override PartName="/ppt/media/image37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35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55E2-AD41-4A4A-A4F4-CE6D8B9193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DD1B-1FC3-4B95-8A13-0084733302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BF71-4E50-49EC-8622-B33840FDE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95D-7497-4182-AFFB-2163D96E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8C1-1CFB-4488-879C-3E01703C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E7C-C8C5-412A-9F34-3160D71F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43D-155E-4BAA-B10A-9D46E3BE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ACB-7A14-414D-A88C-946D2C04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4C4-F042-4A3E-8381-B231B1EE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EBA-7D07-449B-8624-69BC33BC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D98-BE0A-48C0-8F24-45D84100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3C4-4F8A-4A7E-95A0-8BB3991C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D9F-5EB0-4C83-8F48-47443BC4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A62-2983-44C6-9F34-4D465C7A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B99-0B57-47C4-B76C-9BA39125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CEF2-EA1C-4B4C-9809-78D82D7C1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2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le:Vasnetsov Snegurochka.jpg"/>
          <p:cNvPicPr/>
          <p:nvPr/>
        </p:nvPicPr>
        <p:blipFill>
          <a:blip r:embed="rId2"/>
          <a:stretch/>
        </p:blipFill>
        <p:spPr>
          <a:xfrm>
            <a:off x="3786120" y="1357200"/>
            <a:ext cx="4857840" cy="5303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785880" y="214200"/>
            <a:ext cx="8358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чине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картине В. М. Васнецова «Снегуроч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0" descr="http://lenagold.narod.ru/fon/clipart/s/sneg/sneg20.png"/>
          <p:cNvPicPr/>
          <p:nvPr/>
        </p:nvPicPr>
        <p:blipFill>
          <a:blip r:embed="rId3"/>
          <a:stretch/>
        </p:blipFill>
        <p:spPr>
          <a:xfrm>
            <a:off x="571680" y="4179960"/>
            <a:ext cx="428400" cy="4824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http://lenagold.narod.ru/fon/clipart/s/sneg/sneg20.png"/>
          <p:cNvPicPr/>
          <p:nvPr/>
        </p:nvPicPr>
        <p:blipFill>
          <a:blip r:embed="rId4"/>
          <a:stretch/>
        </p:blipFill>
        <p:spPr>
          <a:xfrm>
            <a:off x="1905120" y="3268800"/>
            <a:ext cx="452160" cy="484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http://lenagold.narod.ru/fon/clipart/s/sneg/sneg21.png"/>
          <p:cNvPicPr/>
          <p:nvPr/>
        </p:nvPicPr>
        <p:blipFill>
          <a:blip r:embed="rId5"/>
          <a:stretch/>
        </p:blipFill>
        <p:spPr>
          <a:xfrm>
            <a:off x="2000160" y="4983120"/>
            <a:ext cx="428760" cy="4827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3" descr="http://lenagold.narod.ru/fon/clipart/s/sneg/sneg21.png"/>
          <p:cNvPicPr/>
          <p:nvPr/>
        </p:nvPicPr>
        <p:blipFill>
          <a:blip r:embed="rId6"/>
          <a:stretch/>
        </p:blipFill>
        <p:spPr>
          <a:xfrm>
            <a:off x="762120" y="6054840"/>
            <a:ext cx="452160" cy="442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http://lenagold.narod.ru/fon/clipart/s/sneg/sneg11.png"/>
          <p:cNvPicPr/>
          <p:nvPr/>
        </p:nvPicPr>
        <p:blipFill>
          <a:blip r:embed="rId7"/>
          <a:stretch/>
        </p:blipFill>
        <p:spPr>
          <a:xfrm>
            <a:off x="666720" y="214200"/>
            <a:ext cx="333360" cy="3207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http://lenagold.narod.ru/fon/clipart/s/sneg/sneg11.png"/>
          <p:cNvPicPr/>
          <p:nvPr/>
        </p:nvPicPr>
        <p:blipFill>
          <a:blip r:embed="rId8"/>
          <a:stretch/>
        </p:blipFill>
        <p:spPr>
          <a:xfrm>
            <a:off x="7000920" y="500040"/>
            <a:ext cx="428760" cy="374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6" descr="http://lenagold.narod.ru/fon/clipart/s/sneg/sneg18.png"/>
          <p:cNvPicPr/>
          <p:nvPr/>
        </p:nvPicPr>
        <p:blipFill>
          <a:blip r:embed="rId9"/>
          <a:stretch/>
        </p:blipFill>
        <p:spPr>
          <a:xfrm>
            <a:off x="2928960" y="428760"/>
            <a:ext cx="380880" cy="3744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7" descr="http://lenagold.narod.ru/fon/clipart/s/sneg/sneg18.png"/>
          <p:cNvPicPr/>
          <p:nvPr/>
        </p:nvPicPr>
        <p:blipFill>
          <a:blip r:embed="rId10"/>
          <a:stretch/>
        </p:blipFill>
        <p:spPr>
          <a:xfrm>
            <a:off x="952560" y="1982880"/>
            <a:ext cx="333360" cy="37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8" descr="http://s015.radikal.ru/i332/1011/5b/b4b39682368b.png"/>
          <p:cNvPicPr/>
          <p:nvPr/>
        </p:nvPicPr>
        <p:blipFill>
          <a:blip r:embed="rId11"/>
          <a:stretch/>
        </p:blipFill>
        <p:spPr>
          <a:xfrm>
            <a:off x="2928960" y="4143240"/>
            <a:ext cx="463680" cy="50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0" descr="http://s012.radikal.ru/i319/1011/25/ba542db26935.png"/>
          <p:cNvPicPr/>
          <p:nvPr/>
        </p:nvPicPr>
        <p:blipFill>
          <a:blip r:embed="rId12"/>
          <a:stretch/>
        </p:blipFill>
        <p:spPr>
          <a:xfrm>
            <a:off x="2571840" y="2071800"/>
            <a:ext cx="42840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skarvit.ru/wp-content/uploads/2012/01/40493-240x300.jpg"/>
          <p:cNvPicPr/>
          <p:nvPr/>
        </p:nvPicPr>
        <p:blipFill>
          <a:blip r:embed="rId2"/>
          <a:stretch/>
        </p:blipFill>
        <p:spPr>
          <a:xfrm>
            <a:off x="357120" y="571680"/>
            <a:ext cx="4714920" cy="5143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5143680" y="857160"/>
            <a:ext cx="3857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ктор Михайлович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снец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848-192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1428840" y="58579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порт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literatura5.narod.ru/vasnecov_o5.jpg"/>
          <p:cNvPicPr/>
          <p:nvPr/>
        </p:nvPicPr>
        <p:blipFill>
          <a:blip r:embed="rId2"/>
          <a:stretch/>
        </p:blipFill>
        <p:spPr>
          <a:xfrm>
            <a:off x="1428840" y="3571920"/>
            <a:ext cx="2000160" cy="2679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literatura5.narod.ru/vasnecov_o7.JPG"/>
          <p:cNvPicPr/>
          <p:nvPr/>
        </p:nvPicPr>
        <p:blipFill>
          <a:blip r:embed="rId3"/>
          <a:stretch/>
        </p:blipFill>
        <p:spPr>
          <a:xfrm>
            <a:off x="5786280" y="1000080"/>
            <a:ext cx="2286000" cy="267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literatura5.narod.ru/vasnecov_o4.JPG"/>
          <p:cNvPicPr/>
          <p:nvPr/>
        </p:nvPicPr>
        <p:blipFill>
          <a:blip r:embed="rId4"/>
          <a:stretch/>
        </p:blipFill>
        <p:spPr>
          <a:xfrm>
            <a:off x="4786200" y="4143240"/>
            <a:ext cx="3643560" cy="2338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literatura5.narod.ru/vasnecov_o2.JPG"/>
          <p:cNvPicPr/>
          <p:nvPr/>
        </p:nvPicPr>
        <p:blipFill>
          <a:blip r:embed="rId5"/>
          <a:stretch/>
        </p:blipFill>
        <p:spPr>
          <a:xfrm>
            <a:off x="857160" y="1071720"/>
            <a:ext cx="3834000" cy="230328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190440" y="16020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скизы декораций В.М.Васнец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пьесе А.Н.Островского «Снегуроч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191280" y="36972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гуроч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80880" y="6375240"/>
            <a:ext cx="387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арь Берен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j043582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vasnecov16"/>
          <p:cNvPicPr/>
          <p:nvPr/>
        </p:nvPicPr>
        <p:blipFill>
          <a:blip r:embed="rId2"/>
          <a:stretch/>
        </p:blipFill>
        <p:spPr>
          <a:xfrm>
            <a:off x="5425920" y="2511360"/>
            <a:ext cx="3535560" cy="4243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7429680" y="4286160"/>
            <a:ext cx="1839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Заголовок 4"/>
          <p:cNvSpPr/>
          <p:nvPr/>
        </p:nvSpPr>
        <p:spPr>
          <a:xfrm>
            <a:off x="457200" y="64296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негурочка»</a:t>
            </a:r>
            <a:br>
              <a:rPr sz="3500"/>
            </a:b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99 г.</a:t>
            </a:r>
            <a:br>
              <a:rPr sz="3500"/>
            </a:b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ударственная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тьяковская галерея</a:t>
            </a:r>
            <a:br>
              <a:rPr sz="3500"/>
            </a:b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Москв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2" descr="http://lenagold.narod.ru/fon/clipart/s/sneg/sneg11.png"/>
          <p:cNvPicPr/>
          <p:nvPr/>
        </p:nvPicPr>
        <p:blipFill>
          <a:blip r:embed="rId3"/>
          <a:stretch/>
        </p:blipFill>
        <p:spPr>
          <a:xfrm>
            <a:off x="857160" y="6108840"/>
            <a:ext cx="357120" cy="37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ua.all.biz/img/ua/catalog/1746873.jpeg"/>
          <p:cNvPicPr/>
          <p:nvPr/>
        </p:nvPicPr>
        <p:blipFill>
          <a:blip r:embed="rId1"/>
          <a:stretch/>
        </p:blipFill>
        <p:spPr>
          <a:xfrm>
            <a:off x="1214280" y="0"/>
            <a:ext cx="635796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upload.wikimedia.org/wikipedia/commons/thumb/5/5f/Vasnetsov_Snegurochka.jpg/693px-Vasnetsov_Snegurochka.jpg?uselang=ru"/>
          <p:cNvPicPr/>
          <p:nvPr/>
        </p:nvPicPr>
        <p:blipFill>
          <a:blip r:embed="rId2"/>
          <a:stretch/>
        </p:blipFill>
        <p:spPr>
          <a:xfrm>
            <a:off x="2143080" y="642960"/>
            <a:ext cx="4572000" cy="5643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http://lenagold.narod.ru/fon/clipart/s/sneg/sneg11.png"/>
          <p:cNvPicPr/>
          <p:nvPr/>
        </p:nvPicPr>
        <p:blipFill>
          <a:blip r:embed="rId3"/>
          <a:stretch/>
        </p:blipFill>
        <p:spPr>
          <a:xfrm>
            <a:off x="8429760" y="214200"/>
            <a:ext cx="428400" cy="374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http://lenagold.narod.ru/fon/clipart/s/sneg/sneg11.png"/>
          <p:cNvPicPr/>
          <p:nvPr/>
        </p:nvPicPr>
        <p:blipFill>
          <a:blip r:embed="rId4"/>
          <a:stretch/>
        </p:blipFill>
        <p:spPr>
          <a:xfrm>
            <a:off x="8429760" y="3500280"/>
            <a:ext cx="428400" cy="3747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http://lenagold.narod.ru/fon/clipart/s/sneg/sneg18.png"/>
          <p:cNvPicPr/>
          <p:nvPr/>
        </p:nvPicPr>
        <p:blipFill>
          <a:blip r:embed="rId5"/>
          <a:stretch/>
        </p:blipFill>
        <p:spPr>
          <a:xfrm>
            <a:off x="642960" y="4286160"/>
            <a:ext cx="357120" cy="374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http://lenagold.narod.ru/fon/clipart/s/sneg/sneg18.png"/>
          <p:cNvPicPr/>
          <p:nvPr/>
        </p:nvPicPr>
        <p:blipFill>
          <a:blip r:embed="rId6"/>
          <a:stretch/>
        </p:blipFill>
        <p:spPr>
          <a:xfrm>
            <a:off x="357120" y="214200"/>
            <a:ext cx="357120" cy="3747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http://lenagold.narod.ru/fon/clipart/s/sneg/sneg20.png"/>
          <p:cNvPicPr/>
          <p:nvPr/>
        </p:nvPicPr>
        <p:blipFill>
          <a:blip r:embed="rId7"/>
          <a:stretch/>
        </p:blipFill>
        <p:spPr>
          <a:xfrm>
            <a:off x="428760" y="6143760"/>
            <a:ext cx="428400" cy="4842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http://lenagold.narod.ru/fon/clipart/s/sneg/sneg20.png"/>
          <p:cNvPicPr/>
          <p:nvPr/>
        </p:nvPicPr>
        <p:blipFill>
          <a:blip r:embed="rId8"/>
          <a:stretch/>
        </p:blipFill>
        <p:spPr>
          <a:xfrm>
            <a:off x="8215200" y="4500720"/>
            <a:ext cx="42876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http://lenagold.narod.ru/fon/clipart/s/sneg/sneg21.png"/>
          <p:cNvPicPr/>
          <p:nvPr/>
        </p:nvPicPr>
        <p:blipFill>
          <a:blip r:embed="rId9"/>
          <a:stretch/>
        </p:blipFill>
        <p:spPr>
          <a:xfrm>
            <a:off x="500040" y="2357280"/>
            <a:ext cx="428760" cy="482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http://lenagold.narod.ru/fon/clipart/s/sneg/sneg21.png"/>
          <p:cNvPicPr/>
          <p:nvPr/>
        </p:nvPicPr>
        <p:blipFill>
          <a:blip r:embed="rId10"/>
          <a:stretch/>
        </p:blipFill>
        <p:spPr>
          <a:xfrm>
            <a:off x="8501040" y="6215040"/>
            <a:ext cx="428760" cy="482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http://s012.radikal.ru/i319/1011/25/ba542db26935.png"/>
          <p:cNvPicPr/>
          <p:nvPr/>
        </p:nvPicPr>
        <p:blipFill>
          <a:blip r:embed="rId11"/>
          <a:stretch/>
        </p:blipFill>
        <p:spPr>
          <a:xfrm>
            <a:off x="7929720" y="5572080"/>
            <a:ext cx="428400" cy="46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8" descr="http://s015.radikal.ru/i332/1011/5b/b4b39682368b.png"/>
          <p:cNvPicPr/>
          <p:nvPr/>
        </p:nvPicPr>
        <p:blipFill>
          <a:blip r:embed="rId12"/>
          <a:stretch/>
        </p:blipFill>
        <p:spPr>
          <a:xfrm>
            <a:off x="7786800" y="1643040"/>
            <a:ext cx="5000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ван Есау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213920"/>
            <a:ext cx="4143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роглядный тёмный лес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далеке видна деревн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ьётся лунный  свет с небес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 загадочный и древний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рендеева стра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лшебством к себе помани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ла девушка од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искрящейся поляне,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лаждаясь тишиной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ыша дальний звук свирели, –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ночью под луной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даётся песня Лел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28720" y="1285560"/>
            <a:ext cx="4714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ят и птицы, и зверьё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с Снегурку окружае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троение её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я природа повторяет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ядом ёлочки стоя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г искрится под луною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тки льдинками звеня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берёз порой ночною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предчувствие бед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душе тревогу сеет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е пролегли след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деревушке берендее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6" descr="Еловые ветки"/>
          <p:cNvPicPr/>
          <p:nvPr/>
        </p:nvPicPr>
        <p:blipFill>
          <a:blip r:embed="rId1"/>
          <a:stretch/>
        </p:blipFill>
        <p:spPr>
          <a:xfrm rot="1401000">
            <a:off x="-118800" y="19080"/>
            <a:ext cx="1787760" cy="121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Еловые ветки"/>
          <p:cNvPicPr/>
          <p:nvPr/>
        </p:nvPicPr>
        <p:blipFill>
          <a:blip r:embed="rId2"/>
          <a:stretch/>
        </p:blipFill>
        <p:spPr>
          <a:xfrm rot="15750600">
            <a:off x="7745760" y="5209200"/>
            <a:ext cx="1873440" cy="127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Еловые ветки"/>
          <p:cNvPicPr/>
          <p:nvPr/>
        </p:nvPicPr>
        <p:blipFill>
          <a:blip r:embed="rId3"/>
          <a:stretch/>
        </p:blipFill>
        <p:spPr>
          <a:xfrm rot="4729200">
            <a:off x="-622440" y="523800"/>
            <a:ext cx="1760400" cy="1198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Еловые ветки"/>
          <p:cNvPicPr/>
          <p:nvPr/>
        </p:nvPicPr>
        <p:blipFill>
          <a:blip r:embed="rId4"/>
          <a:stretch/>
        </p:blipFill>
        <p:spPr>
          <a:xfrm rot="12651600">
            <a:off x="7535880" y="5714280"/>
            <a:ext cx="171432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6" descr="http://s007.radikal.ru/i302/1011/60/8135ac850f87.png"/>
          <p:cNvPicPr/>
          <p:nvPr/>
        </p:nvPicPr>
        <p:blipFill>
          <a:blip r:embed="rId5"/>
          <a:stretch/>
        </p:blipFill>
        <p:spPr>
          <a:xfrm>
            <a:off x="285840" y="6072120"/>
            <a:ext cx="571320" cy="585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8" descr="http://s015.radikal.ru/i332/1011/5b/b4b39682368b.png"/>
          <p:cNvPicPr/>
          <p:nvPr/>
        </p:nvPicPr>
        <p:blipFill>
          <a:blip r:embed="rId6"/>
          <a:stretch/>
        </p:blipFill>
        <p:spPr>
          <a:xfrm>
            <a:off x="2214720" y="0"/>
            <a:ext cx="595080" cy="64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http://s012.radikal.ru/i319/1011/25/ba542db26935.png"/>
          <p:cNvPicPr/>
          <p:nvPr/>
        </p:nvPicPr>
        <p:blipFill>
          <a:blip r:embed="rId7"/>
          <a:stretch/>
        </p:blipFill>
        <p:spPr>
          <a:xfrm>
            <a:off x="8143920" y="214200"/>
            <a:ext cx="642960" cy="690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2" descr="http://s016.radikal.ru/i335/1011/91/45a6af14ec5e.png"/>
          <p:cNvPicPr/>
          <p:nvPr/>
        </p:nvPicPr>
        <p:blipFill>
          <a:blip r:embed="rId8"/>
          <a:stretch/>
        </p:blipFill>
        <p:spPr>
          <a:xfrm>
            <a:off x="357120" y="2928960"/>
            <a:ext cx="571680" cy="608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http://s013.radikal.ru/i325/1011/65/8a3b1c538889.png"/>
          <p:cNvPicPr/>
          <p:nvPr/>
        </p:nvPicPr>
        <p:blipFill>
          <a:blip r:embed="rId9"/>
          <a:stretch/>
        </p:blipFill>
        <p:spPr>
          <a:xfrm>
            <a:off x="7643880" y="1785960"/>
            <a:ext cx="642960" cy="7081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8" descr="http://lenagold.narod.ru/fon/clipart/s/sneg/sneg21.png"/>
          <p:cNvPicPr/>
          <p:nvPr/>
        </p:nvPicPr>
        <p:blipFill>
          <a:blip r:embed="rId10"/>
          <a:stretch/>
        </p:blipFill>
        <p:spPr>
          <a:xfrm>
            <a:off x="8358120" y="3000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9" descr="http://lenagold.narod.ru/fon/clipart/s/sneg/sneg20.png"/>
          <p:cNvPicPr/>
          <p:nvPr/>
        </p:nvPicPr>
        <p:blipFill>
          <a:blip r:embed="rId11"/>
          <a:stretch/>
        </p:blipFill>
        <p:spPr>
          <a:xfrm>
            <a:off x="4143240" y="471492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0" descr="http://lenagold.narod.ru/fon/clipart/s/sneg/sneg21.png"/>
          <p:cNvPicPr/>
          <p:nvPr/>
        </p:nvPicPr>
        <p:blipFill>
          <a:blip r:embed="rId12"/>
          <a:stretch/>
        </p:blipFill>
        <p:spPr>
          <a:xfrm>
            <a:off x="3929040" y="278604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851520"/>
        </p:xfrm>
        <a:graphic>
          <a:graphicData uri="http://schemas.openxmlformats.org/drawingml/2006/table">
            <a:tbl>
              <a:tblPr/>
              <a:tblGrid>
                <a:gridCol w="4048200"/>
                <a:gridCol w="5095800"/>
              </a:tblGrid>
              <a:tr h="37944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орные слов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44640" rIns="44640" tIns="0" bIns="0" anchor="t">
                      <a:noAutofit/>
                    </a:bodyPr>
                    <a:p>
                      <a:pPr marL="457200" indent="-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. Вступление</a:t>
                      </a:r>
                      <a:r>
                        <a:rPr b="0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. Что изображено н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артине В. Васнецова «Снегурочка»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негурочка, зимний ле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. Основная часть. Описание картины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. Как художник изобразил лес, природу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ёмный лес, ночь, алмазные звёзды, лунный свет, поляна, сияющий голубоватый цвет, яркие тен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. Какая Снегурочка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евушка, красивый наряд, жемчужно-серебристый цвет, парчовая шубка, шапочка с меховой опушкой, тёплые вареж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. Где стоит Снегурочка? Что изобразил художник на заднем плане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 сумраке леса, пушистые ёлочки, тонкая берёзка, вдали, огоньки-светлячки деревень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. Как чувствует себя Снегурочка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трашно, одинок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. Заключение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Понравилась ли тебе картина? Чем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лшебная, загадочная, чудо, тай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2" descr="http://upload.wikimedia.org/wikipedia/commons/5/5f/Vasnetsov_Snegurochka.jpg?uselang=ru"/>
          <p:cNvPicPr/>
          <p:nvPr/>
        </p:nvPicPr>
        <p:blipFill>
          <a:blip r:embed="rId2"/>
          <a:stretch/>
        </p:blipFill>
        <p:spPr>
          <a:xfrm>
            <a:off x="4357800" y="142920"/>
            <a:ext cx="4643280" cy="650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42920" y="285840"/>
            <a:ext cx="421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ковый словар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И. Ожегов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т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зорчатая шелковая ткань с переплетающимися золотыми, серебряными нитями.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л. парчовый, -ая, -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http://udel3.narod.ru/ivanovskaia-oblast/pc11wfs.jpg"/>
          <p:cNvPicPr/>
          <p:nvPr/>
        </p:nvPicPr>
        <p:blipFill>
          <a:blip r:embed="rId3"/>
          <a:stretch/>
        </p:blipFill>
        <p:spPr>
          <a:xfrm>
            <a:off x="142920" y="4929120"/>
            <a:ext cx="1928880" cy="18241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http://www.znaikak.ru/design/pic/visred/%D0%BF%D0%B0%D1%80%D1%87%D0%B0Brocade.jpg"/>
          <p:cNvPicPr/>
          <p:nvPr/>
        </p:nvPicPr>
        <p:blipFill>
          <a:blip r:embed="rId4"/>
          <a:stretch/>
        </p:blipFill>
        <p:spPr>
          <a:xfrm>
            <a:off x="1000080" y="407196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http://tdraduga.ru/files/JPG/scen/parcha/4014/4014_99.jpg"/>
          <p:cNvPicPr/>
          <p:nvPr/>
        </p:nvPicPr>
        <p:blipFill>
          <a:blip r:embed="rId5"/>
          <a:stretch/>
        </p:blipFill>
        <p:spPr>
          <a:xfrm>
            <a:off x="2286000" y="3357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5:21:50Z</dcterms:created>
  <dc:creator>1</dc:creator>
  <dc:description/>
  <dc:language>en-US</dc:language>
  <cp:lastModifiedBy>Admin</cp:lastModifiedBy>
  <dcterms:modified xsi:type="dcterms:W3CDTF">2019-10-21T02:29:48Z</dcterms:modified>
  <cp:revision>47</cp:revision>
  <dc:subject/>
  <dc:title>Слайд 1</dc:title>
</cp:coreProperties>
</file>