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617-BA17-409D-A860-D493DA332AF3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Хайрулина Анастасия Владиславовна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4BDF-11F3-4DB3-923D-FDA6D2B92BA0}" type="slidenum">
              <a:rPr b="1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78F-D501-4C41-8F07-97DED7B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FC6-5666-4CD3-A09C-773C69C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5A5-8CF4-4328-B99E-7FA54600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6F1-3E57-4475-A03F-A232D2C1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C7BE-91FC-49A3-931A-57A9C07B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3D7-1778-4FCD-870A-84D3828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CA19-03F4-4B60-BE1D-F52F732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0C5C-95B0-4B01-BF0F-839BAE0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EA39-B6AC-4609-8B93-A550445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4B4A-C552-4399-9EA1-8C67926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8DDA-BCC7-4C12-9413-FD32F92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8A3-BD96-4689-8CC3-BFDDB0A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6F7-A39B-4178-B710-C309307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8B0D-9B9A-421D-84D9-A5D3465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1BC7-30A5-47AF-9932-C7810C1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133-5873-42D7-BC28-86572D69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1816-924F-4C0E-80BB-CFADD300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91B-9D7E-482A-878D-BB21AB4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37A-954A-47BC-8D3D-2BBC51BC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EF3-82E2-40D3-A4E1-8542C497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69B-8B2D-4128-9070-2EC9C95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C1C-76C1-4B96-B0EC-2710689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524-C2C1-429C-AA69-94F1702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111-5547-4789-BAD5-EEC258F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66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66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66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66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32BA-C150-4C16-B61E-0B6A3EB2B9DB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8764-D7B4-448E-BD17-7C6BBC28FB27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635280" y="285228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Blackadder ITC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Bodoni MT"/>
              </a:rPr>
              <a:t>Виды компьютерных вирусов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Bodoni MT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Bodoni MT"/>
              </a:rPr>
              <a:t>Антивирусные програм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Заголовок 3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3384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68360" y="5165640"/>
            <a:ext cx="215892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3"/>
                </a:solidFill>
                <a:latin typeface="Arial"/>
              </a:rPr>
              <a:t>Выполнил: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3"/>
                </a:solidFill>
                <a:latin typeface="Arial"/>
              </a:rPr>
              <a:t>Солиев Гуфрон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3"/>
                </a:solidFill>
                <a:latin typeface="Arial"/>
              </a:rPr>
              <a:t>5 б класс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3"/>
                </a:solidFill>
                <a:latin typeface="Arial"/>
              </a:rPr>
              <a:t>Руководитель: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3"/>
                </a:solidFill>
                <a:latin typeface="Arial"/>
              </a:rPr>
              <a:t>Глушко А.В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своего распространения используют протоколы и возможности локальных и глобальных компьютерных се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 принципом работы сетевых вирусов является возможность передать 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устить свой код н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даленном компьютер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900000" y="549360"/>
            <a:ext cx="684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тевые вирусы </a:t>
            </a:r>
            <a:endParaRPr b="1" i="1" lang="en-US" sz="3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826920" y="4581360"/>
            <a:ext cx="2260800" cy="227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назад"/>
          <p:cNvPicPr/>
          <p:nvPr/>
        </p:nvPicPr>
        <p:blipFill>
          <a:blip r:embed="rId4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575"/>
                </a:solidFill>
                <a:uFillTx/>
                <a:latin typeface="Arial"/>
              </a:rPr>
              <a:t>Каналы распространения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3366"/>
                </a:solidFill>
                <a:uFillTx/>
                <a:latin typeface="Arial"/>
              </a:rPr>
              <a:t>Флеш-накопители (флешки)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66"/>
                </a:solidFill>
                <a:latin typeface="Aria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 Использование этого канала преимущественно обусловлено возможностью создания на накопителе специального файла </a:t>
            </a:r>
            <a:r>
              <a:rPr b="1" i="1" lang="ru-RU" sz="1300" spc="-1" strike="noStrike" u="sng">
                <a:solidFill>
                  <a:srgbClr val="003366"/>
                </a:solidFill>
                <a:uFillTx/>
                <a:latin typeface="Arial"/>
              </a:rPr>
              <a:t>autorun.inf, </a:t>
            </a:r>
            <a:r>
              <a:rPr b="0" lang="ru-RU" sz="1300" spc="-1" strike="noStrike">
                <a:solidFill>
                  <a:srgbClr val="003366"/>
                </a:solidFill>
                <a:latin typeface="Arial"/>
              </a:rPr>
              <a:t>в котором можно указать программу, запускаемую Проводником Windows при открытии такого накопителя. Флешки — основной источник заражения для компьютеров.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3366"/>
                </a:solidFill>
                <a:uFillTx/>
                <a:latin typeface="Arial"/>
              </a:rPr>
              <a:t>Электронная почта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66"/>
                </a:solidFill>
                <a:latin typeface="Aria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3366"/>
                </a:solidFill>
                <a:uFillTx/>
                <a:latin typeface="Arial"/>
              </a:rPr>
              <a:t>Системы обмена мгновенными сообщениями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66"/>
                </a:solidFill>
                <a:latin typeface="Aria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3366"/>
                </a:solidFill>
                <a:uFillTx/>
                <a:latin typeface="Arial"/>
              </a:rPr>
              <a:t>Веб-страницы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66"/>
                </a:solidFill>
                <a:latin typeface="Aria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C:\Users\School101\Desktop\вирусы\55.jpeg"/>
          <p:cNvPicPr/>
          <p:nvPr/>
        </p:nvPicPr>
        <p:blipFill>
          <a:blip r:embed="rId1"/>
          <a:stretch/>
        </p:blipFill>
        <p:spPr>
          <a:xfrm>
            <a:off x="0" y="3000240"/>
            <a:ext cx="928800" cy="8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1.jpeg"/>
          <p:cNvPicPr/>
          <p:nvPr/>
        </p:nvPicPr>
        <p:blipFill>
          <a:blip r:embed="rId2"/>
          <a:stretch/>
        </p:blipFill>
        <p:spPr>
          <a:xfrm>
            <a:off x="0" y="6031080"/>
            <a:ext cx="776160" cy="82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:\2.jpeg"/>
          <p:cNvPicPr/>
          <p:nvPr/>
        </p:nvPicPr>
        <p:blipFill>
          <a:blip r:embed="rId3"/>
          <a:stretch/>
        </p:blipFill>
        <p:spPr>
          <a:xfrm>
            <a:off x="0" y="450072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:\3.jpeg"/>
          <p:cNvPicPr/>
          <p:nvPr/>
        </p:nvPicPr>
        <p:blipFill>
          <a:blip r:embed="rId4"/>
          <a:stretch/>
        </p:blipFill>
        <p:spPr>
          <a:xfrm>
            <a:off x="0" y="1071720"/>
            <a:ext cx="1195560" cy="89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Антивирусные программ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560" y="2491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Для обнаружения, удаления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 защиты от компьютерных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вирусов разработаны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пециальные программы, которые позволяют обнаруживать и уничтожать вирусы. Такие программы называются антивирусны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Рисунок 4" descr="29247.jpg"/>
          <p:cNvPicPr/>
          <p:nvPr/>
        </p:nvPicPr>
        <p:blipFill>
          <a:blip r:embed="rId1"/>
          <a:stretch/>
        </p:blipFill>
        <p:spPr>
          <a:xfrm>
            <a:off x="755640" y="234936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назад"/>
          <p:cNvPicPr/>
          <p:nvPr/>
        </p:nvPicPr>
        <p:blipFill>
          <a:blip r:embed="rId2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х параметр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быстрой и эффективной работы антивирусная программа должна отвечать некоторым параметра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табильность и надежность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Размеры вирусной базы програм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Многоплатформ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Рисунок 6" descr="6c9d7cd648b7.gif"/>
          <p:cNvPicPr/>
          <p:nvPr/>
        </p:nvPicPr>
        <p:blipFill>
          <a:blip r:embed="rId1"/>
          <a:srcRect l="1513" t="55275" r="82220" b="7842"/>
          <a:stretch/>
        </p:blipFill>
        <p:spPr>
          <a:xfrm>
            <a:off x="7764480" y="0"/>
            <a:ext cx="1379520" cy="229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назад"/>
          <p:cNvPicPr/>
          <p:nvPr/>
        </p:nvPicPr>
        <p:blipFill>
          <a:blip r:embed="rId2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ри выборе антивирусной программы необходимо учитывать не только процент обнаружения вирусов, но и способность обнаруживать новые вирусы, количество вирусов в антивирусной базе, частот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ее обновлени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алич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полнительны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функ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раткий обзор антивирусных програм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Рисунок 4" descr="6c9d7cd648b7.gif"/>
          <p:cNvPicPr/>
          <p:nvPr/>
        </p:nvPicPr>
        <p:blipFill>
          <a:blip r:embed="rId1"/>
          <a:srcRect l="0" t="0" r="0" b="45557"/>
          <a:stretch/>
        </p:blipFill>
        <p:spPr>
          <a:xfrm>
            <a:off x="3884760" y="4365720"/>
            <a:ext cx="525924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63040" y="499680"/>
            <a:ext cx="802836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аиболее известные из антивирусных програм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В настоящее время серьезный антивирус должен уметь распознавать не менее 25000 вирусов. Однако только 200-300 вирусов из них можно встретить, а опасность представляют лишь несколько десятков из них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Рисунок 5" descr="6c9d7cd648b7.gif"/>
          <p:cNvPicPr/>
          <p:nvPr/>
        </p:nvPicPr>
        <p:blipFill>
          <a:blip r:embed="rId1"/>
          <a:srcRect l="0" t="56213" r="0" b="0"/>
          <a:stretch/>
        </p:blipFill>
        <p:spPr>
          <a:xfrm>
            <a:off x="1187280" y="4221000"/>
            <a:ext cx="746460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3280" y="24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Улыбающееся лицо 3"/>
          <p:cNvSpPr/>
          <p:nvPr/>
        </p:nvSpPr>
        <p:spPr>
          <a:xfrm>
            <a:off x="4211640" y="4076640"/>
            <a:ext cx="1944720" cy="15130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Улыбающееся лицо 4"/>
          <p:cNvSpPr/>
          <p:nvPr/>
        </p:nvSpPr>
        <p:spPr>
          <a:xfrm>
            <a:off x="3203640" y="4292640"/>
            <a:ext cx="1152360" cy="9367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Облако 5"/>
          <p:cNvSpPr/>
          <p:nvPr/>
        </p:nvSpPr>
        <p:spPr>
          <a:xfrm>
            <a:off x="3203640" y="2852640"/>
            <a:ext cx="2305080" cy="3313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Улыбающееся лицо 6"/>
          <p:cNvSpPr/>
          <p:nvPr/>
        </p:nvSpPr>
        <p:spPr>
          <a:xfrm>
            <a:off x="1835280" y="4653000"/>
            <a:ext cx="2089080" cy="12970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- информировать пользователей ПК о вредоносных программах и способах борьбы с ни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ча- предоставить сведения о наиболее известных антивирусных программ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Harlow Solid Italic"/>
              </a:rPr>
              <a:t>Оглавл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ру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Что такое вирус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лассификация вирус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17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тивирусные програм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Что такое антивирусная программ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Некоторые её параметр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Виды антивирусных програм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обще, что такое вирус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66"/>
                </a:solidFill>
                <a:latin typeface="Arial"/>
              </a:rPr>
              <a:t>Прежде всего, вирус – это программа, которая может «размножаться» и скрытно внедрять свои копии в файлы, загрузочные секторы дисков и документы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66"/>
                </a:solidFill>
                <a:latin typeface="Arial"/>
              </a:rPr>
              <a:t>Активизация компьютерного вируса может вызвать уничтожение программ и данных, и даже уничтожение составляющих компьютера (системного блока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3" descr="C:\Users\School101\Desktop\вирусы\66.jpe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5"/>
          <p:cNvSpPr txBox="1"/>
          <p:nvPr/>
        </p:nvSpPr>
        <p:spPr>
          <a:xfrm>
            <a:off x="1763640" y="5805360"/>
            <a:ext cx="1944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00 - 5000 байт</a:t>
            </a:r>
            <a:endParaRPr b="1" lang="en-US" sz="36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4500720" y="6021360"/>
            <a:ext cx="223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олее 50 тыс. вирусов</a:t>
            </a:r>
            <a:endParaRPr b="1" lang="en-US" sz="36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13" name="Picture 9" descr="назад"/>
          <p:cNvPicPr/>
          <p:nvPr/>
        </p:nvPicPr>
        <p:blipFill>
          <a:blip r:embed="rId2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Неправильная работа нормально работающих программ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Частые зависания и сбои в работе ПК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Медленная работа ПК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Изменение размеров файлов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Исчезновение файлов и каталогов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Неожиданное увеличение количество файлов на диске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Уменьшение размеров свободной оперативной памяти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Вывод на экран неожиданных сообщений и изображений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Подача непредусмотренных звуковых сигналов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3366"/>
                </a:solidFill>
                <a:latin typeface="Arial"/>
              </a:rPr>
              <a:t>Невозможность загрузки Операционной Системы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изнаки появления вирусо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-541440" y="620640"/>
            <a:ext cx="864252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Загрузочные вирус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Файловые вирус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Макро-вирус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етевые вирус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7" descr="назад"/>
          <p:cNvPicPr/>
          <p:nvPr/>
        </p:nvPicPr>
        <p:blipFill>
          <a:blip r:embed="rId2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ражают загрузочный сектор гибкого диска или винчестер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заражении дисков загрузочный вирус «заставляет» систему при ее перезапуске считать в память и отдать управление не программному коду загрузчика операционной системы, а коду виру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260280"/>
            <a:ext cx="770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5e00"/>
                    </a:gs>
                    <a:gs pos="100000">
                      <a:srgbClr val="00cc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рузочные вирусы</a:t>
            </a:r>
            <a:endParaRPr b="1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5e00"/>
                  </a:gs>
                  <a:gs pos="100000">
                    <a:srgbClr val="00cc00"/>
                  </a:gs>
                </a:gsLst>
                <a:lin ang="189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2" descr="C:\Program Files\Microsoft Office\CLIPART\PUB60COR\PH02746G.GIF"/>
          <p:cNvPicPr/>
          <p:nvPr/>
        </p:nvPicPr>
        <p:blipFill>
          <a:blip r:embed="rId1"/>
          <a:stretch/>
        </p:blipFill>
        <p:spPr>
          <a:xfrm>
            <a:off x="2484360" y="5362560"/>
            <a:ext cx="2237040" cy="1495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назад"/>
          <p:cNvPicPr/>
          <p:nvPr/>
        </p:nvPicPr>
        <p:blipFill>
          <a:blip r:embed="rId2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своем размножении тем или иным способом используют файловую систему операционной систем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айловые вирусы могут поражать исполняемые файлы различных типов (EXE, COM, BAT, SYS и др.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900000" y="-243000"/>
            <a:ext cx="7344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Файловые вирусы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125" name="Picture 6" descr="назад"/>
          <p:cNvPicPr/>
          <p:nvPr/>
        </p:nvPicPr>
        <p:blipFill>
          <a:blip r:embed="rId1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63640" y="2347560"/>
            <a:ext cx="68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ляются программами на языках, встроенных в некоторые системы обработки данных (текстовые редакторы, электронные таблицы и т.д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своего размножения такие вирусы используют возможности макро-языков и при их помощи переносят себя из одного зараженного файла (документа или таблицы) в друг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187280" y="189000"/>
            <a:ext cx="734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кро-вирусы </a:t>
            </a:r>
            <a:endParaRPr b="1" i="1" lang="en-US" sz="36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6" descr="назад"/>
          <p:cNvPicPr/>
          <p:nvPr/>
        </p:nvPicPr>
        <p:blipFill>
          <a:blip r:embed="rId3"/>
          <a:stretch/>
        </p:blipFill>
        <p:spPr>
          <a:xfrm>
            <a:off x="7956720" y="6195960"/>
            <a:ext cx="9763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5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0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125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5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2:45:54Z</dcterms:created>
  <dc:creator>Малахов А.К.</dc:creator>
  <dc:description/>
  <dc:language>en-US</dc:language>
  <cp:lastModifiedBy>Vik</cp:lastModifiedBy>
  <dcterms:modified xsi:type="dcterms:W3CDTF">2019-10-21T08:51:11Z</dcterms:modified>
  <cp:revision>109</cp:revision>
  <dc:subject>Вирусы и Антивирусные программы</dc:subject>
  <dc:title>Презентация</dc:title>
</cp:coreProperties>
</file>