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5.wmf" ContentType="image/x-wmf"/>
  <Override PartName="/ppt/media/image7.gif" ContentType="image/gif"/>
  <Override PartName="/ppt/media/image14.wmf" ContentType="image/x-wmf"/>
  <Override PartName="/ppt/media/image6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168-3906-46E7-89EC-47C2D900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796-7CBD-4D43-96DB-B988226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430-407F-4C5F-AE86-ACAB1BFF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0BB-531D-4CD1-AD49-40BC1F76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BE5-7E14-4B3E-BB84-9EE8688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915-9E9A-4C3F-8083-ECDBC6A7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841-9F36-4BEE-8F8C-4287A263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178-7E69-42B0-A5DA-D8B9930D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EB1-FC99-4FA1-B6A6-247FDD3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4C9-64F6-4899-846D-F42F5412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DC0-7008-4993-989B-7270929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D18-A48A-4A12-8831-EF73102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84DE-9F7D-4479-B2AA-9A9B2C1C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оль родителей в школьных успехах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48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48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48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3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2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74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74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6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92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32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9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4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6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28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92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7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48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4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2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2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48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8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48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е было плохих отметок!»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680"/>
                            </p:stCondLst>
                            <p:childTnLst>
                              <p:par>
                                <p:cTn id="4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68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8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88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84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2119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8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6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840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20593200">
            <a:off x="1085760" y="3103560"/>
            <a:ext cx="6972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лаем удачи Вам и Вашим детя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лимова Т.</dc:creator>
  <dc:description/>
  <dc:language>en-US</dc:language>
  <cp:lastModifiedBy>Кан</cp:lastModifiedBy>
  <dcterms:modified xsi:type="dcterms:W3CDTF">2010-09-28T20:00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