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23.png" ContentType="image/png"/>
  <Override PartName="/ppt/media/image30.gif" ContentType="image/gif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FE6-69D9-434C-868D-744CC578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98E-DAB7-4EEA-9FC2-B43624F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C6C-EC2D-4214-A1FC-E7F11813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59B-0A4E-4967-AF3B-666E418B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DBE-4507-41E0-ABF8-22836F04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751C-11C7-4CF6-81D4-610F2FD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0DA-8233-4783-8E50-DF52C9AA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F10-D1D2-4065-ABD6-32B1CFA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9831-327A-4957-BE4E-226989E8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6A14-3220-4757-BF57-1A38D68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3676-4E75-4027-A817-DE4EA31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42F-2F6D-43E6-A6E2-E2FB8D5B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742B-27F1-4FC7-A33F-442DEEC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EA0-61B4-4DB5-96DC-A5846C3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BC07-54E3-4114-AEC2-3D539068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348E-0682-482E-9DDE-B89FF9E5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24BD-A970-4A43-BB1D-49A235BC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4BB4-E9A5-4680-9378-40533C0C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C302-D196-4073-9B73-C7DE493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B4BB-8A4D-4D07-8C5F-6F72AAF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C7D3-BA1B-4873-82E3-FE8683A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186A-7295-475A-99A3-C5F40A1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8D8-1BD4-4543-A414-FB7FC09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9E02-5499-41F4-820B-3CCB4CC8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0E83-17B6-491C-9A73-47A5D8F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6607-3F08-4768-A02C-A918D22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6459-0793-454A-8625-01398CC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F8AF-B4CB-4609-93D5-53E52C1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68C1-C57D-4BB9-B182-C0C32183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8FDB-474E-423B-A85F-8D5B73A9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37FA-1DA5-44EB-ABDF-77F60718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38E8-DA3A-4065-AB6B-439DB7F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75BE-93B4-4D26-A1B8-FFA7B08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F0C-7223-4297-9303-DAAD815B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26E9-86FA-4281-89F4-4AB0D82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2D68-F9B8-4E90-B3C5-9E8D2FA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2947-5F58-46CC-8F49-F95E535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63E8-FF45-43B5-B725-BAB0DDB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EEE6-D23A-485B-BFF4-6FD80F3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59EF0-E9A1-4D82-87DB-D9EE782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5B06-77C2-41F1-9426-BE49107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1723-ACD1-4424-A615-84E0BB87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52DE-4534-4BA7-B89C-B7F9F55A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3A60-66B6-4EF1-9916-68B49742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C2E-5012-4CAD-8AA9-5C8148CE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0AE1-6028-404A-8C5C-5894F475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BF70-7BB7-43D7-A1EA-C48570C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9932-1E3C-4786-AA7F-AD42B02C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C422-00B6-4F0E-AC83-82BF696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7669-7CF4-47EF-BA7A-0CA2DC8D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B515-D3FA-45C7-B02A-59EB2C4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DCD7-4E09-4A4A-B2A6-E25FEC77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D7FD-042E-47E8-8650-9D78D18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83A81-DE39-4574-A8C3-FD0100A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E8FD-237D-4BC0-BD8E-DA01AF9C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9D8-2005-45C2-980A-3F8703D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402D-DD7C-42D5-A57D-B9682EF7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29D-BDEE-4EBC-9350-3972790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615-FAC9-43E1-9C54-6F601EB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BA1-A8EA-43BB-BACE-F3FF573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22AE-0515-4D63-BCBB-5516E5DC139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5B5-1C45-455E-90A1-78977949CD3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3F7-3886-4FC3-9E1E-FA37CBC0F3E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6ED6-12CB-4835-ACA6-4E26EAB8D91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9EE-4349-4696-8BF5-8679AE4A1D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пк\Desktop\презентации\рамки для презентаций\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706320" y="-139680"/>
            <a:ext cx="77612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боту выполнила: Титовец Жен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еница 6 класс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КОУ Воздвиженской  СОШ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0" y="2928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ХОЧУ ВСЁ ЗНА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46160" y="1852560"/>
            <a:ext cx="463860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2" descr=""/>
          <p:cNvPicPr/>
          <p:nvPr/>
        </p:nvPicPr>
        <p:blipFill>
          <a:blip r:embed="rId3"/>
          <a:stretch/>
        </p:blipFill>
        <p:spPr>
          <a:xfrm>
            <a:off x="6035760" y="2279520"/>
            <a:ext cx="3657600" cy="1049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20840" y="2157480"/>
            <a:ext cx="3840120" cy="145728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2" descr=""/>
          <p:cNvPicPr/>
          <p:nvPr/>
        </p:nvPicPr>
        <p:blipFill>
          <a:blip r:embed="rId3"/>
          <a:stretch/>
        </p:blipFill>
        <p:spPr>
          <a:xfrm>
            <a:off x="4821120" y="2352600"/>
            <a:ext cx="45118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пк\Desktop\презентации\рамки для презентаций\56163f3cceb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1420920" y="2230560"/>
            <a:ext cx="7253280" cy="127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пк\Desktop\презентации\рамки для презентаций\95269168_0_5a6e2_39977f02_L1.jpg"/>
          <p:cNvPicPr/>
          <p:nvPr/>
        </p:nvPicPr>
        <p:blipFill>
          <a:blip r:embed="rId3"/>
          <a:stretch/>
        </p:blipFill>
        <p:spPr>
          <a:xfrm>
            <a:off x="2571840" y="0"/>
            <a:ext cx="4000320" cy="25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пк\Desktop\презентации\рамки для презентаций\other (2477).gif"/>
          <p:cNvPicPr/>
          <p:nvPr/>
        </p:nvPicPr>
        <p:blipFill>
          <a:blip r:embed="rId4"/>
          <a:stretch/>
        </p:blipFill>
        <p:spPr>
          <a:xfrm>
            <a:off x="3000240" y="4071960"/>
            <a:ext cx="314352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281160" y="2554200"/>
            <a:ext cx="4492440" cy="138456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2" descr=""/>
          <p:cNvPicPr/>
          <p:nvPr/>
        </p:nvPicPr>
        <p:blipFill>
          <a:blip r:embed="rId3"/>
          <a:stretch/>
        </p:blipFill>
        <p:spPr>
          <a:xfrm>
            <a:off x="4206960" y="2249640"/>
            <a:ext cx="584496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212760" y="2371680"/>
            <a:ext cx="4541760" cy="145728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2" descr=""/>
          <p:cNvPicPr/>
          <p:nvPr/>
        </p:nvPicPr>
        <p:blipFill>
          <a:blip r:embed="rId3"/>
          <a:stretch/>
        </p:blipFill>
        <p:spPr>
          <a:xfrm>
            <a:off x="5273640" y="2419200"/>
            <a:ext cx="7497720" cy="1049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249120" y="1762200"/>
            <a:ext cx="4402080" cy="227340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3"/>
          <a:stretch/>
        </p:blipFill>
        <p:spPr>
          <a:xfrm>
            <a:off x="5467320" y="2419200"/>
            <a:ext cx="3164040" cy="1335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195120" y="2298600"/>
            <a:ext cx="4469040" cy="145584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2" descr=""/>
          <p:cNvPicPr/>
          <p:nvPr/>
        </p:nvPicPr>
        <p:blipFill>
          <a:blip r:embed="rId3"/>
          <a:stretch/>
        </p:blipFill>
        <p:spPr>
          <a:xfrm>
            <a:off x="5608800" y="2567160"/>
            <a:ext cx="3114360" cy="111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93560" y="1474920"/>
            <a:ext cx="4017960" cy="330984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2" descr=""/>
          <p:cNvPicPr/>
          <p:nvPr/>
        </p:nvPicPr>
        <p:blipFill>
          <a:blip r:embed="rId3"/>
          <a:stretch/>
        </p:blipFill>
        <p:spPr>
          <a:xfrm>
            <a:off x="5321160" y="2352600"/>
            <a:ext cx="3157560" cy="903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244440" y="2139840"/>
            <a:ext cx="4651560" cy="2048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2" descr=""/>
          <p:cNvPicPr/>
          <p:nvPr/>
        </p:nvPicPr>
        <p:blipFill>
          <a:blip r:embed="rId3"/>
          <a:stretch/>
        </p:blipFill>
        <p:spPr>
          <a:xfrm>
            <a:off x="5608800" y="2639880"/>
            <a:ext cx="2779560" cy="8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420840" y="2011320"/>
            <a:ext cx="4090680" cy="206712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2" descr=""/>
          <p:cNvPicPr/>
          <p:nvPr/>
        </p:nvPicPr>
        <p:blipFill>
          <a:blip r:embed="rId3"/>
          <a:stretch/>
        </p:blipFill>
        <p:spPr>
          <a:xfrm>
            <a:off x="4565520" y="1920960"/>
            <a:ext cx="479772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20840" y="1725480"/>
            <a:ext cx="4151160" cy="206532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2" descr=""/>
          <p:cNvPicPr/>
          <p:nvPr/>
        </p:nvPicPr>
        <p:blipFill>
          <a:blip r:embed="rId3"/>
          <a:stretch/>
        </p:blipFill>
        <p:spPr>
          <a:xfrm>
            <a:off x="5138640" y="2133720"/>
            <a:ext cx="424980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3:08:47Z</dcterms:created>
  <dc:creator>пк</dc:creator>
  <dc:description/>
  <dc:language>en-US</dc:language>
  <cp:lastModifiedBy>пк</cp:lastModifiedBy>
  <dcterms:modified xsi:type="dcterms:W3CDTF">2017-03-02T14:09:33Z</dcterms:modified>
  <cp:revision>7</cp:revision>
  <dc:subject/>
  <dc:title>Александр Степанович Грин  « Алые Паруса</dc:title>
</cp:coreProperties>
</file>