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23.png" ContentType="image/png"/>
  <Override PartName="/ppt/media/image30.gif" ContentType="image/gif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7E9-5789-4E80-9ED3-286C359A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4AF-2E39-481F-896F-9DAD7B9D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115-25EC-4BFE-9A52-75308B77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5EC-080A-4BF2-9439-44AFA0DC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C1C2-3104-481F-A1C8-829AEC1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025-CF3B-4B5C-A4B9-27809CAB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D11B-E62A-43B6-AD96-4F0AF3A4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570-77C0-4B9C-B959-88D5554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F789-0151-46B8-9372-FE0DC62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FA9-5D57-4ACE-8399-9385B019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5C9-39B2-49B9-ABEA-C04953F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88B-D8AE-428D-815A-DC7B0F4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03E3-9784-4EB5-BD8A-DCE6E13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C93-EF8E-42D7-88B2-804136F8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671-6D3F-4C6F-9927-BE375FBB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D00B-1EF2-442E-B1D7-1E680875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DFA0-9675-41CF-9D1F-C0CB141F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3CEA-3375-4D35-92B7-DDE59F98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F9B0-9355-43F4-AEB0-E5D79A17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A57B-480D-4133-84E7-C6EBA96C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FF2D-BFC9-4B82-9635-58E62D2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4E90-EBB8-42C9-8205-AA93BC3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CA7-A36D-48BB-BE5F-312D5CF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0251-991C-4DB5-B1FD-323A202C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75A3-673B-48A5-A15D-D70197B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6D15-9A14-4D68-A737-627868C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CE53-93DF-43B0-9C6F-C76A556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6FA8-3886-4DA9-B141-E212C06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C7C5-1F0D-435C-97EE-AA2141C3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8222-BDB9-4203-A2D6-33470EF2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FC44-A7A1-47E9-A367-E93973AB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7E18-784A-409C-B390-BD43904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C845-5956-4045-BE4D-B4731C4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CA8-EF92-4501-BC60-FF189F3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08C6-BEAE-4F8C-A4C1-464108BD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1058-951C-4DDA-83B8-33EEF294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96E6-51EB-4113-9FD3-2EF0CB48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53A4-9EA4-47E9-81C4-C8472F3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C5CD-5E22-4867-989C-957C149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DCFB-22FB-43C6-A801-1D6DBE4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3939-B609-44E0-8EA0-D691B16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A317-DD8C-4FC3-A392-D8BBD0C1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6AC9-6F73-4B50-90FC-320BBB64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5D77-2D27-4407-A8F7-D20CD0DA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D39-AC87-47E2-B3B1-9595062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4622-EF1B-4DF2-91F9-B7D0CD9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6013-64C7-48AD-ADB4-F984F89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DFF1-7774-4170-907B-0190FD0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4CDBD-53A4-43FA-8A19-08E8979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B007-0E7D-4CF3-85EF-1ADE73C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9A84-8A1F-4066-A659-52616CF5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613E-A870-41B4-8DFB-0CB016C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D4BE-9FAA-4B97-AB37-4702B5A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4ED1-7762-43EC-9104-8223B46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3E53-4C72-4D3A-8E54-9E7E1F94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8CF-0FDE-4A9A-AFDE-E23FDE3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6BE21-5AA4-4D3B-817E-5E2CECC9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E82-EE1B-4C6B-83FA-3B678A3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F10-8C73-45BB-8DD5-9DA85A38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B2A-A39F-49F5-B384-4CE76A3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668E-6EA7-4546-9513-04155FB18BF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339A-AB1C-4F01-859E-A1D09417128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EB1-B548-44A1-B5B7-D7641724A5D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FD3-F42F-4936-98A0-EC6C07332F1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7ED-1683-4608-B076-9452328F270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пк\Desktop\презентации\рамки для презентаций\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706320" y="-139680"/>
            <a:ext cx="77612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боту выполнила: Титовец Жен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еница 6 класс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КОУ Воздвиженской  СОШ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0" y="2928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ХОЧУ ВСЁ ЗНАТЬ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46160" y="1852560"/>
            <a:ext cx="4638600" cy="218916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2" descr=""/>
          <p:cNvPicPr/>
          <p:nvPr/>
        </p:nvPicPr>
        <p:blipFill>
          <a:blip r:embed="rId3"/>
          <a:stretch/>
        </p:blipFill>
        <p:spPr>
          <a:xfrm>
            <a:off x="6035760" y="2279520"/>
            <a:ext cx="3657600" cy="1049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20840" y="2157480"/>
            <a:ext cx="3840120" cy="145728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2" descr=""/>
          <p:cNvPicPr/>
          <p:nvPr/>
        </p:nvPicPr>
        <p:blipFill>
          <a:blip r:embed="rId3"/>
          <a:stretch/>
        </p:blipFill>
        <p:spPr>
          <a:xfrm>
            <a:off x="4821120" y="2352600"/>
            <a:ext cx="45118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пк\Desktop\презентации\рамки для презентаций\56163f3cceb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1420920" y="2230560"/>
            <a:ext cx="7253280" cy="127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пк\Desktop\презентации\рамки для презентаций\95269168_0_5a6e2_39977f02_L1.jpg"/>
          <p:cNvPicPr/>
          <p:nvPr/>
        </p:nvPicPr>
        <p:blipFill>
          <a:blip r:embed="rId3"/>
          <a:stretch/>
        </p:blipFill>
        <p:spPr>
          <a:xfrm>
            <a:off x="2571840" y="0"/>
            <a:ext cx="4000320" cy="2500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пк\Desktop\презентации\рамки для презентаций\other (2477).gif"/>
          <p:cNvPicPr/>
          <p:nvPr/>
        </p:nvPicPr>
        <p:blipFill>
          <a:blip r:embed="rId4"/>
          <a:stretch/>
        </p:blipFill>
        <p:spPr>
          <a:xfrm>
            <a:off x="3000240" y="4071960"/>
            <a:ext cx="314352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281160" y="2554200"/>
            <a:ext cx="4492440" cy="138456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2" descr=""/>
          <p:cNvPicPr/>
          <p:nvPr/>
        </p:nvPicPr>
        <p:blipFill>
          <a:blip r:embed="rId3"/>
          <a:stretch/>
        </p:blipFill>
        <p:spPr>
          <a:xfrm>
            <a:off x="4206960" y="2249640"/>
            <a:ext cx="584496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1" descr=""/>
          <p:cNvPicPr/>
          <p:nvPr/>
        </p:nvPicPr>
        <p:blipFill>
          <a:blip r:embed="rId2"/>
          <a:stretch/>
        </p:blipFill>
        <p:spPr>
          <a:xfrm>
            <a:off x="212760" y="2371680"/>
            <a:ext cx="4541760" cy="145728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2" descr=""/>
          <p:cNvPicPr/>
          <p:nvPr/>
        </p:nvPicPr>
        <p:blipFill>
          <a:blip r:embed="rId3"/>
          <a:stretch/>
        </p:blipFill>
        <p:spPr>
          <a:xfrm>
            <a:off x="5273640" y="2419200"/>
            <a:ext cx="7497720" cy="10494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249120" y="1762200"/>
            <a:ext cx="4402080" cy="227340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3"/>
          <a:stretch/>
        </p:blipFill>
        <p:spPr>
          <a:xfrm>
            <a:off x="5467320" y="2419200"/>
            <a:ext cx="3164040" cy="1335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195120" y="2298600"/>
            <a:ext cx="4469040" cy="145584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2" descr=""/>
          <p:cNvPicPr/>
          <p:nvPr/>
        </p:nvPicPr>
        <p:blipFill>
          <a:blip r:embed="rId3"/>
          <a:stretch/>
        </p:blipFill>
        <p:spPr>
          <a:xfrm>
            <a:off x="5608800" y="2567160"/>
            <a:ext cx="3114360" cy="111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93560" y="1474920"/>
            <a:ext cx="4017960" cy="3309840"/>
          </a:xfrm>
          <a:prstGeom prst="rect">
            <a:avLst/>
          </a:prstGeom>
          <a:ln w="0">
            <a:noFill/>
          </a:ln>
        </p:spPr>
      </p:pic>
      <p:pic>
        <p:nvPicPr>
          <p:cNvPr id="238" name="Содержимое 2" descr=""/>
          <p:cNvPicPr/>
          <p:nvPr/>
        </p:nvPicPr>
        <p:blipFill>
          <a:blip r:embed="rId3"/>
          <a:stretch/>
        </p:blipFill>
        <p:spPr>
          <a:xfrm>
            <a:off x="5321160" y="2352600"/>
            <a:ext cx="3157560" cy="903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244440" y="2139840"/>
            <a:ext cx="4651560" cy="2048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2" descr=""/>
          <p:cNvPicPr/>
          <p:nvPr/>
        </p:nvPicPr>
        <p:blipFill>
          <a:blip r:embed="rId3"/>
          <a:stretch/>
        </p:blipFill>
        <p:spPr>
          <a:xfrm>
            <a:off x="5608800" y="2639880"/>
            <a:ext cx="2779560" cy="8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420840" y="2011320"/>
            <a:ext cx="4090680" cy="2067120"/>
          </a:xfrm>
          <a:prstGeom prst="rect">
            <a:avLst/>
          </a:prstGeom>
          <a:ln w="0">
            <a:noFill/>
          </a:ln>
        </p:spPr>
      </p:pic>
      <p:pic>
        <p:nvPicPr>
          <p:cNvPr id="244" name="Содержимое 2" descr=""/>
          <p:cNvPicPr/>
          <p:nvPr/>
        </p:nvPicPr>
        <p:blipFill>
          <a:blip r:embed="rId3"/>
          <a:stretch/>
        </p:blipFill>
        <p:spPr>
          <a:xfrm>
            <a:off x="4565520" y="1920960"/>
            <a:ext cx="479772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пк\Desktop\презентации\рамки для презентаций\i (3)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20840" y="1725480"/>
            <a:ext cx="4151160" cy="206532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2" descr=""/>
          <p:cNvPicPr/>
          <p:nvPr/>
        </p:nvPicPr>
        <p:blipFill>
          <a:blip r:embed="rId3"/>
          <a:stretch/>
        </p:blipFill>
        <p:spPr>
          <a:xfrm>
            <a:off x="5138640" y="2133720"/>
            <a:ext cx="424980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3:08:47Z</dcterms:created>
  <dc:creator>пк</dc:creator>
  <dc:description/>
  <dc:language>en-US</dc:language>
  <cp:lastModifiedBy>пк</cp:lastModifiedBy>
  <dcterms:modified xsi:type="dcterms:W3CDTF">2017-03-02T14:09:33Z</dcterms:modified>
  <cp:revision>7</cp:revision>
  <dc:subject/>
  <dc:title>Александр Степанович Грин  « Алые Паруса</dc:title>
</cp:coreProperties>
</file>