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7E5D9-528D-4591-BA75-01DAE9AD6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28560" y="291600"/>
            <a:ext cx="788688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28560" y="1465200"/>
            <a:ext cx="788688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8560" y="3926160"/>
            <a:ext cx="788688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29F9F-2E63-457B-A0AC-CBCC80A5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28560" y="291600"/>
            <a:ext cx="788688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560" y="1465200"/>
            <a:ext cx="38487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280" y="1465200"/>
            <a:ext cx="38487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560" y="3926160"/>
            <a:ext cx="38487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0280" y="3926160"/>
            <a:ext cx="38487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6B38C-8A20-4BEE-9A80-2B9CEA574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28560" y="291600"/>
            <a:ext cx="788688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28560" y="1465200"/>
            <a:ext cx="25394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5440" y="1465200"/>
            <a:ext cx="25394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2320" y="1465200"/>
            <a:ext cx="25394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28560" y="3926160"/>
            <a:ext cx="25394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5440" y="3926160"/>
            <a:ext cx="25394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2320" y="3926160"/>
            <a:ext cx="25394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0EDED-2E6E-43A3-B461-91F7AA728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91600"/>
            <a:ext cx="788688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28560" y="1465200"/>
            <a:ext cx="788688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F6942-C5D7-43B3-B6D2-2D55B3E0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91600"/>
            <a:ext cx="788688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465200"/>
            <a:ext cx="788688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C5CFC-5DF7-4877-B62D-21AD1074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8560" y="291600"/>
            <a:ext cx="788688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560" y="1465200"/>
            <a:ext cx="38487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280" y="1465200"/>
            <a:ext cx="38487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39658-4F16-4E1B-8DF9-B5A449AA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91600"/>
            <a:ext cx="788688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AFC65-0353-4570-9C9F-A134E6EC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28560" y="291600"/>
            <a:ext cx="788688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F78F9-9FF7-4AF1-A9C7-9D517CCE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8560" y="291600"/>
            <a:ext cx="788688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8560" y="1465200"/>
            <a:ext cx="38487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1465200"/>
            <a:ext cx="38487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8560" y="3926160"/>
            <a:ext cx="38487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45B47-08AE-4998-AF2C-9454D972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8560" y="291600"/>
            <a:ext cx="788688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8560" y="1465200"/>
            <a:ext cx="38487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465200"/>
            <a:ext cx="38487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0280" y="3926160"/>
            <a:ext cx="38487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88810-4C60-47CB-89DB-2B90BC6F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8560" y="291600"/>
            <a:ext cx="788688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8560" y="1465200"/>
            <a:ext cx="38487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1465200"/>
            <a:ext cx="38487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8560" y="3926160"/>
            <a:ext cx="788688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BD8B6-FE91-43C2-A38F-FF38DA4D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22" descr=""/>
          <p:cNvPicPr/>
          <p:nvPr/>
        </p:nvPicPr>
        <p:blipFill>
          <a:blip r:embed="rId2"/>
          <a:srcRect l="56331" t="0" r="0" b="31718"/>
          <a:stretch/>
        </p:blipFill>
        <p:spPr>
          <a:xfrm>
            <a:off x="0" y="0"/>
            <a:ext cx="44928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Рисунок 24" descr=""/>
          <p:cNvPicPr/>
          <p:nvPr/>
        </p:nvPicPr>
        <p:blipFill>
          <a:blip r:embed="rId3"/>
          <a:srcRect l="67543" t="0" r="0" b="31718"/>
          <a:stretch/>
        </p:blipFill>
        <p:spPr>
          <a:xfrm>
            <a:off x="1093680" y="0"/>
            <a:ext cx="80503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AC87-6007-482D-A972-105C6152A8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628560" y="1465200"/>
            <a:ext cx="788688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628560" y="291600"/>
            <a:ext cx="788688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2212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Хочу все знать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боту выполнила: Титовец Жен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ница 8 класс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КОУ Воздвиженской  СО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725400" y="0"/>
            <a:ext cx="739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А.С. Пушк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« Капитанская дочк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http://top.supernedorogo.ru/12096-1-large_default/%D0%9A%D0%B0%D0%BF%D0%B8%D1%82%D0%B0%D0%BD%D1%81%D0%BA%D0%B0%D1%8F-%D0%B4%D0%BE%D1%87%D0%BA%D0%B0.jpg"/>
          <p:cNvPicPr/>
          <p:nvPr/>
        </p:nvPicPr>
        <p:blipFill>
          <a:blip r:embed="rId1"/>
          <a:stretch/>
        </p:blipFill>
        <p:spPr>
          <a:xfrm>
            <a:off x="0" y="3137040"/>
            <a:ext cx="3822840" cy="37209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Заголовок 1" descr=""/>
          <p:cNvPicPr/>
          <p:nvPr/>
        </p:nvPicPr>
        <p:blipFill>
          <a:blip r:embed="rId1"/>
          <a:stretch/>
        </p:blipFill>
        <p:spPr>
          <a:xfrm>
            <a:off x="615960" y="60480"/>
            <a:ext cx="7974000" cy="1250640"/>
          </a:xfrm>
          <a:prstGeom prst="rect">
            <a:avLst/>
          </a:prstGeom>
          <a:ln w="0">
            <a:noFill/>
          </a:ln>
        </p:spPr>
      </p:pic>
      <p:sp>
        <p:nvSpPr>
          <p:cNvPr id="82" name="TextBox 3"/>
          <p:cNvSpPr/>
          <p:nvPr/>
        </p:nvSpPr>
        <p:spPr>
          <a:xfrm>
            <a:off x="799560" y="2276640"/>
            <a:ext cx="152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Пиж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835560" y="2997360"/>
            <a:ext cx="177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Доми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898920" y="3789360"/>
            <a:ext cx="19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Бильяр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9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1"/>
          <a:stretch/>
        </p:blipFill>
        <p:spPr>
          <a:xfrm>
            <a:off x="615960" y="60480"/>
            <a:ext cx="7912080" cy="125064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678960" y="2205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Гри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763560" y="3068640"/>
            <a:ext cx="20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Савельи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767160" y="4076640"/>
            <a:ext cx="198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Петр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animClr clrSpc="rgb">
                                      <p:cBhvr>
                                        <p:cTn id="13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set>
                                      <p:cBhvr>
                                        <p:cTn id="13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20154000">
            <a:off x="1056600" y="2466720"/>
            <a:ext cx="6499080" cy="977760"/>
          </a:xfrm>
          <a:prstGeom prst="rect">
            <a:avLst/>
          </a:prstGeom>
          <a:gradFill rotWithShape="0">
            <a:gsLst>
              <a:gs pos="0">
                <a:srgbClr val="6083cb"/>
              </a:gs>
              <a:gs pos="100000">
                <a:srgbClr val="2e61ba"/>
              </a:gs>
            </a:gsLst>
            <a:lin ang="6846000"/>
          </a:gradFill>
          <a:ln w="6480">
            <a:solidFill>
              <a:srgbClr val="4472c4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СПАСИБО ЗА ВНИМАНИЕ!!!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transition>
    <p:wheel spokes="8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615960" y="-176040"/>
            <a:ext cx="7912080" cy="2260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1001160" y="2637000"/>
            <a:ext cx="317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 28 декабря 17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1086480" y="3708360"/>
            <a:ext cx="29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19 октября 18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1068120" y="4897440"/>
            <a:ext cx="287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14 ноября 18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1"/>
          <a:stretch/>
        </p:blipFill>
        <p:spPr>
          <a:xfrm>
            <a:off x="615960" y="249120"/>
            <a:ext cx="7912080" cy="103032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914400" y="1844640"/>
            <a:ext cx="35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Василиса Егоров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1014120" y="2695680"/>
            <a:ext cx="310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Марья Ива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986400" y="3789360"/>
            <a:ext cx="37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Авдотья  Васи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25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5" dur="25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" dur="25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1" descr=""/>
          <p:cNvPicPr/>
          <p:nvPr/>
        </p:nvPicPr>
        <p:blipFill>
          <a:blip r:embed="rId1"/>
          <a:stretch/>
        </p:blipFill>
        <p:spPr>
          <a:xfrm>
            <a:off x="500040" y="60480"/>
            <a:ext cx="8265960" cy="125064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770760" y="2060640"/>
            <a:ext cx="26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Литературой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765360" y="2781360"/>
            <a:ext cx="19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Музы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835920" y="3645000"/>
            <a:ext cx="262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Математи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1" dur="indefinite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2" dur="indefinite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1"/>
          <a:stretch/>
        </p:blipFill>
        <p:spPr>
          <a:xfrm>
            <a:off x="420840" y="60480"/>
            <a:ext cx="8412120" cy="1250640"/>
          </a:xfrm>
          <a:prstGeom prst="rect">
            <a:avLst/>
          </a:prstGeom>
          <a:ln w="0">
            <a:noFill/>
          </a:ln>
        </p:spPr>
      </p:pic>
      <p:sp>
        <p:nvSpPr>
          <p:cNvPr id="62" name="TextBox 3"/>
          <p:cNvSpPr/>
          <p:nvPr/>
        </p:nvSpPr>
        <p:spPr>
          <a:xfrm>
            <a:off x="551880" y="2565360"/>
            <a:ext cx="26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Семенов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625320" y="3573360"/>
            <a:ext cx="29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Преораже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698760" y="4508640"/>
            <a:ext cx="28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 Измаил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50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14,79,-107)"/>
                                      </p:to>
                                    </p:set>
                                    <p:set>
                                      <p:cBhvr>
                                        <p:cTn id="54" dur="50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14,79,-107)"/>
                                      </p:to>
                                    </p:set>
                                    <p:set>
                                      <p:cBhvr>
                                        <p:cTn id="55" dur="50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Заголовок 1" descr=""/>
          <p:cNvPicPr/>
          <p:nvPr/>
        </p:nvPicPr>
        <p:blipFill>
          <a:blip r:embed="rId1"/>
          <a:stretch/>
        </p:blipFill>
        <p:spPr>
          <a:xfrm>
            <a:off x="438120" y="60480"/>
            <a:ext cx="8388360" cy="1250640"/>
          </a:xfrm>
          <a:prstGeom prst="rect">
            <a:avLst/>
          </a:prstGeom>
          <a:ln w="0">
            <a:noFill/>
          </a:ln>
        </p:spPr>
      </p:pic>
      <p:sp>
        <p:nvSpPr>
          <p:cNvPr id="66" name="TextBox 3"/>
          <p:cNvSpPr/>
          <p:nvPr/>
        </p:nvSpPr>
        <p:spPr>
          <a:xfrm>
            <a:off x="702000" y="2205000"/>
            <a:ext cx="368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Иваном Игнатьич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698040" y="2924280"/>
            <a:ext cx="244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Миронов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768600" y="371628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Швабри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indefinite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7" dur="indefinite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8" dur="indefinite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Заголовок 1" descr=""/>
          <p:cNvPicPr/>
          <p:nvPr/>
        </p:nvPicPr>
        <p:blipFill>
          <a:blip r:embed="rId1"/>
          <a:stretch/>
        </p:blipFill>
        <p:spPr>
          <a:xfrm>
            <a:off x="615960" y="60480"/>
            <a:ext cx="7912080" cy="125064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1270080" y="227664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300ру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1270080" y="321300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100ру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1342080" y="422100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200ру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5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Заголовок 1" descr=""/>
          <p:cNvPicPr/>
          <p:nvPr/>
        </p:nvPicPr>
        <p:blipFill>
          <a:blip r:embed="rId1"/>
          <a:stretch/>
        </p:blipFill>
        <p:spPr>
          <a:xfrm>
            <a:off x="615960" y="60480"/>
            <a:ext cx="7912080" cy="125064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549360" y="2276640"/>
            <a:ext cx="14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Боп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588960" y="2971800"/>
            <a:ext cx="147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Гоф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626760" y="3814920"/>
            <a:ext cx="153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Лорф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indefinite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Vijaya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Заголовок 1" descr=""/>
          <p:cNvPicPr/>
          <p:nvPr/>
        </p:nvPicPr>
        <p:blipFill>
          <a:blip r:embed="rId1"/>
          <a:stretch/>
        </p:blipFill>
        <p:spPr>
          <a:xfrm>
            <a:off x="347760" y="225360"/>
            <a:ext cx="8704080" cy="1298520"/>
          </a:xfrm>
          <a:prstGeom prst="rect">
            <a:avLst/>
          </a:prstGeom>
          <a:ln w="0">
            <a:noFill/>
          </a:ln>
        </p:spPr>
      </p:pic>
      <p:sp>
        <p:nvSpPr>
          <p:cNvPr id="78" name="TextBox 3"/>
          <p:cNvSpPr/>
          <p:nvPr/>
        </p:nvSpPr>
        <p:spPr>
          <a:xfrm>
            <a:off x="834480" y="2060640"/>
            <a:ext cx="18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Ната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855720" y="284004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Пала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896760" y="3632040"/>
            <a:ext cx="164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Гла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8T14:12:19Z</dcterms:created>
  <dc:creator>Markasian, Pavel (KIEVH)</dc:creator>
  <dc:description/>
  <dc:language>en-US</dc:language>
  <cp:lastModifiedBy>пк</cp:lastModifiedBy>
  <dcterms:modified xsi:type="dcterms:W3CDTF">2018-11-20T11:07:32Z</dcterms:modified>
  <cp:revision>86</cp:revision>
  <dc:subject/>
  <dc:title>Name of presentation</dc:title>
</cp:coreProperties>
</file>