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8630-FA30-42B9-8B03-49702361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392616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ED1D-E7D3-4DC0-84AC-62581E6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0D5C-B162-40D2-A718-CD7F0E7C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46520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3926160"/>
            <a:ext cx="25394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A4A3-9620-4EA0-980D-FC19FC05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847D-4C6A-497B-A6C4-47B63671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A450-D505-4105-8AFF-B327B655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A78C-DCC6-4D2E-9A22-DC23469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C01B-9B9D-43AA-BB5A-F01502F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291600"/>
            <a:ext cx="78868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8538-D264-4283-BB02-E62C873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1D90-8ABE-4548-ABE1-A8B28B0A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2616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B8FB-04C6-45B7-8B87-A7E7B52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465200"/>
            <a:ext cx="38487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3926160"/>
            <a:ext cx="78868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CD52-4DFF-4D5F-97C5-34F8A82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22" descr=""/>
          <p:cNvPicPr/>
          <p:nvPr/>
        </p:nvPicPr>
        <p:blipFill>
          <a:blip r:embed="rId2"/>
          <a:srcRect l="56331" t="0" r="0" b="31718"/>
          <a:stretch/>
        </p:blipFill>
        <p:spPr>
          <a:xfrm>
            <a:off x="0" y="0"/>
            <a:ext cx="44928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24" descr=""/>
          <p:cNvPicPr/>
          <p:nvPr/>
        </p:nvPicPr>
        <p:blipFill>
          <a:blip r:embed="rId3"/>
          <a:srcRect l="67543" t="0" r="0" b="31718"/>
          <a:stretch/>
        </p:blipFill>
        <p:spPr>
          <a:xfrm>
            <a:off x="1093680" y="0"/>
            <a:ext cx="805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0B5-6994-4097-8B31-52B16D1E1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28560" y="1465200"/>
            <a:ext cx="78868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28560" y="2916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2212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Хочу все знать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: Титовец Же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ца 8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Воздвиженской  С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25400" y="0"/>
            <a:ext cx="739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« Капитанская до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op.supernedorogo.ru/12096-1-large_default/%D0%9A%D0%B0%D0%BF%D0%B8%D1%82%D0%B0%D0%BD%D1%81%D0%BA%D0%B0%D1%8F-%D0%B4%D0%BE%D1%87%D0%BA%D0%B0.jpg"/>
          <p:cNvPicPr/>
          <p:nvPr/>
        </p:nvPicPr>
        <p:blipFill>
          <a:blip r:embed="rId1"/>
          <a:stretch/>
        </p:blipFill>
        <p:spPr>
          <a:xfrm>
            <a:off x="0" y="3137040"/>
            <a:ext cx="3822840" cy="3720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74000" cy="1250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799560" y="227664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и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835560" y="29973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До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98920" y="37893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Бильяр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678960" y="220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Гри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63560" y="3068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авель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7160" y="407664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20154000">
            <a:off x="1056600" y="2466720"/>
            <a:ext cx="6499080" cy="9777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6846000"/>
          </a:gradFill>
          <a:ln w="6480">
            <a:solidFill>
              <a:srgbClr val="4472c4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615960" y="-176040"/>
            <a:ext cx="7912080" cy="2260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001160" y="2637000"/>
            <a:ext cx="31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 28 декабря 17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86480" y="37083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19 октября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068120" y="489744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14 ноября 18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615960" y="249120"/>
            <a:ext cx="7912080" cy="1030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914400" y="18446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асилиса Его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14120" y="269568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арь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86400" y="3789360"/>
            <a:ext cx="37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Авдотья 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500040" y="60480"/>
            <a:ext cx="8265960" cy="1250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70760" y="206064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Литератур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765360" y="27813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узы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835920" y="364500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Математ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2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20840" y="60480"/>
            <a:ext cx="8412120" cy="1250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51880" y="256536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емено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25320" y="357336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реораж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98760" y="4508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 Измаил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4,79,-107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4,79,-107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388360" cy="125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702000" y="220500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Иваном Игнатьи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98040" y="292428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Мирон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68600" y="37162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Швабри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270080" y="227664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3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270080" y="321300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1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342080" y="422100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200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615960" y="60480"/>
            <a:ext cx="7912080" cy="1250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549360" y="227664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Бо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88960" y="2971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Гоф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26760" y="381492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Лор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Vijaya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347760" y="225360"/>
            <a:ext cx="8704080" cy="1298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834480" y="2060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Нат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5720" y="2840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ал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896760" y="363204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Гл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пк</cp:lastModifiedBy>
  <dcterms:modified xsi:type="dcterms:W3CDTF">2018-11-20T11:07:32Z</dcterms:modified>
  <cp:revision>86</cp:revision>
  <dc:subject/>
  <dc:title>Name of presentation</dc:title>
</cp:coreProperties>
</file>