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379-4F7D-4C17-B186-FF141A77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66E-0A1E-4B7F-B296-BDCF8147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1A1-611E-45A1-89F0-F3E6E10F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1A4-E8AB-4040-9F64-787782FF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15FB-02E5-4824-9908-C6B29675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8B2B-E942-4FBD-B0CC-490D7F99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B2D2-7C76-4E85-B3AF-F54001D7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99EE-0C5A-47A1-9D0D-90FA3CAB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D125-0932-4C66-9C68-563D6F9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D399-EA39-44BF-988B-31963948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E6BA-1335-4F30-9692-E5FEFD05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44F-FC46-4D95-BF75-B2786DA8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5FAC-984E-4594-9376-9BA73911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14C4-424C-433E-9DA6-C5C5FB48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3BF1-F013-4AD1-937D-175B0FD1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B0FB-0478-45C6-A9D3-5885884B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8D8F-99E7-4EB0-82EA-672639F1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26D-754D-4899-8FB9-1F7684A2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869-51B0-4A01-8A0B-6B4390E4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137-32AE-48E2-8E4C-2C29CEE2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5D4-B37B-457B-AB9F-10A75B1F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7A3-D3E6-4082-B963-725A03E3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8EF-65DE-40D0-80CC-8B3375D9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4CE-5F1F-4D47-B4D9-1DD20AD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CAF5-6355-4B0D-8235-1F82CADB1C4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0CE6-32F0-401E-801B-5FA9F645B85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903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5072040" y="550080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боту 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скевич Ната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елышева Г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57200" y="2786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.В.Гоголь «Тарас Бульб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Содержимое 2"/>
          <p:cNvGrpSpPr/>
          <p:nvPr/>
        </p:nvGrpSpPr>
        <p:grpSpPr>
          <a:xfrm>
            <a:off x="500040" y="396720"/>
            <a:ext cx="8504280" cy="3967200"/>
            <a:chOff x="500040" y="396720"/>
            <a:chExt cx="8504280" cy="3967200"/>
          </a:xfrm>
        </p:grpSpPr>
        <p:pic>
          <p:nvPicPr>
            <p:cNvPr id="11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00040" y="396720"/>
              <a:ext cx="8504280" cy="39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71680" y="642960"/>
              <a:ext cx="8215200" cy="35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К какому сборнику относится повесть «Тарас Бульба»?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TextBox 3"/>
          <p:cNvSpPr/>
          <p:nvPr/>
        </p:nvSpPr>
        <p:spPr>
          <a:xfrm>
            <a:off x="7072200" y="5000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Миргор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Содержимое 2"/>
          <p:cNvGrpSpPr/>
          <p:nvPr/>
        </p:nvGrpSpPr>
        <p:grpSpPr>
          <a:xfrm>
            <a:off x="500040" y="542880"/>
            <a:ext cx="8504280" cy="2322720"/>
            <a:chOff x="500040" y="542880"/>
            <a:chExt cx="8504280" cy="2322720"/>
          </a:xfrm>
        </p:grpSpPr>
        <p:pic>
          <p:nvPicPr>
            <p:cNvPr id="11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00040" y="542880"/>
              <a:ext cx="8504280" cy="23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1680" y="785880"/>
              <a:ext cx="82152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Что такое «Бурса»?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TextBox 3"/>
          <p:cNvSpPr/>
          <p:nvPr/>
        </p:nvSpPr>
        <p:spPr>
          <a:xfrm>
            <a:off x="5357880" y="3214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уховное уч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2" descr=""/>
          <p:cNvPicPr/>
          <p:nvPr/>
        </p:nvPicPr>
        <p:blipFill>
          <a:blip r:embed="rId1"/>
          <a:stretch/>
        </p:blipFill>
        <p:spPr>
          <a:xfrm>
            <a:off x="426960" y="853920"/>
            <a:ext cx="8826480" cy="1938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5786280" y="3143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Содержимое 2"/>
          <p:cNvGrpSpPr/>
          <p:nvPr/>
        </p:nvGrpSpPr>
        <p:grpSpPr>
          <a:xfrm>
            <a:off x="353880" y="414360"/>
            <a:ext cx="8650440" cy="2663640"/>
            <a:chOff x="353880" y="414360"/>
            <a:chExt cx="8650440" cy="2663640"/>
          </a:xfrm>
        </p:grpSpPr>
        <p:pic>
          <p:nvPicPr>
            <p:cNvPr id="8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53880" y="414360"/>
              <a:ext cx="865044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28760" y="785880"/>
              <a:ext cx="835812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0" spc="-1" strike="noStrike">
                  <a:solidFill>
                    <a:srgbClr val="000000"/>
                  </a:solidFill>
                  <a:latin typeface="Times New Roman"/>
                </a:rPr>
                <a:t>Причина по которой Андрий перешёл к полякам?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TextBox 4"/>
          <p:cNvSpPr/>
          <p:nvPr/>
        </p:nvSpPr>
        <p:spPr>
          <a:xfrm>
            <a:off x="5857920" y="3214800"/>
            <a:ext cx="25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юбовь к поляч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2" descr=""/>
          <p:cNvPicPr/>
          <p:nvPr/>
        </p:nvPicPr>
        <p:blipFill>
          <a:blip r:embed="rId1"/>
          <a:stretch/>
        </p:blipFill>
        <p:spPr>
          <a:xfrm>
            <a:off x="285840" y="450720"/>
            <a:ext cx="8881920" cy="234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6215040" y="32148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Содержимое 2"/>
          <p:cNvGrpSpPr/>
          <p:nvPr/>
        </p:nvGrpSpPr>
        <p:grpSpPr>
          <a:xfrm>
            <a:off x="285840" y="450720"/>
            <a:ext cx="8772480" cy="2414880"/>
            <a:chOff x="285840" y="450720"/>
            <a:chExt cx="8772480" cy="2414880"/>
          </a:xfrm>
        </p:grpSpPr>
        <p:pic>
          <p:nvPicPr>
            <p:cNvPr id="9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85840" y="450720"/>
              <a:ext cx="877248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57120" y="785880"/>
              <a:ext cx="821556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8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imes New Roman"/>
                </a:rPr>
                <a:t>Что не хотел оставить Тарас на вражеской земле и поэтому попал в плен?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Box 3"/>
          <p:cNvSpPr/>
          <p:nvPr/>
        </p:nvSpPr>
        <p:spPr>
          <a:xfrm>
            <a:off x="6072120" y="31431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ительная труб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Содержимое 2"/>
          <p:cNvGrpSpPr/>
          <p:nvPr/>
        </p:nvGrpSpPr>
        <p:grpSpPr>
          <a:xfrm>
            <a:off x="426960" y="755640"/>
            <a:ext cx="8363160" cy="2322360"/>
            <a:chOff x="426960" y="755640"/>
            <a:chExt cx="8363160" cy="2322360"/>
          </a:xfrm>
        </p:grpSpPr>
        <p:pic>
          <p:nvPicPr>
            <p:cNvPr id="9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26960" y="755640"/>
              <a:ext cx="836316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00040" y="1000080"/>
              <a:ext cx="807264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Как закончил свою жизнь Андрий?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3"/>
          <p:cNvSpPr/>
          <p:nvPr/>
        </p:nvSpPr>
        <p:spPr>
          <a:xfrm>
            <a:off x="5786280" y="3286080"/>
            <a:ext cx="27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го убил отец за предате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Содержимое 2"/>
          <p:cNvGrpSpPr/>
          <p:nvPr/>
        </p:nvGrpSpPr>
        <p:grpSpPr>
          <a:xfrm>
            <a:off x="201600" y="182520"/>
            <a:ext cx="9234360" cy="3183120"/>
            <a:chOff x="201600" y="182520"/>
            <a:chExt cx="9234360" cy="3183120"/>
          </a:xfrm>
        </p:grpSpPr>
        <p:pic>
          <p:nvPicPr>
            <p:cNvPr id="10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01600" y="182520"/>
              <a:ext cx="9234360" cy="31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28760" y="428760"/>
              <a:ext cx="8286480" cy="27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Как Н.В.Гоголь называет «Запорожскую Сечь»?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TextBox 3"/>
          <p:cNvSpPr/>
          <p:nvPr/>
        </p:nvSpPr>
        <p:spPr>
          <a:xfrm>
            <a:off x="6215040" y="3643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нез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Содержимое 2"/>
          <p:cNvGrpSpPr/>
          <p:nvPr/>
        </p:nvGrpSpPr>
        <p:grpSpPr>
          <a:xfrm>
            <a:off x="353880" y="500040"/>
            <a:ext cx="8753760" cy="2292480"/>
            <a:chOff x="353880" y="500040"/>
            <a:chExt cx="8753760" cy="2292480"/>
          </a:xfrm>
        </p:grpSpPr>
        <p:pic>
          <p:nvPicPr>
            <p:cNvPr id="10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53880" y="500040"/>
              <a:ext cx="875376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28760" y="785880"/>
              <a:ext cx="81439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80000"/>
                </a:lnSpc>
                <a:spcBef>
                  <a:spcPts val="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000000"/>
                  </a:solidFill>
                  <a:latin typeface="Times New Roman"/>
                </a:rPr>
                <a:t>Кому принадлежат слова:«Терпи козак-атаманом будешь», и «Есть ещё порох в пороховицах»?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TextBox 3"/>
          <p:cNvSpPr/>
          <p:nvPr/>
        </p:nvSpPr>
        <p:spPr>
          <a:xfrm>
            <a:off x="6000840" y="3286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арас Буль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Содержимое 2"/>
          <p:cNvGrpSpPr/>
          <p:nvPr/>
        </p:nvGrpSpPr>
        <p:grpSpPr>
          <a:xfrm>
            <a:off x="500040" y="480960"/>
            <a:ext cx="8736120" cy="3384720"/>
            <a:chOff x="500040" y="480960"/>
            <a:chExt cx="8736120" cy="3384720"/>
          </a:xfrm>
        </p:grpSpPr>
        <p:pic>
          <p:nvPicPr>
            <p:cNvPr id="11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00040" y="480960"/>
              <a:ext cx="873612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71680" y="857160"/>
              <a:ext cx="814356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47560" indent="-41112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0" spc="-1" strike="noStrike">
                  <a:solidFill>
                    <a:srgbClr val="000000"/>
                  </a:solidFill>
                  <a:latin typeface="Times New Roman"/>
                </a:rPr>
                <a:t>Сколько времени удалось побыть дома сыновьям Тараса перед отправкой в Сечь?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TextBox 3"/>
          <p:cNvSpPr/>
          <p:nvPr/>
        </p:nvSpPr>
        <p:spPr>
          <a:xfrm>
            <a:off x="5786280" y="407196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дин д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10:40:49Z</dcterms:created>
  <dc:creator>Home</dc:creator>
  <dc:description/>
  <dc:language>en-US</dc:language>
  <cp:lastModifiedBy>Пользователь</cp:lastModifiedBy>
  <dcterms:modified xsi:type="dcterms:W3CDTF">2019-03-02T05:58:07Z</dcterms:modified>
  <cp:revision>43</cp:revision>
  <dc:subject/>
  <dc:title>«Хочу всё знать»</dc:title>
</cp:coreProperties>
</file>