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4BF-C05F-4874-BDCF-E02247F6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64E-6A99-4F82-B168-82C9A7A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C23-FB96-4157-BE6E-8759A9B3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BFD-657E-4475-82A2-38CE65FE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D623-5087-4E0E-B468-ABCE0E86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BB6D-4E62-4DA0-A21B-C456D2A2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51DA-5B03-45A7-BBB1-032EAE7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46F-591B-4498-BD6A-FE5A9499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030A-AD3D-4E04-A4C6-C30133A1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D53-8A7F-4759-B254-DC05F2B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6228-799F-4468-9079-EF66504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B3E-AD26-435A-B9E1-369D81B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4F63-E1EF-4A1D-843B-032C8A7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9B49-F4DF-4D9D-B737-B0AFF8D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734-CA23-4DDA-A144-0687507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2118-C6D5-41F3-A468-53A82F0F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706-4C7C-426B-AEA8-616CD0CB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037-C53D-4CBB-9347-281BC30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6E5-3E8D-4ED0-9E66-05046E45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AAF-2436-4AA9-A1C9-7C3279A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E09-DD60-454B-BA2C-4991722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150-55AF-465D-BDE9-F303CD2D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A2F-B00C-4BF8-A302-460098C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B21-96AD-446B-BA16-D7E4EB6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F818-BDC2-4E57-B5DD-57226AC1C65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E28F-1C80-450E-923D-D3141581728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90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5072040" y="550080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скевич Ната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лышев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.В.Гоголь «Тарас Бульб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Содержимое 2"/>
          <p:cNvGrpSpPr/>
          <p:nvPr/>
        </p:nvGrpSpPr>
        <p:grpSpPr>
          <a:xfrm>
            <a:off x="500040" y="396720"/>
            <a:ext cx="8504280" cy="3967200"/>
            <a:chOff x="500040" y="396720"/>
            <a:chExt cx="8504280" cy="3967200"/>
          </a:xfrm>
        </p:grpSpPr>
        <p:pic>
          <p:nvPicPr>
            <p:cNvPr id="1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396720"/>
              <a:ext cx="850428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71680" y="642960"/>
              <a:ext cx="8215200" cy="35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 какому сборнику относится повесть «Тарас Бульба»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Box 3"/>
          <p:cNvSpPr/>
          <p:nvPr/>
        </p:nvSpPr>
        <p:spPr>
          <a:xfrm>
            <a:off x="7072200" y="5000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Миргор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Содержимое 2"/>
          <p:cNvGrpSpPr/>
          <p:nvPr/>
        </p:nvGrpSpPr>
        <p:grpSpPr>
          <a:xfrm>
            <a:off x="500040" y="542880"/>
            <a:ext cx="8504280" cy="2322720"/>
            <a:chOff x="500040" y="542880"/>
            <a:chExt cx="8504280" cy="2322720"/>
          </a:xfrm>
        </p:grpSpPr>
        <p:pic>
          <p:nvPicPr>
            <p:cNvPr id="11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542880"/>
              <a:ext cx="850428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1680" y="785880"/>
              <a:ext cx="82152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Что такое «Бурса»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Box 3"/>
          <p:cNvSpPr/>
          <p:nvPr/>
        </p:nvSpPr>
        <p:spPr>
          <a:xfrm>
            <a:off x="5357880" y="3214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хов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2" descr=""/>
          <p:cNvPicPr/>
          <p:nvPr/>
        </p:nvPicPr>
        <p:blipFill>
          <a:blip r:embed="rId1"/>
          <a:stretch/>
        </p:blipFill>
        <p:spPr>
          <a:xfrm>
            <a:off x="426960" y="853920"/>
            <a:ext cx="8826480" cy="1938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786280" y="3143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Содержимое 2"/>
          <p:cNvGrpSpPr/>
          <p:nvPr/>
        </p:nvGrpSpPr>
        <p:grpSpPr>
          <a:xfrm>
            <a:off x="353880" y="414360"/>
            <a:ext cx="8650440" cy="2663640"/>
            <a:chOff x="353880" y="414360"/>
            <a:chExt cx="8650440" cy="2663640"/>
          </a:xfrm>
        </p:grpSpPr>
        <p:pic>
          <p:nvPicPr>
            <p:cNvPr id="8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53880" y="414360"/>
              <a:ext cx="86504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28760" y="785880"/>
              <a:ext cx="835812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0000"/>
                  </a:solidFill>
                  <a:latin typeface="Times New Roman"/>
                </a:rPr>
                <a:t>Причина по которой Андрий перешёл к полякам?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TextBox 4"/>
          <p:cNvSpPr/>
          <p:nvPr/>
        </p:nvSpPr>
        <p:spPr>
          <a:xfrm>
            <a:off x="5857920" y="321480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юбовь к поляч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2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881920" cy="234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6215040" y="32148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Содержимое 2"/>
          <p:cNvGrpSpPr/>
          <p:nvPr/>
        </p:nvGrpSpPr>
        <p:grpSpPr>
          <a:xfrm>
            <a:off x="285840" y="450720"/>
            <a:ext cx="8772480" cy="2414880"/>
            <a:chOff x="285840" y="450720"/>
            <a:chExt cx="8772480" cy="2414880"/>
          </a:xfrm>
        </p:grpSpPr>
        <p:pic>
          <p:nvPicPr>
            <p:cNvPr id="9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85840" y="450720"/>
              <a:ext cx="877248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57120" y="785880"/>
              <a:ext cx="821556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imes New Roman"/>
                </a:rPr>
                <a:t>Что не хотел оставить Тарас на вражеской земле и поэтому попал в плен?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Box 3"/>
          <p:cNvSpPr/>
          <p:nvPr/>
        </p:nvSpPr>
        <p:spPr>
          <a:xfrm>
            <a:off x="6072120" y="31431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ительная труб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Содержимое 2"/>
          <p:cNvGrpSpPr/>
          <p:nvPr/>
        </p:nvGrpSpPr>
        <p:grpSpPr>
          <a:xfrm>
            <a:off x="426960" y="755640"/>
            <a:ext cx="8363160" cy="2322360"/>
            <a:chOff x="426960" y="755640"/>
            <a:chExt cx="8363160" cy="2322360"/>
          </a:xfrm>
        </p:grpSpPr>
        <p:pic>
          <p:nvPicPr>
            <p:cNvPr id="9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6960" y="755640"/>
              <a:ext cx="836316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00040" y="1000080"/>
              <a:ext cx="807264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ак закончил свою жизнь Андрий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3"/>
          <p:cNvSpPr/>
          <p:nvPr/>
        </p:nvSpPr>
        <p:spPr>
          <a:xfrm>
            <a:off x="5786280" y="3286080"/>
            <a:ext cx="27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го убил отец за преда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Содержимое 2"/>
          <p:cNvGrpSpPr/>
          <p:nvPr/>
        </p:nvGrpSpPr>
        <p:grpSpPr>
          <a:xfrm>
            <a:off x="201600" y="182520"/>
            <a:ext cx="9234360" cy="3183120"/>
            <a:chOff x="201600" y="182520"/>
            <a:chExt cx="9234360" cy="318312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1600" y="182520"/>
              <a:ext cx="9234360" cy="31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28760" y="428760"/>
              <a:ext cx="828648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ак Н.В.Гоголь называет «Запорожскую Сечь»?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TextBox 3"/>
          <p:cNvSpPr/>
          <p:nvPr/>
        </p:nvSpPr>
        <p:spPr>
          <a:xfrm>
            <a:off x="6215040" y="3643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нез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Содержимое 2"/>
          <p:cNvGrpSpPr/>
          <p:nvPr/>
        </p:nvGrpSpPr>
        <p:grpSpPr>
          <a:xfrm>
            <a:off x="353880" y="500040"/>
            <a:ext cx="8753760" cy="2292480"/>
            <a:chOff x="353880" y="500040"/>
            <a:chExt cx="8753760" cy="2292480"/>
          </a:xfrm>
        </p:grpSpPr>
        <p:pic>
          <p:nvPicPr>
            <p:cNvPr id="10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53880" y="500040"/>
              <a:ext cx="875376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28760" y="785880"/>
              <a:ext cx="81439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000000"/>
                  </a:solidFill>
                  <a:latin typeface="Times New Roman"/>
                </a:rPr>
                <a:t>Кому принадлежат слова:«Терпи козак-атаманом будешь», и «Есть ещё порох в пороховицах»?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TextBox 3"/>
          <p:cNvSpPr/>
          <p:nvPr/>
        </p:nvSpPr>
        <p:spPr>
          <a:xfrm>
            <a:off x="6000840" y="3286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рас Буль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Содержимое 2"/>
          <p:cNvGrpSpPr/>
          <p:nvPr/>
        </p:nvGrpSpPr>
        <p:grpSpPr>
          <a:xfrm>
            <a:off x="500040" y="480960"/>
            <a:ext cx="8736120" cy="3384720"/>
            <a:chOff x="500040" y="480960"/>
            <a:chExt cx="8736120" cy="3384720"/>
          </a:xfrm>
        </p:grpSpPr>
        <p:pic>
          <p:nvPicPr>
            <p:cNvPr id="11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480960"/>
              <a:ext cx="873612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1680" y="857160"/>
              <a:ext cx="814356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0000"/>
                  </a:solidFill>
                  <a:latin typeface="Times New Roman"/>
                </a:rPr>
                <a:t>Сколько времени удалось побыть дома сыновьям Тараса перед отправкой в Сечь?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TextBox 3"/>
          <p:cNvSpPr/>
          <p:nvPr/>
        </p:nvSpPr>
        <p:spPr>
          <a:xfrm>
            <a:off x="5786280" y="40719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ин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0:40:49Z</dcterms:created>
  <dc:creator>Home</dc:creator>
  <dc:description/>
  <dc:language>en-US</dc:language>
  <cp:lastModifiedBy>Пользователь</cp:lastModifiedBy>
  <dcterms:modified xsi:type="dcterms:W3CDTF">2019-03-02T05:58:07Z</dcterms:modified>
  <cp:revision>43</cp:revision>
  <dc:subject/>
  <dc:title>«Хочу всё знать»</dc:title>
</cp:coreProperties>
</file>