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1730-801A-4157-88A4-930AC3A7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B69-BDF1-4562-A455-6020A251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514-084D-4B67-8E68-661F47BA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4F4-5DF4-4F13-8581-35769714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C3B8-AD79-48B7-95EC-4DD428D5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82B1-6B8C-4439-A2B4-3C7F0375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B2B4-249C-407D-BE44-ABD53E8D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9A45-C092-4627-A4F1-3092E3A3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CA45-249C-4A4B-905A-27FF1170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15BA-4A74-4883-966B-5C0C56F5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51C2-3F68-47D4-85A3-1B131A6F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6A3-FF8B-47BE-A3F8-5910E23D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40DC-03A7-4152-BA16-28947BD4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6183-E541-4C14-B31C-22EF9533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3B3B-6324-466E-8DB5-A02CD9C2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93AE-583C-48F3-97C1-2807E619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7263-91DA-4E28-BCC5-B24B750C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C7013-9D77-4772-9D41-DE531EEB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A9840-FEB6-488F-9FA4-1CEF26A0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A7FE1-8B29-4AC8-8F70-4B50C921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F64B8-DF49-45DA-BA56-8017CC29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CA9C8-77FD-452D-88D5-D27EA0D2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76B-F236-4B1B-9E77-E9EB514C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E770F-23B1-4F0F-BBF5-DC2CBEB9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F3A1E-DA67-49EC-951D-6072CF63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27FF3-6FE5-4AA7-9751-DEA58CF2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74F80-F8AC-4A3B-8B66-BA913B66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1F422-A215-4F6C-B481-102A5634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5E5B9-6127-45FC-A6AD-914E682A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5E4CA-D246-4D2B-B890-EFEDC76D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B163D-F659-426F-83C6-9DAF3549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1AFA3-C162-4045-8E48-A6C0E29F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4B294-8F80-4798-865D-907526BC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C36-F3A1-46F5-A575-0AF273F6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53BEA-2B75-4E9F-A995-B572427D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70894-89F8-4B6F-8A9E-17D1AB9B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7E917-7CE0-44BA-B5F4-1BE5DA51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92C68-3C0F-44E1-81D3-DAAD9948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53125-C305-40ED-B3CE-D17801B0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A5B57-2B81-484C-B1DB-13D88E76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C72BA-CDBA-4BFF-9F29-82E0EC82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C1B4B-272C-4123-AB33-1E3EDE2D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CC09E-9AE7-4D32-9D95-9D1DCD3E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F24DB-94E3-4049-8D86-BF5D0DB2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017-DF65-4E86-9E7A-7A15E81C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5284A-C48F-4896-B05D-66DE3676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66369-3C63-4F92-BDC5-144A1B3B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77A9F-ED95-4315-B20A-1421AA5F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D9913-14AC-46D5-A87A-6A1802D3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09DCA-2EB0-4C1D-A2AF-12ABC0FD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79E71-CEF3-4A04-B9E4-DB7401AD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3514D-7D04-418E-9453-9C2A1CEF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72EBD-BE18-4BFF-817B-2130FE32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C93D7-03C2-45AE-92CA-2BE52A46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D5B35-3C1F-4485-9FE5-16CF1CFB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8EE-1601-4EF5-BFA7-086900A2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EC9FC-F316-401A-ADCF-17EF899F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59DFF-A2E6-4D2D-82C0-E70E6A99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95EB2-16AE-404A-9783-E092F2A1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FD7C8-29F2-4475-9BF3-01D21F9F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140FF-525C-46CD-9861-7BF6F600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E0FDB-4B15-4308-8A9F-BA7EFED9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96414-7802-4CBE-A9EB-01DD7EC4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6D440-0C85-4352-8896-E2BD83A8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569D8-9297-423F-BF4E-32504FF9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EBF63-80C9-4073-9BEC-A68D2EF2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2AC6-AA7A-452E-BD3E-0881E77A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7F088-DDDE-4971-85A9-C64122EB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67069-E7B9-4F56-B3D8-55CC2537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44C10-7689-4D75-8394-E0FE916D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8D9E6-C09B-4EC5-BE24-701D76BF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B2C00-7844-43C5-9898-5467B72D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3B4D1-4BDF-40D5-82C8-A3842F3D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D1071-A96E-4AD9-B73F-0DB8BD91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3B62F-7AA7-417D-B92F-9D3A301D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87DE0-59F8-41BD-8D6E-43523E01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2BD6D-EC51-4B4A-9FB9-5239B4AB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EB3-2053-4FDA-82FD-5111FCB5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D2D10-9CF3-4B35-A9B6-7263177D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BDDB4-79D3-4D92-8431-224F9D6F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8E563-3BCA-479F-9B89-57E99C02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3F9A9-8538-4DEE-A43D-7857C6C6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AF8FA-B4D9-45D2-9764-B657260B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B2E2-1089-44FD-8C2E-1055819C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CFD0-8631-4F4D-8155-287A21CB3AA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D19B-C400-40ED-B087-4198FF899B3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F30D-68A3-4171-91CB-A48A0EA7726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0313-3887-4595-BE4D-F1BEBA8CB5E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C8C0-5A83-4394-995A-9877139B6DD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B181-2568-4CEC-B8F8-A6431C436DC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BFB8-9EE8-4339-99C9-579DB712440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Журнал «Сатирикон»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кторина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40000" y="4868640"/>
            <a:ext cx="77040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боту выполнила: Титовец Евг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ченица 8 класс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КОУ Воздвиженской СОШ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http://antique.newbookshop.ru/pict/books_covers/1013518100.jpg"/>
          <p:cNvPicPr/>
          <p:nvPr/>
        </p:nvPicPr>
        <p:blipFill>
          <a:blip r:embed="rId1"/>
          <a:stretch/>
        </p:blipFill>
        <p:spPr>
          <a:xfrm>
            <a:off x="0" y="2330280"/>
            <a:ext cx="3290760" cy="4527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чему заключили мир в Вестфалии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645920" y="2636640"/>
            <a:ext cx="7497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Страны изголодались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то забрал самые лакомые куски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331640" y="2565000"/>
            <a:ext cx="74977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Французы и швед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Bar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Новая история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нигопечатание и бумаг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На чем раньше люди писали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2144160" y="3068640"/>
            <a:ext cx="59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твет: На коже животных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явление какой бумаги смягчило нравы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645920" y="2492280"/>
            <a:ext cx="74977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Тряпично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amond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то научил европейцев делать бумагу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31640" y="2781360"/>
            <a:ext cx="74977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Араб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 время кого на деревянной доске вырезали выпуклые буквы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331640" y="2491920"/>
            <a:ext cx="7497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Гутенберг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ьи цифры имели громадное значение для культуры и торговли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331640" y="2708280"/>
            <a:ext cx="74977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Араб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31640" y="169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ПАСИБО ЗА ВНИМАНИЕ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Древняя история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арт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TextBox 3"/>
          <p:cNvSpPr/>
          <p:nvPr/>
        </p:nvSpPr>
        <p:spPr>
          <a:xfrm>
            <a:off x="971640" y="1125360"/>
            <a:ext cx="81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то были местные аристократы, они занимались гимнастикой, ходили  голые и  вообще  задавали тон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3149640" y="328464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вет: Спартиат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ля чего в Спарте был ров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1042920" y="2781360"/>
            <a:ext cx="81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вет: Для того чтобы  жители могли упражняться в сбрасывание друг друга  в вод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то обрабатывал поля, ходил воевать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58560" y="2852280"/>
            <a:ext cx="74991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Ило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 сколько лет спартиат делался супругом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187280" y="2924280"/>
            <a:ext cx="749808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3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l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Чем питались спартанцы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02920" y="3357360"/>
            <a:ext cx="7497720" cy="8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Черная похлеб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lus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редние века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Тридцатилетняя война (1618-1648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Как назывался титул некоторых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влиятельных князей в Германии?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TextBox 3"/>
          <p:cNvSpPr/>
          <p:nvPr/>
        </p:nvSpPr>
        <p:spPr>
          <a:xfrm>
            <a:off x="3020400" y="3141720"/>
            <a:ext cx="39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твет: Ландграф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де был убит предводитель католиков Валленштейн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331640" y="2923920"/>
            <a:ext cx="74977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В своей спальн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ircl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459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ой город пришел в упадок после Тридцатилетней войны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331640" y="2133360"/>
            <a:ext cx="749772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Герм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8T12:47:01Z</dcterms:created>
  <dc:creator>пк</dc:creator>
  <dc:description/>
  <dc:language>en-US</dc:language>
  <cp:lastModifiedBy>пк</cp:lastModifiedBy>
  <dcterms:modified xsi:type="dcterms:W3CDTF">2019-03-18T13:33:27Z</dcterms:modified>
  <cp:revision>5</cp:revision>
  <dc:subject/>
  <dc:title>Журнал «Сатирикон» Викторина!</dc:title>
</cp:coreProperties>
</file>