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309-7C2F-4D8F-949B-63EA95C3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C5AF-BB53-45A3-8ED7-C1C5EF98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ECBD-66E9-4387-BCF5-C826D017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ECE-2276-4240-AC79-392D3064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5305-46C2-447B-ABDD-F3E82279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881C-4E74-4F50-B965-0BBA0F85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4D6F-401B-4C89-8734-62BE73E9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1ADB-EB19-4A9A-BE48-33BEE018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7F4B-DB2E-467A-B4AD-EEDFF1DB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18D3-06B3-487C-89D7-D658B279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92FF-BF52-447A-A57B-9F12DEC8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7B98-8827-4B0A-8CCD-338A575C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E3B9-446E-428C-97B5-7F827A04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C705-A5C2-4516-8C37-71C95A99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2982-B7F2-42A2-B729-10400CF0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FC44-7B00-4342-B236-A06FE75E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045D-EA2E-4A2B-B50C-9232391C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86AD5-911E-4B63-B390-F90BC4A0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91B93-61EC-4639-80B7-FE9F7B86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F3F78-FC92-471B-9935-69CFAFE3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09447-DC46-4CB0-B4C1-DF94C498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FF8BE-4D52-418A-A26C-E926F9C6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70A-8C7A-437B-9B08-2BF8110D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38027-DBBD-43DC-A56E-D7B9D979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DD55A-DD8A-4869-B0BA-1E7E47F4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892A9-AB46-42A0-BA5D-0D7ED04A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A7C89-3EF5-41E0-B795-A1CD5A11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B6A52-4ABA-4B8D-B62D-E0B46D2A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3A503-FBBF-4259-8BC3-7BB32386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65E47-706F-445E-9C4E-A5E9BD55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FBBF9-1566-4A18-A021-6298A632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9683E-BD88-4B5D-9929-D539DA64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4A66D-9CE6-4575-89DB-C68C8E2B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FA33-9380-424E-BD7B-A176CC6A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4CE55-7C3F-46C1-8EF5-DA9D9813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E31F3-E04E-4C77-9607-5E0E2E2C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893D1-C3DF-48C8-817D-31477F8D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8C711-517A-4D9D-B6F5-E0666E6B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079BB-4E47-41E9-B6A5-91D26264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7E71F-D90D-4288-BFF2-9E6CC274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8EADE-A863-4333-87B0-5320F925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B4A25-0130-4055-BFD4-3AFCBA70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5BD01-E1D5-46D0-AEFC-EAB76437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6BF18-14BF-4899-9953-D380E33B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A3C-AAC9-40B0-8A3D-0DEC4922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A83FB-1BC5-4366-9954-166352EC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1D808-90C1-4FBB-920F-FAC2CC20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BAC9D-01C1-446D-B4E2-7E5885F0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22017-05BB-465F-9EAA-1F622A17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AD9CD-BADA-4654-8C3D-EA14C2A0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A0A8D-0112-46F3-B634-81AC344B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ED9FB-0A0A-4AF2-B96E-BCB677BA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16BCD-F302-47F2-937A-2D85B8DC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754CB-8B35-4FB6-BAC6-E3FE47DF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09FF7-1EC2-4F38-A7DE-A1DD9064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9A2-396D-4305-BBFA-F63F1F39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877B2-5A4E-422F-944F-86A4D86D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A8B2C-6A51-4CB5-A970-61574407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BAAF7-37FA-4359-A177-ED2A0666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63B72-8E43-45AC-A421-F26D8CEF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ABE4C-A4B6-416B-BE3A-35FC9A78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DAC42-1CF0-4AD7-AD54-A1B0AF68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A22B9-FC07-4ED6-82CF-8CC30DE6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60237-2EB8-4E27-8E10-97798377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C34EC-7A69-48F4-AB65-7D1BA27D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D7103-8C3F-4B86-A152-3A28938E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438-4606-44D4-80CB-49ADBA01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3AB99-8C66-488A-A833-B68BC1A8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69668-C253-4FD9-9CFB-CCC4332A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B866C-6628-49D0-ADB5-21B6814C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AF0AB-E940-4178-BB11-DA0B53A6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D6B6B-1BA5-42EA-BA86-987816EB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C90F0-7569-456B-B7AB-60ADEFEF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7C9EC-8095-493C-91A1-CAB52DC4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9988E-DD6A-4F8D-9B59-D0E42A91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93E00-294E-456C-BFD7-3D4A4715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FF2CB-DC90-4D58-A3DA-59C3A7F1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630C-C5B4-46A6-84BA-914A5A1C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AD3AB-1611-4E1F-8034-E323CDB2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E5856-7557-42F1-83F9-DE2631BF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9826C-32AD-4FD2-85E3-0B3C7BE0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97F5A-8D9E-4842-B353-36746F8E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312E8-470F-41A1-ABDE-AB727B21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C1F7-52CA-4A5B-8036-FC25BA8C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B94B-D60D-4114-97D8-B0B6A3EAC01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6E27-050F-4F6B-AED0-6A1647F7E19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1875-D53E-4993-BBDA-DECAA8E289F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FCAF-EF27-4699-B3CF-E5CFC5AD8C4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F610-3CC9-43D5-AE14-178F723E34D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0879-81CD-4901-8556-4A3CF81A836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B5A9-D7A2-431D-9536-D8C1B064A19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Журнал «Сатирикон»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кторина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40000" y="4868640"/>
            <a:ext cx="77040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боту выполнила: Титовец Евг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ченица 8 класс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КОУ Воздвиженской СОШ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http://antique.newbookshop.ru/pict/books_covers/1013518100.jpg"/>
          <p:cNvPicPr/>
          <p:nvPr/>
        </p:nvPicPr>
        <p:blipFill>
          <a:blip r:embed="rId1"/>
          <a:stretch/>
        </p:blipFill>
        <p:spPr>
          <a:xfrm>
            <a:off x="0" y="2330280"/>
            <a:ext cx="3290760" cy="4527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чему заключили мир в Вестфалии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645920" y="2636640"/>
            <a:ext cx="7497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Страны изголодались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то забрал самые лакомые куски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331640" y="2565000"/>
            <a:ext cx="74977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Французы и швед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Bar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Новая история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нигопечатание и бумаг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На чем раньше люди писали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2144160" y="3068640"/>
            <a:ext cx="59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твет: На коже животных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явление какой бумаги смягчило нравы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645920" y="2492280"/>
            <a:ext cx="74977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Тряпично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amond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то научил европейцев делать бумагу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31640" y="2781360"/>
            <a:ext cx="74977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Араб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 время кого на деревянной доске вырезали выпуклые буквы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331640" y="2491920"/>
            <a:ext cx="7497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Гутенберг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ьи цифры имели громадное значение для культуры и торговли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331640" y="2708280"/>
            <a:ext cx="74977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Араб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3164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ПАСИБО ЗА ВНИМАНИЕ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ревняя история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арт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TextBox 3"/>
          <p:cNvSpPr/>
          <p:nvPr/>
        </p:nvSpPr>
        <p:spPr>
          <a:xfrm>
            <a:off x="971640" y="1125360"/>
            <a:ext cx="81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то были местные аристократы, они занимались гимнастикой, ходили  голые и  вообще  задавали тон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3149640" y="328464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вет: Спартиат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ля чего в Спарте был ров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1042920" y="2781360"/>
            <a:ext cx="81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вет: Для того чтобы  жители могли упражняться в сбрасывание друг друга  в вод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то обрабатывал поля, ходил воевать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58560" y="2852280"/>
            <a:ext cx="74991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Ило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 сколько лет спартиат делался супругом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187280" y="2924280"/>
            <a:ext cx="749808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3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l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Чем питались спартанцы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02920" y="3357360"/>
            <a:ext cx="7497720" cy="8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Черная похлеб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lus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редние века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Тридцатилетняя война (1618-1648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Как назывался титул некоторых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влиятельных князей в Германии?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TextBox 3"/>
          <p:cNvSpPr/>
          <p:nvPr/>
        </p:nvSpPr>
        <p:spPr>
          <a:xfrm>
            <a:off x="3020400" y="3141720"/>
            <a:ext cx="39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твет: Ландграф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де был убит предводитель католиков Валленштейн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331640" y="2923920"/>
            <a:ext cx="74977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В своей спальн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ircl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45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ой город пришел в упадок после Тридцатилетней войны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331640" y="2133360"/>
            <a:ext cx="749772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Герм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8T12:47:01Z</dcterms:created>
  <dc:creator>пк</dc:creator>
  <dc:description/>
  <dc:language>en-US</dc:language>
  <cp:lastModifiedBy>пк</cp:lastModifiedBy>
  <dcterms:modified xsi:type="dcterms:W3CDTF">2019-03-18T13:33:27Z</dcterms:modified>
  <cp:revision>5</cp:revision>
  <dc:subject/>
  <dc:title>Журнал «Сатирикон» Викторина!</dc:title>
</cp:coreProperties>
</file>