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0.png" ContentType="image/png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8.gif" ContentType="image/gif"/>
  <Override PartName="/ppt/media/image34.wmf" ContentType="image/x-wmf"/>
  <Override PartName="/ppt/media/image38.png" ContentType="image/png"/>
  <Override PartName="/ppt/media/image41.png" ContentType="image/png"/>
  <Override PartName="/ppt/media/image39.png" ContentType="image/png"/>
  <Override PartName="/ppt/media/image42.wmf" ContentType="image/x-wmf"/>
  <Override PartName="/ppt/media/image40.wmf" ContentType="image/x-wmf"/>
  <Override PartName="/ppt/media/image32.wmf" ContentType="image/x-wmf"/>
  <Override PartName="/ppt/media/image49.jpeg" ContentType="image/jpeg"/>
  <Override PartName="/ppt/media/image33.png" ContentType="image/png"/>
  <Override PartName="/ppt/media/image46.png" ContentType="image/png"/>
  <Override PartName="/ppt/media/image11.png" ContentType="image/png"/>
  <Override PartName="/ppt/media/image47.wmf" ContentType="image/x-wmf"/>
  <Override PartName="/ppt/media/image44.wmf" ContentType="image/x-wmf"/>
  <Override PartName="/ppt/media/image48.gif" ContentType="image/gif"/>
  <Override PartName="/ppt/media/image50.gif" ContentType="image/gif"/>
  <Override PartName="/ppt/media/image6.wmf" ContentType="image/x-wmf"/>
  <Override PartName="/ppt/media/image36.wmf" ContentType="image/x-wmf"/>
  <Override PartName="/ppt/media/image30.wmf" ContentType="image/x-wmf"/>
  <Override PartName="/ppt/media/image45.wmf" ContentType="image/x-wmf"/>
  <Override PartName="/ppt/media/image12.gif" ContentType="image/gif"/>
  <Override PartName="/ppt/media/image43.wmf" ContentType="image/x-wmf"/>
  <Override PartName="/ppt/media/image10.gif" ContentType="image/gif"/>
  <Override PartName="/ppt/media/image13.png" ContentType="image/png"/>
  <Override PartName="/ppt/media/image22.wmf" ContentType="image/x-wmf"/>
  <Override PartName="/ppt/media/image5.wmf" ContentType="image/x-wmf"/>
  <Override PartName="/ppt/media/image35.wmf" ContentType="image/x-wmf"/>
  <Override PartName="/ppt/media/image9.gif" ContentType="image/gif"/>
  <Override PartName="/ppt/media/image19.wmf" ContentType="image/x-wmf"/>
  <Override PartName="/ppt/media/image21.wmf" ContentType="image/x-wmf"/>
  <Override PartName="/ppt/media/image7.wmf" ContentType="image/x-wmf"/>
  <Override PartName="/ppt/media/image3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0FBB-A9E6-44BA-AD2C-D94C0D9E8E12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0FDA-BEAF-42A6-843B-2985228D28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5427-3090-406E-8E30-010310295C4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0D4-60A1-4F62-9640-3D6F604E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1E2-EB4F-45D5-B5A3-BA0B660B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AC3-E0FA-490D-89F0-55BF6B8E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61D-565B-462B-98CC-835150BC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E70-3144-4F19-8866-1A7A3EF2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7B0-C165-42F9-932E-98FB33DB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5A3-1416-4CE4-B83C-EBC43530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2EF-6D17-46F8-993D-E3A4E14E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AF9-DCF4-40EF-B80F-4E30402A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0C9-6DD8-4D1F-929D-D5B50128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C4C-78F4-4005-9A9E-4850B73D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380-8216-45CE-AE4B-6A8A99CC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D76E-1473-4444-80A3-50F76A989E7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2229-1AA3-40EC-BFC7-90CBA2245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0.D0.B2.D1.82.D0.BE.D1.80.D1.8B_.D0.BF.D1.80.D0.BE.D0.B5.D0.BA.D1.82.D0.B0#.D0.90.D0.B2.D1.82.D0.BE.D1.80.D1.8B_.D0.BF.D1.80.D0.BE.D0.B5.D0.BA.D1.82.D0.B0" TargetMode="External"/><Relationship Id="rId2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A.D0.BE.D0.BE.D1.80.D0.B4.D0.B8.D0.BD.D0.B0.D1.82.D0.BE.D1.80_.D0.BF.D1.80.D0.BE.D0.B5.D0.BA.D1.82.D0.B0#.D0.9A.D0.BE.D0.BE.D1.80.D0.B4.D0.B8.D0.BD.D0.B0.D1.82.D0.BE.D1.80_.D0.BF.D1.80.D0.BE.D0.B5.D0.BA.D1.82.D0.B0" TargetMode="External"/><Relationship Id="rId3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F.D1.80.D0.B5.D0.B4.D0.BC.D0.B5.D1.82.2C_.D0.BA.D0.BB.D0.B0.D1.81.D1.81#.D0.9F.D1.80.D0.B5.D0.B4.D0.BC.D0.B5.D1.82.2C_.D0.BA.D0.BB.D0.B0.D1.81.D1.81" TargetMode="External"/><Relationship Id="rId4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0.D0.BD.D0.BE.D1.82.D0.B0.D1.86.D0.B8.D1.8F_.D0.BF.D1.80.D0.BE.D0.B5.D0.BA.D1.82.D0.B0#.D0.90.D0.BD.D0.BE.D1.82.D0.B0.D1.86.D0.B8.D1.8F_.D0.BF.D1.80.D0.BE.D0.B5.D0.BA.D1.82.D0.B0" TargetMode="External"/><Relationship Id="rId5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2.D0.BE.D0.BF.D1.80.D0.BE.D1.81.D1.8B.2C_.D0.BD.D0.B0.D0.BF.D1.80.D0.B0.D0.B2.D0.BB.D1.8F.D1.8E.D1.89.D0.B8.D0.B5_.D0.BF.D1.80.D0.BE.D0.B5.D0.BA.D1.82#.D0.92.D0.BE.D0.BF.D1.80.D0.BE.D1.81.D1.8B.2C_.D0.BD.D0.B0.D0.BF.D1.80.D0.B0.D0.B2.D0.BB.D1.8F.D1.8" TargetMode="External"/><Relationship Id="rId6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E.D1.81.D0.BD.D0.BE.D0.B2.D0.BE.D0.BF.D0.BE.D0.BB.D0.B0.D0.B3.D0.B0.D1.8E.D1.89.D0.B8.D0.B9_.D0.B2.D0.BE.D0.BF.D1.80.D0.BE.D1.81#.D0.9E.D1.81.D0.BD.D0.BE.D0.B2.D0.BE.D0.BF.D0.BE.D0.BB.D0.B0.D0.B3.D0.B0.D1.8E.D1.89.D0.B8.D0.B9_.D0.B2.D0.BE.D0.BF.D1.80" TargetMode="External"/><Relationship Id="rId7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F.D1.80.D0.BE.D0.B1.D0.BB.D0.B5.D0.BC.D0.BD.D1.8B.D0.B5_.D0.B2.D0.BE.D0.BF.D1.80.D0.BE.D1.81.D1.8B#.D0.9F.D1.80.D0.BE.D0.B1.D0.BB.D0.B5.D0.BC.D0.BD.D1.8B.D0.B5_.D0.B2.D0.BE.D0.BF.D1.80.D0.BE.D1.81.D1.8B" TargetMode="External"/><Relationship Id="rId8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A3.D1.87.D0.B5.D0.B1.D0.BD.D1.8B.D0.B5_.D0.B2.D0.BE.D0.BF.D1.80.D0.BE.D1.81.D1.8B#.D0.A3.D1.87.D0.B5.D0.B1.D0.BD.D1.8B.D0.B5_.D0.B2.D0.BE.D0.BF.D1.80.D0.BE.D1.81.D1.8B" TargetMode="External"/><Relationship Id="rId9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F.D0.BB.D0.B0.D0.BD_.D0.BF.D1.80.D0.BE.D0.B2.D0.B5.D0.B4.D0.B5.D0.BD.D0.B8.D1.8F_.D0.BF.D1.80.D0.BE.D0.B5.D0.BA.D1.82.D0.B0#.D0.9F.D0.BB.D0.B0.D0.BD_.D0.BF.D1.80.D0.BE.D0.B2.D0.B5.D0.B4.D0.B5.D0.BD.D0.B8.D1.8F_.D0.BF.D1.80.D0.BE.D0.B5.D0.BA.D1.82.D0." TargetMode="External"/><Relationship Id="rId10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.D0.94.D0.BE.D0.BF.D0.BE.D0.BB.D0.BD.D0.B8.D1.82.D0.B5.D0.BB.D1.8C.D0.BD.D1.8B.D0.B5_.D0.BC.D0.B0.D1.82.D0.B5.D1.80.D0.B8.D0.B0.D0.BB.D1.8B#.D0.94.D0.BE.D0.BF.D0.BE.D0.BB.D0.BD.D0.B8.D1.82.D0.B5.D0.BB.D1.8C.D0.BD.D1.8B.D0.B5_.D0.BC.D0.B0.D1.82.D0.B5.D1.80" TargetMode="External"/><Relationship Id="rId11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I_.D1.8D.D1.82.D0.B0.D0.BF_-_.D1.80.D0.B5.D0.B3.D0.B8.D1.81.D1.82.D1.80.D0.B0.D1.86.D0.B8.D1.8F_.28.D1.81_19.01_.D0.BF.D0.BE_31.01.29#I_.D1.8D.D1.82.D0.B0.D0.BF_-_.D1.80.D0.B5.D0.B3.D0.B8.D1.81.D1.82.D1.80.D0.B0.D1.86.D0.B8.D1.8F_.28.D1.81_19.01_.D0.BF.D0" TargetMode="External"/><Relationship Id="rId12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II_.D1.8D.D1.82.D0.B0.D0.BF_-_.22.D0.A7.D1.82.D0.BE_.D0.BE.D0.BF.D0.B0.D1.81.D0.BD.D0.B5.D0.B5:_.D1.83.D0.B3.D0.BE.D0.B4.D0.BD.D0.B8.D1.87.D0.B5.D1.81.D1.82.D0.B2.D0.BE_.D0.B8.D0.BB.D0.B8_.D0.BD.D0.B5.D0.BD.D0.B0.D0.B2.D0.B8.D1.81.D1.82.D1.8C.3F.22__.28.D" TargetMode="External"/><Relationship Id="rId13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III_.D1.8D.D1.82.D0.B0.D0.BF_-_.D0.9C.D0.B8.D1.80_.D1.87.D1.83.D0.B2.D1.81.D1.82.D0.B2_.D0.BF.D1.83.D1.88.D0.BA.D0.B8.D0.BD.D1.81.D0.BA.D0.B8.D1.85_.D0.B3.D0.B5.D1.80.D0.BE.D0.B5.D0.B2_.28.D1.81_11.02_.D0.BF.D0.BE_25.02.29#III_.D1.8D.D1.82.D0.B0.D0.BF_-_." TargetMode="External"/><Relationship Id="rId14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IV_.D1.8D.D1.82.D0.B0.D0.BF_-_.D0.9C.D0.BE.D0.B6.D0.B5.D1.82_.D0.BB.D0.B8_.D1.80.D0.B0.D0.B7.D0.B1.D0.BE.D0.B9.D0.BD.D0.B8.D0.BA_.D0.B1.D1.8B.D1.82.D1.8C_.D0.B1.D0.BB.D0.B0.D0.B3.D0.BE.D1.80.D0.BE.D0.B4.D0.BD.D1.8B.D0.BC.3F_.28.D1.81_26.02_.D0.BF.D0.BE_12" TargetMode="External"/><Relationship Id="rId15" Type="http://schemas.openxmlformats.org/officeDocument/2006/relationships/hyperlink" Target="http://letopisi.ru/index.php/&#1059;&#1095;&#1077;&#1073;&#1085;&#1099;&#1081;_&#1087;&#1088;&#1086;&#1077;&#1082;&#1090;_&#1044;&#1091;&#1073;&#1088;&#1086;&#1074;&#1089;&#1082;&#1080;&#1081;#V_.D1.8D.D1.82.D0.B0.D0.BF_-_.C2.AB.D0.9A.D0.B0.D0.BA_.D0.BD.D0.B0.D1.83.D1.87.D0.B8.D1.82.D1.8C.D1.81.D1.8F_.D0.B6.D0.B8.D1.82.D1.8C_.D0.B1.D0.B5.D0.B7_.D1.83.D0.B3.D0.BE.D0.B4.D0.BD.D0.B8.D1.87.D0.B5.D1.81.D1.82.D0.B2.D0.B0_.D0.B8_.D0.BD.D0.B5.D0.BD.D0." TargetMode="External"/><Relationship Id="rId16" Type="http://schemas.openxmlformats.org/officeDocument/2006/relationships/image" Target="../media/image48.gif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581360"/>
            <a:ext cx="8424720" cy="16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ектная деятельность уча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252360" y="1773360"/>
            <a:ext cx="3456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Педагогический со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МКОУ Воздвиженская 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Январь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S01094_"/>
          <p:cNvPicPr/>
          <p:nvPr/>
        </p:nvPicPr>
        <p:blipFill>
          <a:blip r:embed="rId2"/>
          <a:stretch/>
        </p:blipFill>
        <p:spPr>
          <a:xfrm>
            <a:off x="5076720" y="1628640"/>
            <a:ext cx="1635120" cy="1773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BS01104_"/>
          <p:cNvPicPr/>
          <p:nvPr/>
        </p:nvPicPr>
        <p:blipFill>
          <a:blip r:embed="rId3"/>
          <a:stretch/>
        </p:blipFill>
        <p:spPr>
          <a:xfrm>
            <a:off x="2987640" y="3068640"/>
            <a:ext cx="2724120" cy="181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BS00950_"/>
          <p:cNvPicPr/>
          <p:nvPr/>
        </p:nvPicPr>
        <p:blipFill>
          <a:blip r:embed="rId4"/>
          <a:stretch/>
        </p:blipFill>
        <p:spPr>
          <a:xfrm>
            <a:off x="2916360" y="1125360"/>
            <a:ext cx="1996920" cy="209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BS00809_"/>
          <p:cNvPicPr/>
          <p:nvPr/>
        </p:nvPicPr>
        <p:blipFill>
          <a:blip r:embed="rId5"/>
          <a:stretch/>
        </p:blipFill>
        <p:spPr>
          <a:xfrm>
            <a:off x="5940360" y="3141720"/>
            <a:ext cx="1997280" cy="179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BS00647_"/>
          <p:cNvPicPr/>
          <p:nvPr/>
        </p:nvPicPr>
        <p:blipFill>
          <a:blip r:embed="rId6"/>
          <a:stretch/>
        </p:blipFill>
        <p:spPr>
          <a:xfrm>
            <a:off x="250920" y="2781360"/>
            <a:ext cx="1989000" cy="2093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5586840" y="602136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: учитель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лышева Г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04DB-D029-4197-9645-E5EF4D57136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Этапы проектной деятель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ационно-подготовите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Поиско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Итого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7"/>
          <p:cNvPicPr/>
          <p:nvPr/>
        </p:nvPicPr>
        <p:blipFill>
          <a:blip r:embed="rId1"/>
          <a:stretch/>
        </p:blipFill>
        <p:spPr>
          <a:xfrm>
            <a:off x="395280" y="18900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BS01145_"/>
          <p:cNvPicPr/>
          <p:nvPr/>
        </p:nvPicPr>
        <p:blipFill>
          <a:blip r:embed="rId2"/>
          <a:stretch/>
        </p:blipFill>
        <p:spPr>
          <a:xfrm>
            <a:off x="3132000" y="4724280"/>
            <a:ext cx="2448000" cy="158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BS01161_"/>
          <p:cNvPicPr/>
          <p:nvPr/>
        </p:nvPicPr>
        <p:blipFill>
          <a:blip r:embed="rId3"/>
          <a:stretch/>
        </p:blipFill>
        <p:spPr>
          <a:xfrm>
            <a:off x="5292720" y="5013360"/>
            <a:ext cx="1779480" cy="1546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BS01628_"/>
          <p:cNvPicPr/>
          <p:nvPr/>
        </p:nvPicPr>
        <p:blipFill>
          <a:blip r:embed="rId4"/>
          <a:stretch/>
        </p:blipFill>
        <p:spPr>
          <a:xfrm>
            <a:off x="395280" y="3933720"/>
            <a:ext cx="2158920" cy="1943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BS01070_"/>
          <p:cNvPicPr/>
          <p:nvPr/>
        </p:nvPicPr>
        <p:blipFill>
          <a:blip r:embed="rId5"/>
          <a:stretch/>
        </p:blipFill>
        <p:spPr>
          <a:xfrm>
            <a:off x="6491160" y="3068640"/>
            <a:ext cx="265284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DE83-27DC-4919-B037-87F2223CD25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учителя в проектной деятель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тузиа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повышает мотивацию учащихся, поддерживая, поощряя и направляя их в направлении достижения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циали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компетентен в нескольких (не во всех!) облас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ульта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может организовать доступ к ресурсам, в том числе к другим специалис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может четко спланировать и реализовать про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еловек, который задает вопрос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организует обсуждение способов преодоления возникающих трудностей путем косвенных, наводящих вопросов, обнаруживает ошибки и поддерживает обратную свя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ордина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поддерживает групповой процесс решения проб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спе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дает четкий анализ результатов как выполненного проекта в целом, так и отдельных его эта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8"/>
          <p:cNvPicPr/>
          <p:nvPr/>
        </p:nvPicPr>
        <p:blipFill>
          <a:blip r:embed="rId1"/>
          <a:stretch/>
        </p:blipFill>
        <p:spPr>
          <a:xfrm>
            <a:off x="395280" y="189000"/>
            <a:ext cx="584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AC7D-C31E-40D0-8AEA-C89C02EC0C1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тельный потенциал проектной деятельност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ёт у учащихся образ цельного зн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ает мотивацию учащихся в получении дополнительных зна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важнейших методов научного познания (выдвинуть и обосновать замысел, самостоятельно поставить и сформулировать задачу проекта, найти метод анализа ситуаци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претация результато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9"/>
          <p:cNvPicPr/>
          <p:nvPr/>
        </p:nvPicPr>
        <p:blipFill>
          <a:blip r:embed="rId1"/>
          <a:stretch/>
        </p:blipFill>
        <p:spPr>
          <a:xfrm>
            <a:off x="468360" y="189000"/>
            <a:ext cx="649080" cy="901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BS01143_"/>
          <p:cNvPicPr/>
          <p:nvPr/>
        </p:nvPicPr>
        <p:blipFill>
          <a:blip r:embed="rId2"/>
          <a:stretch/>
        </p:blipFill>
        <p:spPr>
          <a:xfrm>
            <a:off x="6516720" y="4581360"/>
            <a:ext cx="220176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71AC-430A-4D3F-911B-5576F63D139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оспитыва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мые общечеловеческие ценности (социальное партнёрство, толерантность, диалог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ства ответственности, самодисципли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 к самоорганиз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ния делать свою работу качествен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Развива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тельские и творческие способности лич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к самоопределению и целеполаган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 самостоятельно конструировать свои зн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уникативные умения и навы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ориентироваться в информационном пространств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работать с различными типами текс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планировать свою работу и врем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ыки анализа и рефлексии, умение представить результаты своей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"/>
          <p:cNvPicPr/>
          <p:nvPr/>
        </p:nvPicPr>
        <p:blipFill>
          <a:blip r:embed="rId1"/>
          <a:stretch/>
        </p:blipFill>
        <p:spPr>
          <a:xfrm>
            <a:off x="250920" y="260280"/>
            <a:ext cx="428400" cy="79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0"/>
          <p:cNvPicPr/>
          <p:nvPr/>
        </p:nvPicPr>
        <p:blipFill>
          <a:blip r:embed="rId2"/>
          <a:stretch/>
        </p:blipFill>
        <p:spPr>
          <a:xfrm>
            <a:off x="755640" y="260280"/>
            <a:ext cx="579600" cy="830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BS00995_"/>
          <p:cNvPicPr/>
          <p:nvPr/>
        </p:nvPicPr>
        <p:blipFill>
          <a:blip r:embed="rId3"/>
          <a:stretch/>
        </p:blipFill>
        <p:spPr>
          <a:xfrm>
            <a:off x="1979640" y="260280"/>
            <a:ext cx="1127160" cy="177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BS01018_"/>
          <p:cNvPicPr/>
          <p:nvPr/>
        </p:nvPicPr>
        <p:blipFill>
          <a:blip r:embed="rId4"/>
          <a:stretch/>
        </p:blipFill>
        <p:spPr>
          <a:xfrm>
            <a:off x="5940360" y="260280"/>
            <a:ext cx="1924200" cy="1801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BS01052_"/>
          <p:cNvPicPr/>
          <p:nvPr/>
        </p:nvPicPr>
        <p:blipFill>
          <a:blip r:embed="rId5"/>
          <a:stretch/>
        </p:blipFill>
        <p:spPr>
          <a:xfrm>
            <a:off x="3871800" y="0"/>
            <a:ext cx="14256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5D6C-5897-49E4-903E-213FBDA13EE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411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роектировании приобретается опыт использовании знаний для решения так называемых некорректных задач, когда имеется дефицит или избыток данных, отсутствует эталон решения. Таким образом, предоставляется возможность приобретения опыта творчества, т.е. комбинирования и модернизации известных решений для достижения нового результата, диктуемого изменяющимися внешними услов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ирование позволяет достигать повышения уровня коммуникабельности, т.е. расширения круга конструктивного и целенаправленного общения, актуализированного однотипностью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2602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PE01771_"/>
          <p:cNvPicPr/>
          <p:nvPr/>
        </p:nvPicPr>
        <p:blipFill>
          <a:blip r:embed="rId1"/>
          <a:stretch/>
        </p:blipFill>
        <p:spPr>
          <a:xfrm>
            <a:off x="1187280" y="0"/>
            <a:ext cx="1872000" cy="1695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6300720" y="4005360"/>
            <a:ext cx="258912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6D69-4AD8-41F7-8B82-BFC2F145648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Цели проектирования достигаются, когда эффективность  усилий учителя и воспитательно-образовательного процесса оценивается ростом показателей, группы или учащегос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Diagram 5"/>
          <p:cNvGrpSpPr/>
          <p:nvPr/>
        </p:nvGrpSpPr>
        <p:grpSpPr>
          <a:xfrm>
            <a:off x="2176560" y="1808640"/>
            <a:ext cx="4790160" cy="4394880"/>
            <a:chOff x="2176560" y="1808640"/>
            <a:chExt cx="4790160" cy="4394880"/>
          </a:xfrm>
        </p:grpSpPr>
        <p:sp>
          <p:nvSpPr>
            <p:cNvPr id="174" name="_s5124"/>
            <p:cNvSpPr/>
            <p:nvPr/>
          </p:nvSpPr>
          <p:spPr>
            <a:xfrm flipV="1">
              <a:off x="3772440" y="1808640"/>
              <a:ext cx="1598040" cy="1464480"/>
            </a:xfrm>
            <a:custGeom>
              <a:avLst/>
              <a:gdLst>
                <a:gd name="textAreaLeft" fmla="*/ 573480 w 1598040"/>
                <a:gd name="textAreaRight" fmla="*/ 1024560 w 1598040"/>
                <a:gd name="textAreaTop" fmla="*/ 525240 h 1464480"/>
                <a:gd name="textAreaBottom" fmla="*/ 939240 h 146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нформацион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беспеченнос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5125"/>
            <p:cNvSpPr/>
            <p:nvPr/>
          </p:nvSpPr>
          <p:spPr>
            <a:xfrm flipV="1">
              <a:off x="2975400" y="3273480"/>
              <a:ext cx="3192480" cy="1464480"/>
            </a:xfrm>
            <a:custGeom>
              <a:avLst/>
              <a:gdLst>
                <a:gd name="textAreaLeft" fmla="*/ 702000 w 3192480"/>
                <a:gd name="textAreaRight" fmla="*/ 2490480 w 3192480"/>
                <a:gd name="textAreaTop" fmla="*/ 321840 h 1464480"/>
                <a:gd name="textAreaBottom" fmla="*/ 1142640 h 146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Функциональ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рамотнос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5126"/>
            <p:cNvSpPr/>
            <p:nvPr/>
          </p:nvSpPr>
          <p:spPr>
            <a:xfrm flipV="1">
              <a:off x="2176560" y="4738320"/>
              <a:ext cx="4790160" cy="1465200"/>
            </a:xfrm>
            <a:custGeom>
              <a:avLst/>
              <a:gdLst>
                <a:gd name="textAreaLeft" fmla="*/ 831600 w 4790160"/>
                <a:gd name="textAreaRight" fmla="*/ 3958560 w 4790160"/>
                <a:gd name="textAreaTop" fmla="*/ 254160 h 1465200"/>
                <a:gd name="textAreaBottom" fmla="*/ 1211040 h 14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нтеллектуальная 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олева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дготовленнос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10" descr="BS01202_"/>
          <p:cNvPicPr/>
          <p:nvPr/>
        </p:nvPicPr>
        <p:blipFill>
          <a:blip r:embed="rId1"/>
          <a:stretch/>
        </p:blipFill>
        <p:spPr>
          <a:xfrm>
            <a:off x="900000" y="2349360"/>
            <a:ext cx="138744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7E11-6F05-4619-96DC-196C3F205CD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ематика проектов и требования к отбору объектов проек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 правильный выбор объектов проект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ор творческих проектов (возрастные и индивидуальные особенности школьников, учебно-материальная база для выполнения творческих проектов и д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иться к тому, чтобы творческий проект содержал в себе те знания и умения, которыми уже овладел учащийся в течении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енно полезная или личностная значимость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ы проектов выбираются учащимися самостоятельно или по рекомендации уч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4A5C-B9F0-4923-8B88-19B66DE3679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ень примерных тем творческих проектов уча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материалов и нитей – детская, нарядная и деловая одежда, гобелены, декоративные панно, разнообразные виды вышивки, различные виды пле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азличных природных материалов – панно, подделки из соломки, украшения из листьев, коры, ракушек, ракушек, кож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древесины – шкатулки, разделочные доски, игрушки, столовые прибо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сский национальный характер в повести Н.С.Лескова «Очарованный странник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Домашнее задание: Найти в тексте цитаты, характеризующие персонажа. Определить черты характер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: план к сочин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Стилевые процессы в русской литературе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ашнее задание: подготовить презентацию по темам «Классицизм, сентиментализм, романтизм, реализм в зарубежной и русской литературе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: обобщающая табл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зык в комедии А.С.Грибоедова «Горе от ума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ашнее задание: Выписать из текста «крылатые» слова и выражения (работают 4 группы в соответствии с количеством действий). Объяснить их смысл в тексте комедии и возможность применения в современных условиях, используя книгу Н.С.Ашукина, М.Г.Ашукиной «Крылатые слова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: консп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К 3. «Примите исповедь мою: себя на суд вам отдаю…»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(Автор в романе «Евгений Онегин»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машнее задание: Составить таблицу по роману «Евгений Онегин»: в правом столбце лирические отступления, в левом – сюжетные коллизи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ДУКТ: таблица – анализ текста, сочинение-рассуждение «Читая Пушкина, можно великолепным образом воспитать в себе человека», сочинение-эссе «Мой Пушки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dividers_2004"/>
          <p:cNvPicPr/>
          <p:nvPr/>
        </p:nvPicPr>
        <p:blipFill>
          <a:blip r:embed="rId1"/>
          <a:stretch/>
        </p:blipFill>
        <p:spPr>
          <a:xfrm>
            <a:off x="1692360" y="5950080"/>
            <a:ext cx="56862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DAEE-A203-48C3-9C24-6DD032615F0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Авторы проекта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2 Координатор проекта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Georgia"/>
                <a:hlinkClick r:id="rId3"/>
              </a:rPr>
              <a:t>3 Предмет, класс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Georgia"/>
                <a:hlinkClick r:id="rId4"/>
              </a:rPr>
              <a:t>4 Аннотация проекта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Georgia"/>
                <a:hlinkClick r:id="rId5"/>
              </a:rPr>
              <a:t>5 Вопросы, направляющие проект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Georgia"/>
                <a:hlinkClick r:id="rId6"/>
              </a:rPr>
              <a:t>5.1 Основополагающий вопрос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Georgia"/>
                <a:hlinkClick r:id="rId7"/>
              </a:rPr>
              <a:t>5.2 Проблемные вопросы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Georgia"/>
                <a:hlinkClick r:id="rId8"/>
              </a:rPr>
              <a:t>5.3 Учебные вопросы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Georgia"/>
                <a:hlinkClick r:id="rId9"/>
              </a:rPr>
              <a:t>6 План проведения проекта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Georgia"/>
                <a:hlinkClick r:id="rId10"/>
              </a:rPr>
              <a:t>7 Дополнительные материалы</a:t>
            </a: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Georgia"/>
                <a:hlinkClick r:id="rId11"/>
              </a:rPr>
              <a:t>7.1 I этап - регистрация ( 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Georgia"/>
                <a:hlinkClick r:id="rId12"/>
              </a:rPr>
              <a:t>7.2 II этап - "Что опаснее: угодничество или ненависть?" 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Georgia"/>
                <a:hlinkClick r:id="rId13"/>
              </a:rPr>
              <a:t>7.3 III этап - Мир чувств пушкинских героев (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Georgia"/>
                <a:hlinkClick r:id="rId14"/>
              </a:rPr>
              <a:t>7.4 IV этап - Может ли разбойник быть благородным? (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Georgia"/>
                <a:hlinkClick r:id="rId15"/>
              </a:rPr>
              <a:t>7.5 V этап - «Как научиться жить без угодничества и ненависти?» (с  )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7.6 VI этап - подведение итогов (с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8  </a:t>
            </a:r>
            <a:r>
              <a:rPr b="1" i="1" lang="ru-RU" sz="1600" spc="-1" strike="noStrike">
                <a:solidFill>
                  <a:srgbClr val="009999"/>
                </a:solidFill>
                <a:latin typeface="Georgia"/>
              </a:rPr>
              <a:t>Рефлек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dividers_2004"/>
          <p:cNvPicPr/>
          <p:nvPr/>
        </p:nvPicPr>
        <p:blipFill>
          <a:blip r:embed="rId16"/>
          <a:stretch/>
        </p:blipFill>
        <p:spPr>
          <a:xfrm>
            <a:off x="2627280" y="5734080"/>
            <a:ext cx="3809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CD93-D9CD-4D97-83AA-7E443199D74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 проектов широко использовался в России в 30-е годы и был незаслуженно забыт, т.к. не дал положитель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 метод проектов вновь используется, но уже в обновленном ви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ценен тем, что в ходе его выполнения, школьники учатся самостоятельно приобретать знания, получать опыт познавательной и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ная методика характеризуется высокой коммуникативностью и предполагает выражение учащимися своих собственных мнений, чувств, активное включение в реальную деятельность, принятие личной ответственности за продвижение в обуч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dividers_2004"/>
          <p:cNvPicPr/>
          <p:nvPr/>
        </p:nvPicPr>
        <p:blipFill>
          <a:blip r:embed="rId1"/>
          <a:stretch/>
        </p:blipFill>
        <p:spPr>
          <a:xfrm>
            <a:off x="2484360" y="549360"/>
            <a:ext cx="3810240" cy="476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dividers_2004"/>
          <p:cNvPicPr/>
          <p:nvPr/>
        </p:nvPicPr>
        <p:blipFill>
          <a:blip r:embed="rId2"/>
          <a:stretch/>
        </p:blipFill>
        <p:spPr>
          <a:xfrm>
            <a:off x="1187280" y="5373720"/>
            <a:ext cx="66978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BE2F-62BB-4B97-B5C3-E0533DEA078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тельская работа учащихся не является новой вехой в обучении, этой проблемой занимались во все времена. Суть такой работы заключается в «открытии» учащимися новых истин, правил, опираясь на известные им ист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илософы называют современный период общечеловеческого развития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грессивизм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от термин проник и в сферу образования, где он оттеняет термины «гуманизация»и «гуманитаризация», подчеркивая прогрессивность и перспективность названных процессов в данной 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76"/>
          <p:cNvPicPr/>
          <p:nvPr/>
        </p:nvPicPr>
        <p:blipFill>
          <a:blip r:embed="rId1"/>
          <a:stretch/>
        </p:blipFill>
        <p:spPr>
          <a:xfrm>
            <a:off x="179280" y="5022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81"/>
          <p:cNvPicPr/>
          <p:nvPr/>
        </p:nvPicPr>
        <p:blipFill>
          <a:blip r:embed="rId2"/>
          <a:stretch/>
        </p:blipFill>
        <p:spPr>
          <a:xfrm>
            <a:off x="611280" y="692280"/>
            <a:ext cx="1181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DEC5-1583-4015-9A34-CA810269EC1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8" descr="3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Organization Chart 5"/>
          <p:cNvGrpSpPr/>
          <p:nvPr/>
        </p:nvGrpSpPr>
        <p:grpSpPr>
          <a:xfrm>
            <a:off x="179280" y="333360"/>
            <a:ext cx="8713440" cy="5790960"/>
            <a:chOff x="179280" y="333360"/>
            <a:chExt cx="8713440" cy="5790960"/>
          </a:xfrm>
        </p:grpSpPr>
        <p:cxnSp>
          <p:nvCxnSpPr>
            <p:cNvPr id="198" name="_s6148"/>
            <p:cNvCxnSpPr>
              <a:stCxn id="199" idx="0"/>
              <a:endCxn id="200" idx="2"/>
            </p:cNvCxnSpPr>
            <p:nvPr/>
          </p:nvCxnSpPr>
          <p:spPr>
            <a:xfrm flipV="1" rot="16200000">
              <a:off x="4854600" y="2330640"/>
              <a:ext cx="1158840" cy="1794960"/>
            </a:xfrm>
            <a:prstGeom prst="bentConnector3">
              <a:avLst>
                <a:gd name="adj1" fmla="val 12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6149"/>
            <p:cNvCxnSpPr>
              <a:stCxn id="202" idx="0"/>
              <a:endCxn id="200" idx="2"/>
            </p:cNvCxnSpPr>
            <p:nvPr/>
          </p:nvCxnSpPr>
          <p:spPr>
            <a:xfrm flipV="1" rot="16200000">
              <a:off x="3958200" y="3227040"/>
              <a:ext cx="1158840" cy="2160"/>
            </a:xfrm>
            <a:prstGeom prst="bentConnector3">
              <a:avLst>
                <a:gd name="adj1" fmla="val 12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3" name="_s6150"/>
            <p:cNvCxnSpPr>
              <a:stCxn id="204" idx="0"/>
              <a:endCxn id="200" idx="2"/>
            </p:cNvCxnSpPr>
            <p:nvPr/>
          </p:nvCxnSpPr>
          <p:spPr>
            <a:xfrm flipV="1" rot="16200000">
              <a:off x="5750640" y="1434600"/>
              <a:ext cx="1158840" cy="3587400"/>
            </a:xfrm>
            <a:prstGeom prst="bentConnector3">
              <a:avLst>
                <a:gd name="adj1" fmla="val 12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6151"/>
            <p:cNvCxnSpPr>
              <a:stCxn id="206" idx="0"/>
              <a:endCxn id="200" idx="2"/>
            </p:cNvCxnSpPr>
            <p:nvPr/>
          </p:nvCxnSpPr>
          <p:spPr>
            <a:xfrm flipH="1" flipV="1" rot="5400000">
              <a:off x="3061440" y="2331720"/>
              <a:ext cx="1158840" cy="1793520"/>
            </a:xfrm>
            <a:prstGeom prst="bentConnector3">
              <a:avLst>
                <a:gd name="adj1" fmla="val 12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6152"/>
            <p:cNvCxnSpPr>
              <a:stCxn id="208" idx="0"/>
              <a:endCxn id="200" idx="2"/>
            </p:cNvCxnSpPr>
            <p:nvPr/>
          </p:nvCxnSpPr>
          <p:spPr>
            <a:xfrm flipH="1" flipV="1" rot="5400000">
              <a:off x="2163240" y="1433520"/>
              <a:ext cx="1158840" cy="3589560"/>
            </a:xfrm>
            <a:prstGeom prst="bentConnector3">
              <a:avLst>
                <a:gd name="adj1" fmla="val 12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0" name="_s6153"/>
            <p:cNvSpPr/>
            <p:nvPr/>
          </p:nvSpPr>
          <p:spPr>
            <a:xfrm>
              <a:off x="3765960" y="333360"/>
              <a:ext cx="1537920" cy="2316240"/>
            </a:xfrm>
            <a:custGeom>
              <a:avLst/>
              <a:gdLst>
                <a:gd name="textAreaLeft" fmla="*/ 74880 w 1537920"/>
                <a:gd name="textAreaRight" fmla="*/ 1463040 w 1537920"/>
                <a:gd name="textAreaTop" fmla="*/ 74880 h 2316240"/>
                <a:gd name="textAreaBottom" fmla="*/ 2241360 h 2316240"/>
              </a:gdLst>
              <a:ahLst/>
              <a:rect l="textAreaLeft" t="textAreaTop" r="textAreaRight" b="textAreaBottom"/>
              <a:pathLst>
                <a:path w="21600" h="32529">
                  <a:moveTo>
                    <a:pt x="3600" y="0"/>
                  </a:moveTo>
                  <a:arcTo wR="3600" hR="3600" stAng="16200000" swAng="-5400000"/>
                  <a:lnTo>
                    <a:pt x="0" y="28929"/>
                  </a:lnTo>
                  <a:arcTo wR="3600" hR="3600" stAng="10800000" swAng="-5400000"/>
                  <a:lnTo>
                    <a:pt x="18000" y="325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Элемент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роектной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6154"/>
            <p:cNvSpPr/>
            <p:nvPr/>
          </p:nvSpPr>
          <p:spPr>
            <a:xfrm>
              <a:off x="179280" y="3808080"/>
              <a:ext cx="1537920" cy="2316240"/>
            </a:xfrm>
            <a:custGeom>
              <a:avLst/>
              <a:gdLst>
                <a:gd name="textAreaLeft" fmla="*/ 74880 w 1537920"/>
                <a:gd name="textAreaRight" fmla="*/ 1463040 w 1537920"/>
                <a:gd name="textAreaTop" fmla="*/ 74880 h 2316240"/>
                <a:gd name="textAreaBottom" fmla="*/ 2241360 h 2316240"/>
              </a:gdLst>
              <a:ahLst/>
              <a:rect l="textAreaLeft" t="textAreaTop" r="textAreaRight" b="textAreaBottom"/>
              <a:pathLst>
                <a:path w="21600" h="32529">
                  <a:moveTo>
                    <a:pt x="3600" y="0"/>
                  </a:moveTo>
                  <a:arcTo wR="3600" hR="3600" stAng="16200000" swAng="-5400000"/>
                  <a:lnTo>
                    <a:pt x="0" y="28929"/>
                  </a:lnTo>
                  <a:arcTo wR="3600" hR="3600" stAng="10800000" swAng="-5400000"/>
                  <a:lnTo>
                    <a:pt x="18000" y="325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Мысле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деятельност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6155"/>
            <p:cNvSpPr/>
            <p:nvPr/>
          </p:nvSpPr>
          <p:spPr>
            <a:xfrm>
              <a:off x="1973520" y="3808080"/>
              <a:ext cx="1537920" cy="2316240"/>
            </a:xfrm>
            <a:custGeom>
              <a:avLst/>
              <a:gdLst>
                <a:gd name="textAreaLeft" fmla="*/ 74880 w 1537920"/>
                <a:gd name="textAreaRight" fmla="*/ 1463040 w 1537920"/>
                <a:gd name="textAreaTop" fmla="*/ 74880 h 2316240"/>
                <a:gd name="textAreaBottom" fmla="*/ 2241360 h 2316240"/>
              </a:gdLst>
              <a:ahLst/>
              <a:rect l="textAreaLeft" t="textAreaTop" r="textAreaRight" b="textAreaBottom"/>
              <a:pathLst>
                <a:path w="21600" h="32529">
                  <a:moveTo>
                    <a:pt x="3600" y="0"/>
                  </a:moveTo>
                  <a:arcTo wR="3600" hR="3600" stAng="16200000" swAng="-5400000"/>
                  <a:lnTo>
                    <a:pt x="0" y="28929"/>
                  </a:lnTo>
                  <a:arcTo wR="3600" hR="3600" stAng="10800000" swAng="-5400000"/>
                  <a:lnTo>
                    <a:pt x="18000" y="325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резентацион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6156"/>
            <p:cNvSpPr/>
            <p:nvPr/>
          </p:nvSpPr>
          <p:spPr>
            <a:xfrm>
              <a:off x="7354800" y="3808080"/>
              <a:ext cx="1537920" cy="2316240"/>
            </a:xfrm>
            <a:custGeom>
              <a:avLst/>
              <a:gdLst>
                <a:gd name="textAreaLeft" fmla="*/ 74880 w 1537920"/>
                <a:gd name="textAreaRight" fmla="*/ 1463040 w 1537920"/>
                <a:gd name="textAreaTop" fmla="*/ 74880 h 2316240"/>
                <a:gd name="textAreaBottom" fmla="*/ 2241360 h 2316240"/>
              </a:gdLst>
              <a:ahLst/>
              <a:rect l="textAreaLeft" t="textAreaTop" r="textAreaRight" b="textAreaBottom"/>
              <a:pathLst>
                <a:path w="21600" h="32529">
                  <a:moveTo>
                    <a:pt x="3600" y="0"/>
                  </a:moveTo>
                  <a:arcTo wR="3600" hR="3600" stAng="16200000" swAng="-5400000"/>
                  <a:lnTo>
                    <a:pt x="0" y="28929"/>
                  </a:lnTo>
                  <a:arcTo wR="3600" hR="3600" stAng="10800000" swAng="-5400000"/>
                  <a:lnTo>
                    <a:pt x="18000" y="325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нформацион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6157"/>
            <p:cNvSpPr/>
            <p:nvPr/>
          </p:nvSpPr>
          <p:spPr>
            <a:xfrm>
              <a:off x="3768120" y="3808080"/>
              <a:ext cx="1537920" cy="2316240"/>
            </a:xfrm>
            <a:custGeom>
              <a:avLst/>
              <a:gdLst>
                <a:gd name="textAreaLeft" fmla="*/ 74880 w 1537920"/>
                <a:gd name="textAreaRight" fmla="*/ 1463040 w 1537920"/>
                <a:gd name="textAreaTop" fmla="*/ 74880 h 2316240"/>
                <a:gd name="textAreaBottom" fmla="*/ 2241360 h 2316240"/>
              </a:gdLst>
              <a:ahLst/>
              <a:rect l="textAreaLeft" t="textAreaTop" r="textAreaRight" b="textAreaBottom"/>
              <a:pathLst>
                <a:path w="21600" h="32529">
                  <a:moveTo>
                    <a:pt x="3600" y="0"/>
                  </a:moveTo>
                  <a:arcTo wR="3600" hR="3600" stAng="16200000" swAng="-5400000"/>
                  <a:lnTo>
                    <a:pt x="0" y="28929"/>
                  </a:lnTo>
                  <a:arcTo wR="3600" hR="3600" stAng="10800000" swAng="-5400000"/>
                  <a:lnTo>
                    <a:pt x="18000" y="325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оммуникатив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6158"/>
            <p:cNvSpPr/>
            <p:nvPr/>
          </p:nvSpPr>
          <p:spPr>
            <a:xfrm>
              <a:off x="5562360" y="3808080"/>
              <a:ext cx="1535760" cy="2316240"/>
            </a:xfrm>
            <a:custGeom>
              <a:avLst/>
              <a:gdLst>
                <a:gd name="textAreaLeft" fmla="*/ 74880 w 1535760"/>
                <a:gd name="textAreaRight" fmla="*/ 1460880 w 1535760"/>
                <a:gd name="textAreaTop" fmla="*/ 74880 h 2316240"/>
                <a:gd name="textAreaBottom" fmla="*/ 2241360 h 2316240"/>
              </a:gdLst>
              <a:ahLst/>
              <a:rect l="textAreaLeft" t="textAreaTop" r="textAreaRight" b="textAreaBottom"/>
              <a:pathLst>
                <a:path w="21600" h="32575">
                  <a:moveTo>
                    <a:pt x="3600" y="0"/>
                  </a:moveTo>
                  <a:arcTo wR="3600" hR="3600" stAng="16200000" swAng="-5400000"/>
                  <a:lnTo>
                    <a:pt x="0" y="28975"/>
                  </a:lnTo>
                  <a:arcTo wR="3600" hR="3600" stAng="10800000" swAng="-5400000"/>
                  <a:lnTo>
                    <a:pt x="18000" y="325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исков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C882-7D4F-4B1A-836F-B7031B3ACFC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14a7c6851b3639b191849904bf03f4c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7640" y="1125000"/>
            <a:ext cx="547236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 на основе информационных технологий многогранен, эффективен, перспективен, неисчерпае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сновная школа в будущем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это школа проектов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DA2B-2AB8-435E-AA37-218C2817BC4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временных условиях гуманистическая философия образования реализуется с помощью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нообразн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целью которых является не только трансляция знаний, а выявление, развитие, рост творческих интересов и способностей каждого ребенка, стимулирование ег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мостоятель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дуктивно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из таких технологий и является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ектная метод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. М. Кантору </a:t>
            </a: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Georgia"/>
              </a:rPr>
              <a:t>проект</a:t>
            </a:r>
            <a:r>
              <a:rPr b="1" i="1" lang="ru-RU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это проявление творческой активности человеческого сознания, "через который в культуре осуществляется деятельностный переход от небытия к бытию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eople1"/>
          <p:cNvPicPr/>
          <p:nvPr/>
        </p:nvPicPr>
        <p:blipFill>
          <a:blip r:embed="rId1"/>
          <a:stretch/>
        </p:blipFill>
        <p:spPr>
          <a:xfrm>
            <a:off x="7020000" y="4653000"/>
            <a:ext cx="183204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F2A0-DAFC-4E35-A3A3-DFB4CD0A101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Georgia"/>
              </a:rPr>
              <a:t>Проект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учебно-трудовое задание, активизирующее деятельность учащихся, в результате которой ими создается продукт, обладающий субъективной, а иногда и объективной новиз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Georgia"/>
              </a:rPr>
              <a:t>Проект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самостоятельная творческая завершенная работа, выполняемая под руководством уч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"/>
          <p:cNvPicPr/>
          <p:nvPr/>
        </p:nvPicPr>
        <p:blipFill>
          <a:blip r:embed="rId1"/>
          <a:stretch/>
        </p:blipFill>
        <p:spPr>
          <a:xfrm>
            <a:off x="611280" y="260280"/>
            <a:ext cx="428400" cy="79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2"/>
          <p:cNvPicPr/>
          <p:nvPr/>
        </p:nvPicPr>
        <p:blipFill>
          <a:blip r:embed="rId2"/>
          <a:stretch/>
        </p:blipFill>
        <p:spPr>
          <a:xfrm>
            <a:off x="7956720" y="5013360"/>
            <a:ext cx="799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C15F-84E4-4C7A-9498-F73DF2A815E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ект – это 6 «П»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бл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ект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иск ин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ду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зент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2"/>
          <p:cNvPicPr/>
          <p:nvPr/>
        </p:nvPicPr>
        <p:blipFill>
          <a:blip r:embed="rId1"/>
          <a:stretch/>
        </p:blipFill>
        <p:spPr>
          <a:xfrm>
            <a:off x="539640" y="260280"/>
            <a:ext cx="542880" cy="797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BS01029_"/>
          <p:cNvPicPr/>
          <p:nvPr/>
        </p:nvPicPr>
        <p:blipFill>
          <a:blip r:embed="rId2"/>
          <a:stretch/>
        </p:blipFill>
        <p:spPr>
          <a:xfrm>
            <a:off x="684360" y="1989000"/>
            <a:ext cx="1644480" cy="1805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BS00851_"/>
          <p:cNvPicPr/>
          <p:nvPr/>
        </p:nvPicPr>
        <p:blipFill>
          <a:blip r:embed="rId3"/>
          <a:stretch/>
        </p:blipFill>
        <p:spPr>
          <a:xfrm>
            <a:off x="6804000" y="4581360"/>
            <a:ext cx="1674720" cy="180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BS00651_"/>
          <p:cNvPicPr/>
          <p:nvPr/>
        </p:nvPicPr>
        <p:blipFill>
          <a:blip r:embed="rId4"/>
          <a:stretch/>
        </p:blipFill>
        <p:spPr>
          <a:xfrm>
            <a:off x="468360" y="4292640"/>
            <a:ext cx="2181240" cy="192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BS00256_"/>
          <p:cNvPicPr/>
          <p:nvPr/>
        </p:nvPicPr>
        <p:blipFill>
          <a:blip r:embed="rId5"/>
          <a:stretch/>
        </p:blipFill>
        <p:spPr>
          <a:xfrm>
            <a:off x="7236000" y="2708280"/>
            <a:ext cx="143316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HM00493_"/>
          <p:cNvPicPr/>
          <p:nvPr/>
        </p:nvPicPr>
        <p:blipFill>
          <a:blip r:embed="rId6"/>
          <a:stretch/>
        </p:blipFill>
        <p:spPr>
          <a:xfrm>
            <a:off x="3780000" y="5295960"/>
            <a:ext cx="1758960" cy="1562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PE01722_"/>
          <p:cNvPicPr/>
          <p:nvPr/>
        </p:nvPicPr>
        <p:blipFill>
          <a:blip r:embed="rId7"/>
          <a:stretch/>
        </p:blipFill>
        <p:spPr>
          <a:xfrm>
            <a:off x="3132000" y="836640"/>
            <a:ext cx="259236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067E-1BB1-4B02-BAAC-00991318F36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ификация проект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3"/>
          <p:cNvPicPr/>
          <p:nvPr/>
        </p:nvPicPr>
        <p:blipFill>
          <a:blip r:embed="rId1"/>
          <a:stretch/>
        </p:blipFill>
        <p:spPr>
          <a:xfrm>
            <a:off x="493560" y="260280"/>
            <a:ext cx="549360" cy="792360"/>
          </a:xfrm>
          <a:prstGeom prst="rect">
            <a:avLst/>
          </a:prstGeom>
          <a:ln w="0">
            <a:noFill/>
          </a:ln>
        </p:spPr>
      </p:pic>
      <p:grpSp>
        <p:nvGrpSpPr>
          <p:cNvPr id="83" name="Organization Chart 7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84" name="_s1028"/>
            <p:cNvCxnSpPr>
              <a:stCxn id="85" idx="0"/>
              <a:endCxn id="86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29"/>
            <p:cNvCxnSpPr>
              <a:stCxn id="88" idx="0"/>
              <a:endCxn id="86" idx="2"/>
            </p:cNvCxnSpPr>
            <p:nvPr/>
          </p:nvCxnSpPr>
          <p:spPr>
            <a:xfrm flipV="1">
              <a:off x="4571280" y="3409200"/>
              <a:ext cx="324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030"/>
            <p:cNvCxnSpPr>
              <a:stCxn id="90" idx="0"/>
              <a:endCxn id="86" idx="2"/>
            </p:cNvCxnSpPr>
            <p:nvPr/>
          </p:nvCxnSpPr>
          <p:spPr>
            <a:xfrm flipH="1" flipV="1" rot="5400000">
              <a:off x="2678760" y="242172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6" name="_s1031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Monotype Corsiva"/>
                </a:rPr>
                <a:t>По доминирующей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Monotype Corsiva"/>
                </a:rPr>
                <a:t>деятельности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2900" spc="-1" strike="noStrike">
                  <a:solidFill>
                    <a:srgbClr val="000000"/>
                  </a:solidFill>
                  <a:latin typeface="Monotype Corsiva"/>
                </a:rPr>
                <a:t>учащихся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32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рактико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ориентированные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3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сследовательск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нформационны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4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ворческие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олевы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6" descr="DD00649_"/>
          <p:cNvPicPr/>
          <p:nvPr/>
        </p:nvPicPr>
        <p:blipFill>
          <a:blip r:embed="rId2"/>
          <a:stretch/>
        </p:blipFill>
        <p:spPr>
          <a:xfrm>
            <a:off x="7524720" y="3068640"/>
            <a:ext cx="1366920" cy="103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ED00316_"/>
          <p:cNvPicPr/>
          <p:nvPr/>
        </p:nvPicPr>
        <p:blipFill>
          <a:blip r:embed="rId3"/>
          <a:stretch/>
        </p:blipFill>
        <p:spPr>
          <a:xfrm>
            <a:off x="1547640" y="2565360"/>
            <a:ext cx="1597320" cy="123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BS02071_"/>
          <p:cNvPicPr/>
          <p:nvPr/>
        </p:nvPicPr>
        <p:blipFill>
          <a:blip r:embed="rId4"/>
          <a:stretch/>
        </p:blipFill>
        <p:spPr>
          <a:xfrm>
            <a:off x="243000" y="1268280"/>
            <a:ext cx="1220760" cy="144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BS01996_"/>
          <p:cNvPicPr/>
          <p:nvPr/>
        </p:nvPicPr>
        <p:blipFill>
          <a:blip r:embed="rId5"/>
          <a:stretch/>
        </p:blipFill>
        <p:spPr>
          <a:xfrm>
            <a:off x="6300720" y="1413000"/>
            <a:ext cx="18208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6638-36DD-4F8C-A89F-9093F29C65B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4"/>
          <p:cNvPicPr/>
          <p:nvPr/>
        </p:nvPicPr>
        <p:blipFill>
          <a:blip r:embed="rId1"/>
          <a:stretch/>
        </p:blipFill>
        <p:spPr>
          <a:xfrm>
            <a:off x="395280" y="189000"/>
            <a:ext cx="636480" cy="869760"/>
          </a:xfrm>
          <a:prstGeom prst="rect">
            <a:avLst/>
          </a:prstGeom>
          <a:ln w="0">
            <a:noFill/>
          </a:ln>
        </p:spPr>
      </p:pic>
      <p:grpSp>
        <p:nvGrpSpPr>
          <p:cNvPr id="98" name="Organization Chart 7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99" name="_s2052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2053"/>
            <p:cNvCxnSpPr>
              <a:stCxn id="103" idx="0"/>
              <a:endCxn id="101" idx="2"/>
            </p:cNvCxnSpPr>
            <p:nvPr/>
          </p:nvCxnSpPr>
          <p:spPr>
            <a:xfrm flipV="1">
              <a:off x="4571280" y="3409200"/>
              <a:ext cx="324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2054"/>
            <p:cNvCxnSpPr>
              <a:stCxn id="105" idx="0"/>
              <a:endCxn id="101" idx="2"/>
            </p:cNvCxnSpPr>
            <p:nvPr/>
          </p:nvCxnSpPr>
          <p:spPr>
            <a:xfrm flipH="1" flipV="1" rot="5400000">
              <a:off x="2678760" y="242172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1" name="_s2055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Monotype Corsiva"/>
                </a:rPr>
                <a:t>По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Monotype Corsiva"/>
                </a:rPr>
                <a:t>продолжительност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056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ини-проект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57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раткосрочные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8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одичны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17" descr="BS01626_"/>
          <p:cNvPicPr/>
          <p:nvPr/>
        </p:nvPicPr>
        <p:blipFill>
          <a:blip r:embed="rId2"/>
          <a:stretch/>
        </p:blipFill>
        <p:spPr>
          <a:xfrm>
            <a:off x="1332000" y="1413000"/>
            <a:ext cx="1041480" cy="18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BS01323_"/>
          <p:cNvPicPr/>
          <p:nvPr/>
        </p:nvPicPr>
        <p:blipFill>
          <a:blip r:embed="rId3"/>
          <a:stretch/>
        </p:blipFill>
        <p:spPr>
          <a:xfrm rot="785400">
            <a:off x="6516720" y="1341000"/>
            <a:ext cx="21607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9218-0325-43CC-A40F-A4B9C523684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5"/>
          <p:cNvPicPr/>
          <p:nvPr/>
        </p:nvPicPr>
        <p:blipFill>
          <a:blip r:embed="rId1"/>
          <a:stretch/>
        </p:blipFill>
        <p:spPr>
          <a:xfrm>
            <a:off x="468360" y="189000"/>
            <a:ext cx="600120" cy="869760"/>
          </a:xfrm>
          <a:prstGeom prst="rect">
            <a:avLst/>
          </a:prstGeom>
          <a:ln w="0">
            <a:noFill/>
          </a:ln>
        </p:spPr>
      </p:pic>
      <p:grpSp>
        <p:nvGrpSpPr>
          <p:cNvPr id="111" name="Organization Chart 7"/>
          <p:cNvGrpSpPr/>
          <p:nvPr/>
        </p:nvGrpSpPr>
        <p:grpSpPr>
          <a:xfrm>
            <a:off x="457200" y="1600200"/>
            <a:ext cx="8228520" cy="4524480"/>
            <a:chOff x="457200" y="1600200"/>
            <a:chExt cx="8228520" cy="4524480"/>
          </a:xfrm>
        </p:grpSpPr>
        <p:cxnSp>
          <p:nvCxnSpPr>
            <p:cNvPr id="112" name="_s3076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225760" y="2753640"/>
              <a:ext cx="905400" cy="2216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3077"/>
            <p:cNvCxnSpPr>
              <a:stCxn id="116" idx="0"/>
              <a:endCxn id="114" idx="2"/>
            </p:cNvCxnSpPr>
            <p:nvPr/>
          </p:nvCxnSpPr>
          <p:spPr>
            <a:xfrm flipH="1" flipV="1" rot="5400000">
              <a:off x="3010680" y="2754360"/>
              <a:ext cx="905400" cy="22154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_s3078"/>
            <p:cNvSpPr/>
            <p:nvPr/>
          </p:nvSpPr>
          <p:spPr>
            <a:xfrm>
              <a:off x="2671920" y="160020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100" spc="-1" strike="noStrike">
                  <a:solidFill>
                    <a:srgbClr val="000000"/>
                  </a:solidFill>
                  <a:latin typeface="Monotype Corsiva"/>
                </a:rPr>
                <a:t>По количеству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100" spc="-1" strike="noStrike">
                  <a:solidFill>
                    <a:srgbClr val="000000"/>
                  </a:solidFill>
                  <a:latin typeface="Monotype Corsiva"/>
                </a:rPr>
                <a:t>участников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079"/>
            <p:cNvSpPr/>
            <p:nvPr/>
          </p:nvSpPr>
          <p:spPr>
            <a:xfrm>
              <a:off x="457200" y="431496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индивидуальные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3080"/>
            <p:cNvSpPr/>
            <p:nvPr/>
          </p:nvSpPr>
          <p:spPr>
            <a:xfrm>
              <a:off x="4888080" y="431496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группов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17" descr="BS02067_"/>
          <p:cNvPicPr/>
          <p:nvPr/>
        </p:nvPicPr>
        <p:blipFill>
          <a:blip r:embed="rId2"/>
          <a:stretch/>
        </p:blipFill>
        <p:spPr>
          <a:xfrm>
            <a:off x="539640" y="2276640"/>
            <a:ext cx="1362240" cy="143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BS02091_"/>
          <p:cNvPicPr/>
          <p:nvPr/>
        </p:nvPicPr>
        <p:blipFill>
          <a:blip r:embed="rId3"/>
          <a:stretch/>
        </p:blipFill>
        <p:spPr>
          <a:xfrm>
            <a:off x="7236000" y="2349360"/>
            <a:ext cx="154764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8787-0401-46EE-8B0B-3A17E774B2F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 по форме продук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6"/>
          <p:cNvPicPr/>
          <p:nvPr/>
        </p:nvPicPr>
        <p:blipFill>
          <a:blip r:embed="rId1"/>
          <a:stretch/>
        </p:blipFill>
        <p:spPr>
          <a:xfrm>
            <a:off x="395280" y="189000"/>
            <a:ext cx="606600" cy="863640"/>
          </a:xfrm>
          <a:prstGeom prst="rect">
            <a:avLst/>
          </a:prstGeom>
          <a:ln w="0">
            <a:noFill/>
          </a:ln>
        </p:spPr>
      </p:pic>
      <p:grpSp>
        <p:nvGrpSpPr>
          <p:cNvPr id="122" name="Diagram 7"/>
          <p:cNvGrpSpPr/>
          <p:nvPr/>
        </p:nvGrpSpPr>
        <p:grpSpPr>
          <a:xfrm>
            <a:off x="2459160" y="1707840"/>
            <a:ext cx="4228920" cy="4151160"/>
            <a:chOff x="2459160" y="1707840"/>
            <a:chExt cx="4228920" cy="4151160"/>
          </a:xfrm>
        </p:grpSpPr>
        <p:sp>
          <p:nvSpPr>
            <p:cNvPr id="123" name="_s4100"/>
            <p:cNvSpPr/>
            <p:nvPr/>
          </p:nvSpPr>
          <p:spPr>
            <a:xfrm flipH="1" flipV="1">
              <a:off x="3728880" y="3190680"/>
              <a:ext cx="42408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4101"/>
            <p:cNvSpPr/>
            <p:nvPr/>
          </p:nvSpPr>
          <p:spPr>
            <a:xfrm>
              <a:off x="2770200" y="2317680"/>
              <a:ext cx="1077840" cy="107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чин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102"/>
            <p:cNvSpPr/>
            <p:nvPr/>
          </p:nvSpPr>
          <p:spPr>
            <a:xfrm flipH="1">
              <a:off x="3521160" y="3981240"/>
              <a:ext cx="52704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4103"/>
            <p:cNvSpPr/>
            <p:nvPr/>
          </p:nvSpPr>
          <p:spPr>
            <a:xfrm>
              <a:off x="2459160" y="3686040"/>
              <a:ext cx="1077840" cy="107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4104"/>
            <p:cNvSpPr/>
            <p:nvPr/>
          </p:nvSpPr>
          <p:spPr>
            <a:xfrm flipH="1">
              <a:off x="4105440" y="4346280"/>
              <a:ext cx="233280" cy="48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4105"/>
            <p:cNvSpPr/>
            <p:nvPr/>
          </p:nvSpPr>
          <p:spPr>
            <a:xfrm>
              <a:off x="3335400" y="4781520"/>
              <a:ext cx="1077840" cy="107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журна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4106"/>
            <p:cNvSpPr/>
            <p:nvPr/>
          </p:nvSpPr>
          <p:spPr>
            <a:xfrm>
              <a:off x="4805280" y="4346280"/>
              <a:ext cx="235080" cy="48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4107"/>
            <p:cNvSpPr/>
            <p:nvPr/>
          </p:nvSpPr>
          <p:spPr>
            <a:xfrm>
              <a:off x="4737240" y="4779720"/>
              <a:ext cx="1077840" cy="107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букл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4108"/>
            <p:cNvSpPr/>
            <p:nvPr/>
          </p:nvSpPr>
          <p:spPr>
            <a:xfrm>
              <a:off x="5095800" y="3982680"/>
              <a:ext cx="527040" cy="11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4109"/>
            <p:cNvSpPr/>
            <p:nvPr/>
          </p:nvSpPr>
          <p:spPr>
            <a:xfrm>
              <a:off x="5610240" y="3682800"/>
              <a:ext cx="1077840" cy="107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езент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4110"/>
            <p:cNvSpPr/>
            <p:nvPr/>
          </p:nvSpPr>
          <p:spPr>
            <a:xfrm flipV="1">
              <a:off x="4992840" y="3190680"/>
              <a:ext cx="42228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4111"/>
            <p:cNvSpPr/>
            <p:nvPr/>
          </p:nvSpPr>
          <p:spPr>
            <a:xfrm>
              <a:off x="5297400" y="2315880"/>
              <a:ext cx="1077840" cy="107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пектакл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112"/>
            <p:cNvSpPr/>
            <p:nvPr/>
          </p:nvSpPr>
          <p:spPr>
            <a:xfrm flipV="1">
              <a:off x="4572000" y="278388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4113"/>
            <p:cNvSpPr/>
            <p:nvPr/>
          </p:nvSpPr>
          <p:spPr>
            <a:xfrm>
              <a:off x="4033800" y="1707840"/>
              <a:ext cx="107784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газе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4114"/>
            <p:cNvSpPr/>
            <p:nvPr/>
          </p:nvSpPr>
          <p:spPr>
            <a:xfrm>
              <a:off x="4033800" y="3325680"/>
              <a:ext cx="1077840" cy="107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24" descr="BS00968_"/>
          <p:cNvPicPr/>
          <p:nvPr/>
        </p:nvPicPr>
        <p:blipFill>
          <a:blip r:embed="rId2"/>
          <a:stretch/>
        </p:blipFill>
        <p:spPr>
          <a:xfrm>
            <a:off x="3564000" y="3068640"/>
            <a:ext cx="18828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1:48:56Z</dcterms:created>
  <dc:creator>.</dc:creator>
  <dc:description/>
  <dc:language>en-US</dc:language>
  <cp:lastModifiedBy>Пользователь</cp:lastModifiedBy>
  <dcterms:modified xsi:type="dcterms:W3CDTF">2019-10-30T14:34:45Z</dcterms:modified>
  <cp:revision>7</cp:revision>
  <dc:subject/>
  <dc:title>Проектная деятельность учащихся</dc:title>
</cp:coreProperties>
</file>