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A86-7372-4CB3-AFDA-D927C3EC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88D-C40E-4225-BC11-ACC6E51A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0B4-E652-4211-9858-F637856D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0D7-F788-44E9-8CBF-B68EB8CC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49CD-F622-4F11-8B95-C944FAFD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F477-A2B9-4F17-A592-ED3D51E6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E601-B514-4F73-AF9D-A69FFCF8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D179-BECC-482C-8619-5A778340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24F4-FFE0-4A73-B267-2F8119F1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8E34-E27A-4AA9-80B8-E1B2DE41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F044-7E1C-4E22-AFDE-5D012ED4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BD5-D4B3-4298-91DB-78385F10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FBD8-26FF-4A0B-926F-64AD48B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6089-80A3-4E18-8C52-D6AD0C87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0C0B-F607-4DAC-90A7-BF15FE9C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6F4B-5B06-45E1-8D09-68A5DA85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25D6-5968-40D3-BA7F-FBE5FB94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02C-3C94-4C34-B467-18D97D4B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616-933A-4421-B7FB-A4943927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49F-6E09-475A-818D-AE5AABE5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AD1-3810-4B29-AD91-9216DF23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1E6-7166-48AD-B466-7E627BA0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46F-B3B2-42D6-827C-DDB17B3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C53-FBD1-40CB-AD26-19C5284A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97ffd5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AEBF-6A92-4A3B-AB7A-BF7BA5FF88F5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Багетная рамка 6"/>
          <p:cNvGrpSpPr/>
          <p:nvPr/>
        </p:nvGrpSpPr>
        <p:grpSpPr>
          <a:xfrm>
            <a:off x="-165240" y="-165240"/>
            <a:ext cx="9474480" cy="7188480"/>
            <a:chOff x="-165240" y="-165240"/>
            <a:chExt cx="9474480" cy="7188480"/>
          </a:xfrm>
        </p:grpSpPr>
        <p:pic>
          <p:nvPicPr>
            <p:cNvPr id="6" name="Багетная рамка 6" descr=""/>
            <p:cNvPicPr/>
            <p:nvPr/>
          </p:nvPicPr>
          <p:blipFill>
            <a:blip r:embed="rId3"/>
            <a:stretch/>
          </p:blipFill>
          <p:spPr>
            <a:xfrm>
              <a:off x="-165240" y="-165240"/>
              <a:ext cx="9474480" cy="718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65240" y="165240"/>
              <a:ext cx="8813520" cy="65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Багетная рамка 6"/>
          <p:cNvGrpSpPr/>
          <p:nvPr/>
        </p:nvGrpSpPr>
        <p:grpSpPr>
          <a:xfrm>
            <a:off x="-165240" y="-165240"/>
            <a:ext cx="9474480" cy="7188480"/>
            <a:chOff x="-165240" y="-165240"/>
            <a:chExt cx="9474480" cy="7188480"/>
          </a:xfrm>
        </p:grpSpPr>
        <p:pic>
          <p:nvPicPr>
            <p:cNvPr id="45" name="Багетная рамка 6" descr=""/>
            <p:cNvPicPr/>
            <p:nvPr/>
          </p:nvPicPr>
          <p:blipFill>
            <a:blip r:embed="rId3"/>
            <a:stretch/>
          </p:blipFill>
          <p:spPr>
            <a:xfrm>
              <a:off x="-165240" y="-165240"/>
              <a:ext cx="9474480" cy="718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65240" y="165240"/>
              <a:ext cx="8813520" cy="65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Рисунок 7" descr="0_5ddb9_5124e938_XL.png"/>
          <p:cNvPicPr/>
          <p:nvPr/>
        </p:nvPicPr>
        <p:blipFill>
          <a:blip r:embed="rId4"/>
          <a:stretch/>
        </p:blipFill>
        <p:spPr>
          <a:xfrm>
            <a:off x="12600" y="0"/>
            <a:ext cx="9145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97ffd5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82AA-8FE7-4E59-A21B-95B0EAF02051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576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0" name="Прямоугольник 5" descr=""/>
          <p:cNvPicPr/>
          <p:nvPr/>
        </p:nvPicPr>
        <p:blipFill>
          <a:blip r:embed="rId1"/>
          <a:stretch/>
        </p:blipFill>
        <p:spPr>
          <a:xfrm>
            <a:off x="480960" y="1712880"/>
            <a:ext cx="8182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5"/>
          <p:cNvSpPr/>
          <p:nvPr/>
        </p:nvSpPr>
        <p:spPr>
          <a:xfrm>
            <a:off x="817560" y="1928880"/>
            <a:ext cx="75088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954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«Заповедь ответственного человека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00200" y="164304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ственный человек не должен бы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гкомысленным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тливым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жадным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послушным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упы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ственный человек должен бы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стным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язательным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нительным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ёжным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вестливым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 хорошо развитым чувством долг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5"/>
          <p:cNvSpPr/>
          <p:nvPr/>
        </p:nvSpPr>
        <p:spPr>
          <a:xfrm>
            <a:off x="817560" y="1928880"/>
            <a:ext cx="75088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85880" y="571320"/>
            <a:ext cx="7858080" cy="5500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 ответе за ................., которым дали жизн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 ответе за .................., благодаря которым можем радоваться каждому дню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 ответе за .................., которая создаёт условия для нашей жиз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 ответе за ......................, которых привязали к себ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 ответе за ..............., которой занимаемс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 ответе за всё, что ...................................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.............. своей жиз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6:07:12Z</dcterms:created>
  <dc:creator>Admin</dc:creator>
  <dc:description/>
  <dc:language>en-US</dc:language>
  <cp:lastModifiedBy>cec_User</cp:lastModifiedBy>
  <dcterms:modified xsi:type="dcterms:W3CDTF">2016-10-28T08:48:33Z</dcterms:modified>
  <cp:revision>6</cp:revision>
  <dc:subject/>
  <dc:title>Слайд 1</dc:title>
</cp:coreProperties>
</file>