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408-3AB4-494D-846F-265C5214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0B7-E713-4508-9F26-248D01A5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9D0-8E1C-4DB7-A92A-1D656378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F29-BABB-459C-9842-161276C5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F41-0E24-4942-9C3F-BB2BA713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4EB-25A7-45B8-BD0F-F754D2BE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11D-84A2-4217-AF9F-68ADE166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985-7E88-49FD-A585-03B409F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9DF-C1AA-49AE-ADAA-04DBB8C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1D8-A72D-48BB-8F04-BE4677E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0FB-F934-4F9D-92FB-C798CB1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648-7DB9-47B6-A47B-C06DF51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3495-A3C4-4D44-82D3-7F08C3E37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8640" y="2133720"/>
            <a:ext cx="768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здател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ой письменност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714240" y="50720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же возникли наши буквы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чему они именно так изображаются на письм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каждый предмет, каждое событие получили свои наименова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D:\Мои документы\Мои рисунки\ЦЕРКОВЬ\АЗБУКА\БУКВИЦЫ\Letter_8.jpg"/>
          <p:cNvPicPr/>
          <p:nvPr/>
        </p:nvPicPr>
        <p:blipFill>
          <a:blip r:embed="rId2"/>
          <a:stretch/>
        </p:blipFill>
        <p:spPr>
          <a:xfrm>
            <a:off x="714240" y="3143160"/>
            <a:ext cx="98136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Мои документы\Мои рисунки\ЦЕРКОВЬ\АЗБУКА\БУКВИЦЫ\Letter_4.jpg"/>
          <p:cNvPicPr/>
          <p:nvPr/>
        </p:nvPicPr>
        <p:blipFill>
          <a:blip r:embed="rId3"/>
          <a:stretch/>
        </p:blipFill>
        <p:spPr>
          <a:xfrm>
            <a:off x="5072040" y="642960"/>
            <a:ext cx="1101600" cy="192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D:\Мои документы\Мои рисунки\ЦЕРКОВЬ\АЗБУКА\БУКВИЦЫ\Letter_6.jpg"/>
          <p:cNvPicPr/>
          <p:nvPr/>
        </p:nvPicPr>
        <p:blipFill>
          <a:blip r:embed="rId4"/>
          <a:stretch/>
        </p:blipFill>
        <p:spPr>
          <a:xfrm>
            <a:off x="6643800" y="3500280"/>
            <a:ext cx="101124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Рисунок2.jpg"/>
          <p:cNvPicPr/>
          <p:nvPr/>
        </p:nvPicPr>
        <p:blipFill>
          <a:blip r:embed="rId5"/>
          <a:stretch/>
        </p:blipFill>
        <p:spPr>
          <a:xfrm>
            <a:off x="500040" y="500040"/>
            <a:ext cx="204804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Рисунок3.jpg"/>
          <p:cNvPicPr/>
          <p:nvPr/>
        </p:nvPicPr>
        <p:blipFill>
          <a:blip r:embed="rId6"/>
          <a:stretch/>
        </p:blipFill>
        <p:spPr>
          <a:xfrm>
            <a:off x="3000240" y="1643040"/>
            <a:ext cx="2030400" cy="3214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Рисунок4.jpg"/>
          <p:cNvPicPr/>
          <p:nvPr/>
        </p:nvPicPr>
        <p:blipFill>
          <a:blip r:embed="rId7"/>
          <a:stretch/>
        </p:blipFill>
        <p:spPr>
          <a:xfrm>
            <a:off x="7000920" y="214200"/>
            <a:ext cx="1593720" cy="3000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3929040" y="1500120"/>
            <a:ext cx="521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и древнейших памятников славянской письменности особое и почетное место занимают жизнеописания создателей славянской грамоты — святых Кирилла и Мефод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Житие Константина Философа», «Житие Мефодия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хвальное слово Кириллу и Мефодию»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Рисунок7.png"/>
          <p:cNvPicPr/>
          <p:nvPr/>
        </p:nvPicPr>
        <p:blipFill>
          <a:blip r:embed="rId2"/>
          <a:stretch/>
        </p:blipFill>
        <p:spPr>
          <a:xfrm>
            <a:off x="208080" y="208080"/>
            <a:ext cx="8654760" cy="938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031760" y="357120"/>
            <a:ext cx="73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Из жизнеописаний Кирилла и Мефо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Мои документы\Мои рисунки\ИСТОРИЯ\ПАМЯТНИКИ\ПАМЯТНИКИ\памятник свв Кириллу и Мефодию скульптор ВМКлыков 1992 москва.jpg"/>
          <p:cNvPicPr/>
          <p:nvPr/>
        </p:nvPicPr>
        <p:blipFill>
          <a:blip r:embed="rId3"/>
          <a:stretch/>
        </p:blipFill>
        <p:spPr>
          <a:xfrm>
            <a:off x="428760" y="1285920"/>
            <a:ext cx="3346200" cy="5422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42920" y="528624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том, что письменность проникла на Русь до принятия христианства, то есть до 988 года, свидетельствуют договоры князей Олега и Игоря с гре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0" y="4572000"/>
            <a:ext cx="88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ереговоры об условиях мирного договора между Олегом и византийским императором Львом VI, и его братом Александром. Миниатюра Радзивилловской лето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907 Переговоры об условиях мирного договора между Олегом и византийским императором Львом VI, и его братом Александром. Миниатюра Рад.jpg"/>
          <p:cNvPicPr/>
          <p:nvPr/>
        </p:nvPicPr>
        <p:blipFill>
          <a:blip r:embed="rId2"/>
          <a:stretch/>
        </p:blipFill>
        <p:spPr>
          <a:xfrm>
            <a:off x="571680" y="285840"/>
            <a:ext cx="7751520" cy="4325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Рисунок7.png"/>
          <p:cNvPicPr/>
          <p:nvPr/>
        </p:nvPicPr>
        <p:blipFill>
          <a:blip r:embed="rId2"/>
          <a:stretch/>
        </p:blipFill>
        <p:spPr>
          <a:xfrm>
            <a:off x="208080" y="-6480"/>
            <a:ext cx="8654760" cy="93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1597680" y="142920"/>
            <a:ext cx="58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очитание Кирилла и Мефо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357120" y="47149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ирилл и Мефодий прославляются как просветители славян во всем христианском мире. Память их празднуется 24 мая. Этот день особенно торжественно отмечается в Болгарии. Там совершаются праздничные шествия с буквами славянской азбуки и иконами святых брат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8" descr="Мукачево. Центр. Памятник равноапостольным Кириллу и Мефодию. ахтырск..jpg"/>
          <p:cNvPicPr/>
          <p:nvPr/>
        </p:nvPicPr>
        <p:blipFill>
          <a:blip r:embed="rId3"/>
          <a:stretch/>
        </p:blipFill>
        <p:spPr>
          <a:xfrm>
            <a:off x="1428840" y="928800"/>
            <a:ext cx="556560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4643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иная с 1987 года и в нашей стране в этот день стал проводиться праздник славянской письменности и культуры. Русский народ отдает дань памяти и благодарности «славянских стран учителям, источник богопознания нам источившим». Это слова из церковных песнопений в день памяти Кирилла и Мефод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270666.jpg"/>
          <p:cNvPicPr/>
          <p:nvPr/>
        </p:nvPicPr>
        <p:blipFill>
          <a:blip r:embed="rId2"/>
          <a:stretch/>
        </p:blipFill>
        <p:spPr>
          <a:xfrm>
            <a:off x="1643040" y="285840"/>
            <a:ext cx="514368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ченков И.В.</cp:lastModifiedBy>
  <dcterms:modified xsi:type="dcterms:W3CDTF">2019-11-04T17:25:02Z</dcterms:modified>
  <cp:revision>95</cp:revision>
  <dc:subject/>
  <dc:title>Слайд 1</dc:title>
</cp:coreProperties>
</file>