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B85-3868-4715-9DAD-7454D901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E7F-7835-4F41-8C62-5AAC3C5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B11-C694-4BFD-A584-6A351486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3A0-7686-49E9-84FA-DAAEB266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591-F408-40F1-901B-C14770FB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A00-18C9-4034-8432-51BF1E7C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922-55B0-49BA-93EA-B2B6D3BA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ACB-39D4-427E-83DF-A0E4ADD7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5B5-B04C-449C-8887-2EFAFBB6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13D-44D8-4676-A3F7-2C4C382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B48-F527-4913-8CE9-8641371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8C4-976C-4C5C-82E2-A7C3031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5457-7067-48DC-9B2D-9689181E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27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́нская война́ в Росси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76960" y="30481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11804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28320" y="316080"/>
            <a:ext cx="38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жданская войн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   дата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57800" cy="37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62520" y="3276720"/>
            <a:ext cx="4752720" cy="34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320" y="38088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лаге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жданской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иллюстрациях какие лаге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760" y="36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7748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Управляющая кнопка: настраиваемая 7"/>
          <p:cNvGrpSpPr/>
          <p:nvPr/>
        </p:nvGrpSpPr>
        <p:grpSpPr>
          <a:xfrm>
            <a:off x="0" y="1981080"/>
            <a:ext cx="2011320" cy="2286000"/>
            <a:chOff x="0" y="1981080"/>
            <a:chExt cx="2011320" cy="2286000"/>
          </a:xfrm>
        </p:grpSpPr>
        <p:pic>
          <p:nvPicPr>
            <p:cNvPr id="52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200" y="203508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иодизация Гражданской вой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Управляющая кнопка: настраиваемая 7"/>
          <p:cNvGrpSpPr/>
          <p:nvPr/>
        </p:nvGrpSpPr>
        <p:grpSpPr>
          <a:xfrm>
            <a:off x="7086600" y="2057400"/>
            <a:ext cx="1295280" cy="1371600"/>
            <a:chOff x="7086600" y="2057400"/>
            <a:chExt cx="1295280" cy="1371600"/>
          </a:xfrm>
        </p:grpSpPr>
        <p:pic>
          <p:nvPicPr>
            <p:cNvPr id="55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086600" y="2057400"/>
              <a:ext cx="12952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137360" y="2089800"/>
              <a:ext cx="1195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Управляющая кнопка: настраиваемая 7"/>
          <p:cNvGrpSpPr/>
          <p:nvPr/>
        </p:nvGrpSpPr>
        <p:grpSpPr>
          <a:xfrm>
            <a:off x="5715000" y="3809880"/>
            <a:ext cx="1249200" cy="1371600"/>
            <a:chOff x="5715000" y="3809880"/>
            <a:chExt cx="1249200" cy="1371600"/>
          </a:xfrm>
        </p:grpSpPr>
        <p:pic>
          <p:nvPicPr>
            <p:cNvPr id="58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249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763960" y="3842280"/>
              <a:ext cx="1153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Управляющая кнопка: настраиваемая 7"/>
          <p:cNvGrpSpPr/>
          <p:nvPr/>
        </p:nvGrpSpPr>
        <p:grpSpPr>
          <a:xfrm>
            <a:off x="5638680" y="2057400"/>
            <a:ext cx="1249560" cy="1447920"/>
            <a:chOff x="5638680" y="2057400"/>
            <a:chExt cx="1249560" cy="1447920"/>
          </a:xfrm>
        </p:grpSpPr>
        <p:pic>
          <p:nvPicPr>
            <p:cNvPr id="61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38680" y="2057400"/>
              <a:ext cx="1249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687640" y="2091600"/>
              <a:ext cx="11538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Управляющая кнопка: настраиваемая 7"/>
          <p:cNvGrpSpPr/>
          <p:nvPr/>
        </p:nvGrpSpPr>
        <p:grpSpPr>
          <a:xfrm>
            <a:off x="3124080" y="3276720"/>
            <a:ext cx="2011320" cy="2286000"/>
            <a:chOff x="3124080" y="3276720"/>
            <a:chExt cx="2011320" cy="2286000"/>
          </a:xfrm>
        </p:grpSpPr>
        <p:pic>
          <p:nvPicPr>
            <p:cNvPr id="64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3124080" y="327672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03280" y="333072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Управляющая кнопка: настраиваемая 7"/>
          <p:cNvGrpSpPr/>
          <p:nvPr/>
        </p:nvGrpSpPr>
        <p:grpSpPr>
          <a:xfrm>
            <a:off x="3048120" y="228600"/>
            <a:ext cx="2011320" cy="2286000"/>
            <a:chOff x="3048120" y="228600"/>
            <a:chExt cx="2011320" cy="2286000"/>
          </a:xfrm>
        </p:grpSpPr>
        <p:pic>
          <p:nvPicPr>
            <p:cNvPr id="67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048120" y="228600"/>
              <a:ext cx="2011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127320" y="282600"/>
              <a:ext cx="18572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Управляющая кнопка: настраиваемая 7"/>
          <p:cNvGrpSpPr/>
          <p:nvPr/>
        </p:nvGrpSpPr>
        <p:grpSpPr>
          <a:xfrm>
            <a:off x="7162920" y="4648320"/>
            <a:ext cx="1218960" cy="1371600"/>
            <a:chOff x="7162920" y="4648320"/>
            <a:chExt cx="1218960" cy="1371600"/>
          </a:xfrm>
        </p:grpSpPr>
        <p:pic>
          <p:nvPicPr>
            <p:cNvPr id="70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162920" y="4648320"/>
              <a:ext cx="1218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10800" y="4680720"/>
              <a:ext cx="1125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981080" y="12949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124080"/>
            <a:ext cx="1219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4864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05520" y="26668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105520" y="34290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191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3808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олните пропуски в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5880" y="3049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0120" y="838080"/>
            <a:ext cx="18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кт. 1917 – весна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ока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28600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то-ос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скал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560" y="2209680"/>
            <a:ext cx="11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кабрь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июнь 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ух лаге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962520"/>
            <a:ext cx="121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ень 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92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2227320" cy="323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1360" y="152280"/>
            <a:ext cx="83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Что объединяет этих людей? Напишите районы их военной деятельнос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373392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63240" cy="701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0" y="667368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пределите районы охваченные интерв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4290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600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2743200"/>
            <a:ext cx="91440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419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6640" y="60480"/>
            <a:ext cx="761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акую роль в годы Гражданской войны сыграл город обозначенный  на кар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6840" y="228600"/>
            <a:ext cx="64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Кто изображён на картине? Что вы знаете о судьбе этих девуше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19:18Z</dcterms:created>
  <dc:creator>Владелец</dc:creator>
  <dc:description/>
  <dc:language>en-US</dc:language>
  <cp:lastModifiedBy>Ларченков И.В.</cp:lastModifiedBy>
  <dcterms:modified xsi:type="dcterms:W3CDTF">2017-01-09T10:33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