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CD60-06B9-4749-969A-4E2343B31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29F5-CB6D-453A-9F9F-F482A839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B1BC-D328-4A28-B6AC-C6FDFCCF6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4446-F499-4D67-91F1-B316FD92C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6E30-9CCE-4908-A712-D07F5946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12A9-4641-4287-A049-EAA21E84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2681-0E35-4F95-B887-1ABE573A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F3C5-8FDD-4E89-BE3A-12289E5F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446A-2CEA-46F0-98B5-962EBA20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8E90-76EA-47A5-890F-134F52F3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C8D7-6DE8-4DF0-9C5A-73AC2EE0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2788-18D5-4EEC-8C7A-037B91D4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CAF4-7F2D-42DD-8B53-4C0D274A6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2275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ажда́нская война́ в Росси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76960" y="3048120"/>
            <a:ext cx="2867040" cy="3809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4118040"/>
            <a:ext cx="4114800" cy="2739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28320" y="316080"/>
            <a:ext cx="387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ажданская война 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   дата    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5257800" cy="3711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962520" y="3276720"/>
            <a:ext cx="4752720" cy="3409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638320" y="380880"/>
            <a:ext cx="327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ва лаге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ажданской вой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Определите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иллюстрациях какие лагер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1760" y="36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77480" y="2932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Управляющая кнопка: настраиваемая 7"/>
          <p:cNvGrpSpPr/>
          <p:nvPr/>
        </p:nvGrpSpPr>
        <p:grpSpPr>
          <a:xfrm>
            <a:off x="0" y="1981080"/>
            <a:ext cx="2011320" cy="2286000"/>
            <a:chOff x="0" y="1981080"/>
            <a:chExt cx="2011320" cy="2286000"/>
          </a:xfrm>
        </p:grpSpPr>
        <p:pic>
          <p:nvPicPr>
            <p:cNvPr id="52" name="Управляющая кнопка: настраиваемая 7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0" y="1981080"/>
              <a:ext cx="20113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79200" y="2035080"/>
              <a:ext cx="185724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иодизация Гражданской вой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Управляющая кнопка: настраиваемая 7"/>
          <p:cNvGrpSpPr/>
          <p:nvPr/>
        </p:nvGrpSpPr>
        <p:grpSpPr>
          <a:xfrm>
            <a:off x="7086600" y="2057400"/>
            <a:ext cx="1295280" cy="1371600"/>
            <a:chOff x="7086600" y="2057400"/>
            <a:chExt cx="1295280" cy="1371600"/>
          </a:xfrm>
        </p:grpSpPr>
        <p:pic>
          <p:nvPicPr>
            <p:cNvPr id="55" name="Управляющая кнопка: настраиваемая 7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086600" y="2057400"/>
              <a:ext cx="12952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137360" y="2089800"/>
              <a:ext cx="119592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Управляющая кнопка: настраиваемая 7"/>
          <p:cNvGrpSpPr/>
          <p:nvPr/>
        </p:nvGrpSpPr>
        <p:grpSpPr>
          <a:xfrm>
            <a:off x="5715000" y="3809880"/>
            <a:ext cx="1249200" cy="1371600"/>
            <a:chOff x="5715000" y="3809880"/>
            <a:chExt cx="1249200" cy="1371600"/>
          </a:xfrm>
        </p:grpSpPr>
        <p:pic>
          <p:nvPicPr>
            <p:cNvPr id="58" name="Управляющая кнопка: настраиваемая 7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5715000" y="3809880"/>
              <a:ext cx="12492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763960" y="3842280"/>
              <a:ext cx="115344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Управляющая кнопка: настраиваемая 7"/>
          <p:cNvGrpSpPr/>
          <p:nvPr/>
        </p:nvGrpSpPr>
        <p:grpSpPr>
          <a:xfrm>
            <a:off x="5638680" y="2057400"/>
            <a:ext cx="1249560" cy="1447920"/>
            <a:chOff x="5638680" y="2057400"/>
            <a:chExt cx="1249560" cy="1447920"/>
          </a:xfrm>
        </p:grpSpPr>
        <p:pic>
          <p:nvPicPr>
            <p:cNvPr id="61" name="Управляющая кнопка: настраиваемая 7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5638680" y="2057400"/>
              <a:ext cx="124956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687640" y="2091600"/>
              <a:ext cx="115380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Управляющая кнопка: настраиваемая 7"/>
          <p:cNvGrpSpPr/>
          <p:nvPr/>
        </p:nvGrpSpPr>
        <p:grpSpPr>
          <a:xfrm>
            <a:off x="3124080" y="3276720"/>
            <a:ext cx="2011320" cy="2286000"/>
            <a:chOff x="3124080" y="3276720"/>
            <a:chExt cx="2011320" cy="2286000"/>
          </a:xfrm>
        </p:grpSpPr>
        <p:pic>
          <p:nvPicPr>
            <p:cNvPr id="64" name="Управляющая кнопка: настраиваемая 7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3124080" y="3276720"/>
              <a:ext cx="20113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203280" y="3330720"/>
              <a:ext cx="185724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Управляющая кнопка: настраиваемая 7"/>
          <p:cNvGrpSpPr/>
          <p:nvPr/>
        </p:nvGrpSpPr>
        <p:grpSpPr>
          <a:xfrm>
            <a:off x="3048120" y="228600"/>
            <a:ext cx="2011320" cy="2286000"/>
            <a:chOff x="3048120" y="228600"/>
            <a:chExt cx="2011320" cy="2286000"/>
          </a:xfrm>
        </p:grpSpPr>
        <p:pic>
          <p:nvPicPr>
            <p:cNvPr id="67" name="Управляющая кнопка: настраиваемая 7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3048120" y="228600"/>
              <a:ext cx="20113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127320" y="282600"/>
              <a:ext cx="185724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Управляющая кнопка: настраиваемая 7"/>
          <p:cNvGrpSpPr/>
          <p:nvPr/>
        </p:nvGrpSpPr>
        <p:grpSpPr>
          <a:xfrm>
            <a:off x="7162920" y="4648320"/>
            <a:ext cx="1218960" cy="1371600"/>
            <a:chOff x="7162920" y="4648320"/>
            <a:chExt cx="1218960" cy="1371600"/>
          </a:xfrm>
        </p:grpSpPr>
        <p:pic>
          <p:nvPicPr>
            <p:cNvPr id="70" name="Управляющая кнопка: настраиваемая 7" descr="">
              <a:hlinkClick r:id="" action="ppaction://hlinkshowjump?jump=nextslide"/>
            </p:cNvPr>
            <p:cNvPicPr/>
            <p:nvPr/>
          </p:nvPicPr>
          <p:blipFill>
            <a:blip r:embed="rId7"/>
            <a:stretch/>
          </p:blipFill>
          <p:spPr>
            <a:xfrm>
              <a:off x="7162920" y="4648320"/>
              <a:ext cx="12189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7210800" y="4680720"/>
              <a:ext cx="112536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 flipV="1">
            <a:off x="1981080" y="12949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3124080"/>
            <a:ext cx="12193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5486400"/>
            <a:ext cx="2133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105520" y="26668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105520" y="3429000"/>
            <a:ext cx="2209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41911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87840" y="380880"/>
            <a:ext cx="32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олните пропуски в сх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25880" y="3049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20120" y="838080"/>
            <a:ext cx="184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кт. 1917 – весна 19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локаль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48480" y="3998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2286000"/>
            <a:ext cx="98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ето-ос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Эскал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нфли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560" y="2209680"/>
            <a:ext cx="11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екабрь 19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июнь 19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олкнов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вух лагер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15000" y="3962520"/>
            <a:ext cx="1219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вина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ень 19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а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1920" y="502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04920" y="41148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343400" y="685800"/>
            <a:ext cx="4114800" cy="2314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572000" y="3505320"/>
            <a:ext cx="3733920" cy="2800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85800" y="533520"/>
            <a:ext cx="2227320" cy="3238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31360" y="152280"/>
            <a:ext cx="83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Что объединяет этих людей? Напишите районы их военной деятельност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6040" y="3733920"/>
            <a:ext cx="9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ч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363240" cy="7010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32400" y="6673680"/>
            <a:ext cx="526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Определите районы охваченные интервен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514600"/>
            <a:ext cx="914400" cy="9144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умы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429000"/>
            <a:ext cx="914400" cy="9144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ерм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1600200"/>
            <a:ext cx="914400" cy="9144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нгл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29600" y="2743200"/>
            <a:ext cx="914400" cy="9144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по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590400"/>
            <a:ext cx="9144000" cy="6267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828800" y="44197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6640" y="60480"/>
            <a:ext cx="761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Какую роль в годы Гражданской войны сыграл город обозначенный  на карт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11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46840" y="228600"/>
            <a:ext cx="649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Кто изображён на картине? Что вы знаете о судьбе этих девушек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9T09:19:18Z</dcterms:created>
  <dc:creator>Владелец</dc:creator>
  <dc:description/>
  <dc:language>en-US</dc:language>
  <cp:lastModifiedBy>Ларченков И.В.</cp:lastModifiedBy>
  <dcterms:modified xsi:type="dcterms:W3CDTF">2017-01-09T10:33:4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