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7219-3F27-49C3-9461-AB4777B7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B491-BB5F-4B83-B501-185EA1BC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1301-7C90-4C9E-8989-11373798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C32D-63E8-4F73-A9A5-A40FC7A3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ED40-E5BC-4A65-BE06-26AB449F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40E-1122-462B-AB8D-9B387126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72B9-BA3C-47CA-8035-47372237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86C8-1972-4211-81DF-380B24E5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6E3D-3612-4FF7-95D7-0C2BA54A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82E5-624B-4935-A5E3-79FA6F6E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D8E5-2329-44FD-BFDC-C9A17C85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63FA-5C2C-4EB7-AA42-BFB09D0A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CE0B-677E-43CC-963B-801CFD71B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227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жда́нская война́ в Росси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76960" y="3048120"/>
            <a:ext cx="2867040" cy="3809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4118040"/>
            <a:ext cx="4114800" cy="2739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28320" y="316080"/>
            <a:ext cx="38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ажданская война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   дата   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5257800" cy="3711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62520" y="3276720"/>
            <a:ext cx="4752720" cy="3409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38320" y="380880"/>
            <a:ext cx="327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ва лаге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жданской вой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Определит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иллюстрациях какие лагер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1760" y="36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77480" y="293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Управляющая кнопка: настраиваемая 7"/>
          <p:cNvGrpSpPr/>
          <p:nvPr/>
        </p:nvGrpSpPr>
        <p:grpSpPr>
          <a:xfrm>
            <a:off x="0" y="1981080"/>
            <a:ext cx="2011320" cy="2286000"/>
            <a:chOff x="0" y="1981080"/>
            <a:chExt cx="2011320" cy="2286000"/>
          </a:xfrm>
        </p:grpSpPr>
        <p:pic>
          <p:nvPicPr>
            <p:cNvPr id="52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0" y="1981080"/>
              <a:ext cx="20113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79200" y="2035080"/>
              <a:ext cx="185724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иодизация Гражданской вой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Управляющая кнопка: настраиваемая 7"/>
          <p:cNvGrpSpPr/>
          <p:nvPr/>
        </p:nvGrpSpPr>
        <p:grpSpPr>
          <a:xfrm>
            <a:off x="7086600" y="2057400"/>
            <a:ext cx="1295280" cy="1371600"/>
            <a:chOff x="7086600" y="2057400"/>
            <a:chExt cx="1295280" cy="1371600"/>
          </a:xfrm>
        </p:grpSpPr>
        <p:pic>
          <p:nvPicPr>
            <p:cNvPr id="55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086600" y="2057400"/>
              <a:ext cx="12952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137360" y="2089800"/>
              <a:ext cx="119592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Управляющая кнопка: настраиваемая 7"/>
          <p:cNvGrpSpPr/>
          <p:nvPr/>
        </p:nvGrpSpPr>
        <p:grpSpPr>
          <a:xfrm>
            <a:off x="5715000" y="3809880"/>
            <a:ext cx="1249200" cy="1371600"/>
            <a:chOff x="5715000" y="3809880"/>
            <a:chExt cx="1249200" cy="1371600"/>
          </a:xfrm>
        </p:grpSpPr>
        <p:pic>
          <p:nvPicPr>
            <p:cNvPr id="58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5715000" y="3809880"/>
              <a:ext cx="12492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763960" y="3842280"/>
              <a:ext cx="115344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Управляющая кнопка: настраиваемая 7"/>
          <p:cNvGrpSpPr/>
          <p:nvPr/>
        </p:nvGrpSpPr>
        <p:grpSpPr>
          <a:xfrm>
            <a:off x="5638680" y="2057400"/>
            <a:ext cx="1249560" cy="1447920"/>
            <a:chOff x="5638680" y="2057400"/>
            <a:chExt cx="1249560" cy="1447920"/>
          </a:xfrm>
        </p:grpSpPr>
        <p:pic>
          <p:nvPicPr>
            <p:cNvPr id="61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5638680" y="2057400"/>
              <a:ext cx="12495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687640" y="2091600"/>
              <a:ext cx="115380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Управляющая кнопка: настраиваемая 7"/>
          <p:cNvGrpSpPr/>
          <p:nvPr/>
        </p:nvGrpSpPr>
        <p:grpSpPr>
          <a:xfrm>
            <a:off x="3124080" y="3276720"/>
            <a:ext cx="2011320" cy="2286000"/>
            <a:chOff x="3124080" y="3276720"/>
            <a:chExt cx="2011320" cy="2286000"/>
          </a:xfrm>
        </p:grpSpPr>
        <p:pic>
          <p:nvPicPr>
            <p:cNvPr id="64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3124080" y="3276720"/>
              <a:ext cx="20113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203280" y="3330720"/>
              <a:ext cx="185724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Управляющая кнопка: настраиваемая 7"/>
          <p:cNvGrpSpPr/>
          <p:nvPr/>
        </p:nvGrpSpPr>
        <p:grpSpPr>
          <a:xfrm>
            <a:off x="3048120" y="228600"/>
            <a:ext cx="2011320" cy="2286000"/>
            <a:chOff x="3048120" y="228600"/>
            <a:chExt cx="2011320" cy="2286000"/>
          </a:xfrm>
        </p:grpSpPr>
        <p:pic>
          <p:nvPicPr>
            <p:cNvPr id="67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3048120" y="228600"/>
              <a:ext cx="20113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127320" y="282600"/>
              <a:ext cx="185724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Управляющая кнопка: настраиваемая 7"/>
          <p:cNvGrpSpPr/>
          <p:nvPr/>
        </p:nvGrpSpPr>
        <p:grpSpPr>
          <a:xfrm>
            <a:off x="7162920" y="4648320"/>
            <a:ext cx="1218960" cy="1371600"/>
            <a:chOff x="7162920" y="4648320"/>
            <a:chExt cx="1218960" cy="1371600"/>
          </a:xfrm>
        </p:grpSpPr>
        <p:pic>
          <p:nvPicPr>
            <p:cNvPr id="70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7"/>
            <a:stretch/>
          </p:blipFill>
          <p:spPr>
            <a:xfrm>
              <a:off x="7162920" y="4648320"/>
              <a:ext cx="12189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7210800" y="4680720"/>
              <a:ext cx="112536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flipV="1">
            <a:off x="1981080" y="12949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3124080"/>
            <a:ext cx="1219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548640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105520" y="26668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105520" y="3429000"/>
            <a:ext cx="2209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4191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87840" y="38088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олните пропуски в сх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5880" y="3049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0120" y="838080"/>
            <a:ext cx="184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кт. 1917 – весна 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локаль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48480" y="3998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2286000"/>
            <a:ext cx="98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ето-ос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Эскал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нфли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560" y="2209680"/>
            <a:ext cx="11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екабрь 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июнь 19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олкнов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вух лагер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3962520"/>
            <a:ext cx="1219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ина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ень 19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а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920" y="50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4920" y="41148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343400" y="685800"/>
            <a:ext cx="4114800" cy="2314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572000" y="3505320"/>
            <a:ext cx="3733920" cy="2800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85800" y="533520"/>
            <a:ext cx="2227320" cy="3238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31360" y="152280"/>
            <a:ext cx="83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Что объединяет этих людей? Напишите районы их военной деятельност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6040" y="3733920"/>
            <a:ext cx="9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ч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363240" cy="7010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32400" y="6673680"/>
            <a:ext cx="52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Определите районы охваченные интервен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514600"/>
            <a:ext cx="914400" cy="9144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умы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429000"/>
            <a:ext cx="914400" cy="9144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1600200"/>
            <a:ext cx="914400" cy="9144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нг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29600" y="2743200"/>
            <a:ext cx="914400" cy="9144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по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590400"/>
            <a:ext cx="9144000" cy="6267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828800" y="44197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6640" y="60480"/>
            <a:ext cx="761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Какую роль в годы Гражданской войны сыграл город обозначенный  на карт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1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6840" y="228600"/>
            <a:ext cx="649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Кто изображён на картине? Что вы знаете о судьбе этих девушек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9T09:19:18Z</dcterms:created>
  <dc:creator>Владелец</dc:creator>
  <dc:description/>
  <dc:language>en-US</dc:language>
  <cp:lastModifiedBy>Ларченков И.В.</cp:lastModifiedBy>
  <dcterms:modified xsi:type="dcterms:W3CDTF">2017-01-09T10:33:4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