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86F6-A637-42D1-90D9-905D22B1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14F9-A5D6-41E1-915F-1E91B3AA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F174-4E79-476A-A9F0-2851725F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B529-4112-4CC7-A82C-7C947EB0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1C97-8565-4E49-AF74-D5625D26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4CBB-AD13-4C22-852A-2D5C203B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09C4-8979-497E-95B2-146064AB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B530-B546-41CD-8A62-BA7D7AF2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AEFB-8DC4-45C6-A67A-C9497052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0588-872C-4AA4-B935-1CAD5DFB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3B1C-78A8-4666-929C-8D9AB342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9FE6-F125-4C9D-9B3A-E15BBAC1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583C-107C-4AAA-A545-033C90B2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6470-8E7C-415D-8587-22E6698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D718-2617-47D1-8F22-78F12592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E89B-3758-414C-9FEB-13A92FAD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349B-866A-4D13-ADB8-6F22A439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778E-26C4-4123-BE14-A84AC33F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6F92-D21F-439C-BDA5-B0EC119B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1EBB-1365-4F29-B646-9C06D0AA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DC73-399E-42AF-A6E7-218CD973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5FEA-0DC9-4AE3-947C-BE281201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A56BE-9E3A-4C5D-83C5-491E1318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0A24-2C7F-4F27-BE23-9A421C93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417D-CDD0-4A7D-85B3-B2C1DFD06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7958-BCE7-43F1-8EC6-6BE1E3763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227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жда́нская война́ в Росси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17 — 192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76960" y="3048120"/>
            <a:ext cx="286704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4118040"/>
            <a:ext cx="41148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Управляющая кнопка: настраиваемая 7"/>
          <p:cNvGrpSpPr/>
          <p:nvPr/>
        </p:nvGrpSpPr>
        <p:grpSpPr>
          <a:xfrm>
            <a:off x="-79200" y="2017800"/>
            <a:ext cx="2017440" cy="2286000"/>
            <a:chOff x="-79200" y="2017800"/>
            <a:chExt cx="2017440" cy="2286000"/>
          </a:xfrm>
        </p:grpSpPr>
        <p:pic>
          <p:nvPicPr>
            <p:cNvPr id="203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2017800"/>
              <a:ext cx="2017440" cy="2286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4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т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жданской вой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Выноска 1 (граница и черта) 6"/>
          <p:cNvSpPr/>
          <p:nvPr/>
        </p:nvSpPr>
        <p:spPr>
          <a:xfrm>
            <a:off x="3357720" y="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52" y="6269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омышленное производство уменьшилось в 7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Выноска 1 (граница и черта) 1"/>
          <p:cNvSpPr/>
          <p:nvPr/>
        </p:nvSpPr>
        <p:spPr>
          <a:xfrm>
            <a:off x="3357720" y="121428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1" y="3903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обыча угля и нефти находилась на уровне конца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Выноска 1 (граница и черта) 3"/>
          <p:cNvSpPr/>
          <p:nvPr/>
        </p:nvSpPr>
        <p:spPr>
          <a:xfrm>
            <a:off x="3357720" y="242892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11411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зко сократились посевные площади; валовая продукция сельского хозяйства составляла 67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%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довоен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Выноска 1 (граница и черта) 4"/>
          <p:cNvSpPr/>
          <p:nvPr/>
        </p:nvSpPr>
        <p:spPr>
          <a:xfrm>
            <a:off x="3357720" y="3786120"/>
            <a:ext cx="5786280" cy="9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48" y="-1546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род был измучен. Не хватало одежды, обуви, медикаментов; Резко возросла детская беспризор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Выноска 1 (граница и черта) 5"/>
          <p:cNvSpPr/>
          <p:nvPr/>
        </p:nvSpPr>
        <p:spPr>
          <a:xfrm>
            <a:off x="3357720" y="485784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-3044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993366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в полнейшем упадке был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6324480"/>
            <a:ext cx="304920" cy="53352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Выноска 1 (граница и черта) 6"/>
          <p:cNvSpPr/>
          <p:nvPr/>
        </p:nvSpPr>
        <p:spPr>
          <a:xfrm>
            <a:off x="0" y="0"/>
            <a:ext cx="800100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143" y="224914"/>
                </a:moveTo>
                <a:lnTo>
                  <a:pt x="22104" y="8370"/>
                </a:lnTo>
              </a:path>
              <a:path w="21600" h="21600">
                <a:moveTo>
                  <a:pt x="22104" y="0"/>
                </a:moveTo>
                <a:lnTo>
                  <a:pt x="22104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Calibri"/>
              </a:rPr>
              <a:t>В ходе Гражданской войны борьба шла за пути дальнейшего развития стра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Выноска 1 (граница и черта) 1"/>
          <p:cNvSpPr/>
          <p:nvPr/>
        </p:nvSpPr>
        <p:spPr>
          <a:xfrm>
            <a:off x="0" y="857160"/>
            <a:ext cx="714384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94" y="10232"/>
                </a:moveTo>
                <a:lnTo>
                  <a:pt x="21576" y="10674"/>
                </a:lnTo>
              </a:path>
              <a:path w="21600" h="21600">
                <a:moveTo>
                  <a:pt x="21576" y="0"/>
                </a:moveTo>
                <a:lnTo>
                  <a:pt x="21576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6600ff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ервый — сохранение советской власти и распространение ее на всю территорию бывшей Российской империи, подавление всех сил, не согласных с политикой большевистского руководства. Этот путь означал создание социалистического государства, государства диктатуры пролетари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Выноска 1 (граница и черта) 9"/>
          <p:cNvSpPr/>
          <p:nvPr/>
        </p:nvSpPr>
        <p:spPr>
          <a:xfrm>
            <a:off x="0" y="2143080"/>
            <a:ext cx="7143840" cy="19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94" y="10232"/>
                </a:moveTo>
                <a:lnTo>
                  <a:pt x="21576" y="10674"/>
                </a:lnTo>
              </a:path>
              <a:path w="21600" h="21600">
                <a:moveTo>
                  <a:pt x="21576" y="0"/>
                </a:moveTo>
                <a:lnTo>
                  <a:pt x="21576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6600ff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торой путь — это попытка сохранения в России буржуазно-демократической республики и продолжение той политики, которая декларировалась Временным правительством и Советами весной—летом 1917 г.: дальнейшее развитие демократии, свободного предпринимательства. За этот путь в основном выступали партии “революционной демократии”, участники Временного правительства и Советов — меньшевики, эсеры (с осени — правые эсеры), левое крыло кад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носка 1 (граница и черта) 10"/>
          <p:cNvSpPr/>
          <p:nvPr/>
        </p:nvSpPr>
        <p:spPr>
          <a:xfrm>
            <a:off x="0" y="4357800"/>
            <a:ext cx="714384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94" y="10232"/>
                </a:moveTo>
                <a:lnTo>
                  <a:pt x="21576" y="10674"/>
                </a:lnTo>
              </a:path>
              <a:path w="21600" h="21600">
                <a:moveTo>
                  <a:pt x="21576" y="0"/>
                </a:moveTo>
                <a:lnTo>
                  <a:pt x="21576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6600ff"/>
            </a:solidFill>
            <a:miter/>
            <a:head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ретий путь отвечал интересам крупной буржуазии, дворянства, верховного руководства царской армии и означал попытку сохранения ограниченной монархии и России как “единой и неделимой” страны, верной “союзническим обязательствам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6248520"/>
            <a:ext cx="381240" cy="457200"/>
          </a:xfrm>
          <a:custGeom>
            <a:avLst/>
            <a:gdLst>
              <a:gd name="textAreaLeft" fmla="*/ 51120 w 381240"/>
              <a:gd name="textAreaRight" fmla="*/ 330120 w 3812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2"/>
          <p:cNvSpPr/>
          <p:nvPr/>
        </p:nvSpPr>
        <p:spPr>
          <a:xfrm>
            <a:off x="488880" y="21420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ки гражданской вой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428760" y="1878840"/>
            <a:ext cx="8358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российского общества существуют два полюса стабильности: или "народ безмолвствует", или "бунт решительный и беспощадный". Причем переход от одного к другому занимает немно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таком ментальном поле особая ответственность ложится на современную политическую элиту стр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торический опыт свидетельствует, что гражданскую войну легче предотвратить, чем останов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61722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5840" y="2857680"/>
            <a:ext cx="8643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ая война – это, обусловленная глубокими социальными, политическими, экономическими и др. противоречиями вооруженная борьба за власть между различными группами и слоями населения внутри какой-либо страны. Применительно к России - гражданская война 1918-1920 гг. - это обусловленная глубокими социальными, политическими, экономическими, национальными и другими противоречиями вооруженная борьба за власть между различными группами и слоями населения страны, проходившая при активном вмешательстве иностранных государств и включавшая военные операции регулярных армий, восстания, мятежи, партизанские и диверсионно-террористические действия и др.формы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2919240" cy="268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425840" y="208080"/>
            <a:ext cx="3651480" cy="279072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458200" y="64008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Управляющая кнопка: настраиваемая 7"/>
          <p:cNvGrpSpPr/>
          <p:nvPr/>
        </p:nvGrpSpPr>
        <p:grpSpPr>
          <a:xfrm>
            <a:off x="-115920" y="2017800"/>
            <a:ext cx="2152800" cy="2286000"/>
            <a:chOff x="-115920" y="2017800"/>
            <a:chExt cx="2152800" cy="2286000"/>
          </a:xfrm>
        </p:grpSpPr>
        <p:pic>
          <p:nvPicPr>
            <p:cNvPr id="107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115920" y="2017800"/>
              <a:ext cx="2152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чины Гражданской войны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Выноска 1 (граница и черта) 6"/>
          <p:cNvSpPr/>
          <p:nvPr/>
        </p:nvSpPr>
        <p:spPr>
          <a:xfrm>
            <a:off x="3357720" y="0"/>
            <a:ext cx="5786280" cy="142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4545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стрение социальных противоречий в Российском обществе, нежелание самодержавия проводить существенные реформы политического и экономического строя. Конфликт власти и общества был настолько глубоким, что защитников у самодержавия в феврале-марте 1917 г. не оказалось, их просто не было в многомиллионной стра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ыноска 1 (граница и черта) 2"/>
          <p:cNvSpPr/>
          <p:nvPr/>
        </p:nvSpPr>
        <p:spPr>
          <a:xfrm>
            <a:off x="3357720" y="1428840"/>
            <a:ext cx="578628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3" y="2953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тика ведущих политических партий (кадетов, эсеров, меньшевиков), которые не смогли стабилизировать ситуацию после свержения самодержавия. Борьба за армию в условиях продолжавшейся войны вела к ее разва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Выноска 1 (граница и черта) 1"/>
          <p:cNvSpPr/>
          <p:nvPr/>
        </p:nvSpPr>
        <p:spPr>
          <a:xfrm>
            <a:off x="3357720" y="257184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3" y="1791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т власти большевиками и стремление свергнутых классов восстановить свое господст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носка 1 (граница и черта) 4"/>
          <p:cNvSpPr/>
          <p:nvPr/>
        </p:nvSpPr>
        <p:spPr>
          <a:xfrm>
            <a:off x="3357720" y="385776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-1856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шательство иностранных государств во внутренние дела России. Интервенция стала катализатором гражданской войны, а поддержка странами Антанты белогвардейских войск и правительств во многом обусловила длительность этой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Выноска 1 (граница и черта) 3"/>
          <p:cNvSpPr/>
          <p:nvPr/>
        </p:nvSpPr>
        <p:spPr>
          <a:xfrm>
            <a:off x="3357720" y="3071880"/>
            <a:ext cx="578628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51" y="-1623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оречия в лагере социалистических партий, которые на выборах в Учредительное собрание получили более 80% голосов, но не сумели обеспечить согласие, ценой взаимных уступ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Выноска 1 (граница и черта) 8"/>
          <p:cNvSpPr/>
          <p:nvPr/>
        </p:nvSpPr>
        <p:spPr>
          <a:xfrm>
            <a:off x="3357720" y="585792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3" y="-6097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я и психопатология революционной эпохи во многом предопределяли поведение каждого человека и больших социальных групп людей в годы войны. Насилие воспринималось как универсальный метод решения многих пробл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Выноска 1 (граница и черта) 5"/>
          <p:cNvSpPr/>
          <p:nvPr/>
        </p:nvSpPr>
        <p:spPr>
          <a:xfrm>
            <a:off x="3357720" y="485784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-3999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9900"/>
          </a:solidFill>
          <a:ln w="381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бейшие ошибки и просчеты большевиков, советского правительства в целом ряде важных вопросов внутренней политики (Раскол деревни летом 1918 г., расказачивание, политика "военного коммунизма" и д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28600" y="6172200"/>
            <a:ext cx="304920" cy="457200"/>
          </a:xfrm>
          <a:custGeom>
            <a:avLst/>
            <a:gdLst>
              <a:gd name="textAreaLeft" fmla="*/ 40680 w 304920"/>
              <a:gd name="textAreaRight" fmla="*/ 264240 w 30492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Управляющая кнопка: настраиваемая 9"/>
          <p:cNvGrpSpPr/>
          <p:nvPr/>
        </p:nvGrpSpPr>
        <p:grpSpPr>
          <a:xfrm>
            <a:off x="-79200" y="304920"/>
            <a:ext cx="2011320" cy="2286000"/>
            <a:chOff x="-79200" y="304920"/>
            <a:chExt cx="2011320" cy="2286000"/>
          </a:xfrm>
        </p:grpSpPr>
        <p:pic>
          <p:nvPicPr>
            <p:cNvPr id="118" name="Управляющая кнопка: настраиваемая 9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30492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357120"/>
              <a:ext cx="1857240" cy="2143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чины иностранной интервенци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Управляющая кнопка: настраиваемая 7"/>
          <p:cNvGrpSpPr/>
          <p:nvPr/>
        </p:nvGrpSpPr>
        <p:grpSpPr>
          <a:xfrm>
            <a:off x="-79200" y="3876840"/>
            <a:ext cx="2011320" cy="2286000"/>
            <a:chOff x="-79200" y="3876840"/>
            <a:chExt cx="2011320" cy="2286000"/>
          </a:xfrm>
        </p:grpSpPr>
        <p:pic>
          <p:nvPicPr>
            <p:cNvPr id="121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-79200" y="387684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0" y="3929040"/>
              <a:ext cx="1857240" cy="2143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енности Гражданской войны в Росси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Выноска 1 (граница и черта) 6"/>
          <p:cNvSpPr/>
          <p:nvPr/>
        </p:nvSpPr>
        <p:spPr>
          <a:xfrm>
            <a:off x="3357720" y="0"/>
            <a:ext cx="578628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17" y="48509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знание странами новой формы политической в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 1 (граница и черта) 2"/>
          <p:cNvSpPr/>
          <p:nvPr/>
        </p:nvSpPr>
        <p:spPr>
          <a:xfrm>
            <a:off x="3357720" y="78588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9" y="2953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льство выходом России из первой миров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 1 (граница и черта) 1"/>
          <p:cNvSpPr/>
          <p:nvPr/>
        </p:nvSpPr>
        <p:spPr>
          <a:xfrm>
            <a:off x="3357720" y="142884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16" y="125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ятие большевистского лозунга мировой револю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 1 (граница и черта) 3"/>
          <p:cNvSpPr/>
          <p:nvPr/>
        </p:nvSpPr>
        <p:spPr>
          <a:xfrm>
            <a:off x="3357720" y="2071800"/>
            <a:ext cx="578628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8" y="-1615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ст против  национализации иностранной собственности и  отказа от выплаты дол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 1 (граница и черта) 10"/>
          <p:cNvSpPr/>
          <p:nvPr/>
        </p:nvSpPr>
        <p:spPr>
          <a:xfrm>
            <a:off x="3357720" y="3500280"/>
            <a:ext cx="5786280" cy="5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4" y="6070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опровождалась интервенцией и террор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Выноска 1 (граница и черта) 11"/>
          <p:cNvSpPr/>
          <p:nvPr/>
        </p:nvSpPr>
        <p:spPr>
          <a:xfrm>
            <a:off x="3357720" y="421488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11" y="31085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е имела чётких границ и враждующих груп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носка 1 (граница и черта) 12"/>
          <p:cNvSpPr/>
          <p:nvPr/>
        </p:nvSpPr>
        <p:spPr>
          <a:xfrm>
            <a:off x="3357720" y="5000760"/>
            <a:ext cx="57862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11" y="-3475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тсутствие временных рам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 1 (граница и черта) 13"/>
          <p:cNvSpPr/>
          <p:nvPr/>
        </p:nvSpPr>
        <p:spPr>
          <a:xfrm>
            <a:off x="3357720" y="5786280"/>
            <a:ext cx="5786280" cy="71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8" y="-25383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ccecff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арактеризовалась классовым противостоянием граждан, сменой взглядов, распадом семейных у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228600" y="6400800"/>
            <a:ext cx="304920" cy="457200"/>
          </a:xfrm>
          <a:custGeom>
            <a:avLst/>
            <a:gdLst>
              <a:gd name="textAreaLeft" fmla="*/ 40680 w 304920"/>
              <a:gd name="textAreaRight" fmla="*/ 264240 w 30492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Управляющая кнопка: настраиваемая 7"/>
          <p:cNvGrpSpPr/>
          <p:nvPr/>
        </p:nvGrpSpPr>
        <p:grpSpPr>
          <a:xfrm>
            <a:off x="-79200" y="2017800"/>
            <a:ext cx="2011320" cy="2286000"/>
            <a:chOff x="-79200" y="2017800"/>
            <a:chExt cx="2011320" cy="2286000"/>
          </a:xfrm>
        </p:grpSpPr>
        <p:pic>
          <p:nvPicPr>
            <p:cNvPr id="133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201780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изация Гражданской вой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Выноска 1 (граница и черта) 6"/>
          <p:cNvSpPr/>
          <p:nvPr/>
        </p:nvSpPr>
        <p:spPr>
          <a:xfrm>
            <a:off x="3357720" y="0"/>
            <a:ext cx="578628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58" y="93001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враль-март 1917 г. - насильственное свержение самодержавия, открытый раскол общества главным образом по социальному признак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ыноска 1 (граница и черта) 2"/>
          <p:cNvSpPr/>
          <p:nvPr/>
        </p:nvSpPr>
        <p:spPr>
          <a:xfrm>
            <a:off x="3357720" y="928800"/>
            <a:ext cx="578628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5571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-октябрь 1917 г. - неудача российской демократии в попытке установить гражданский мир, усиление социально-политического противостояния в обществе, эскалация насил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Выноска 1 (граница и черта) 1"/>
          <p:cNvSpPr/>
          <p:nvPr/>
        </p:nvSpPr>
        <p:spPr>
          <a:xfrm>
            <a:off x="3357720" y="200016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2346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 1917 г.- март 1918 г. - свержение большевиками Временного правительства, установление Советской власти, новый раскол общества, распространение вооруженной борьбы (в т. ч. и Брестский мир как один из факторов раскола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Выноска 1 (граница и черта) 3"/>
          <p:cNvSpPr/>
          <p:nvPr/>
        </p:nvSpPr>
        <p:spPr>
          <a:xfrm>
            <a:off x="3357720" y="3286080"/>
            <a:ext cx="57862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-3527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-июнь 1918 г. - локальные военные действия, формирование белых и красных вооруженных сил, террор с обеих сторон, дальнейшая эскалация насил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Выноска 1 (граница и черта) 4"/>
          <p:cNvSpPr/>
          <p:nvPr/>
        </p:nvSpPr>
        <p:spPr>
          <a:xfrm>
            <a:off x="3357720" y="4500720"/>
            <a:ext cx="5786280" cy="13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54" y="-21559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1918 г.- конец 1920 г. - "большая гражданская война между массовыми регулярными армиями, иностранная интервенция, партизанская борьба в тылах, милитаризация экономики и т.д. (это собственно гражданская война в полном смысле этих слов, хотя точнее называть это время - этапом "большой" гражданской войн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Выноска 1 (граница и черта) 5"/>
          <p:cNvSpPr/>
          <p:nvPr/>
        </p:nvSpPr>
        <p:spPr>
          <a:xfrm>
            <a:off x="3357720" y="6143760"/>
            <a:ext cx="578628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6" y="-91740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00b0f0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-1922 гг. - постепенное затухание гражданской войны, ее локализация на окраинах и полное оконч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632448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Управляющая кнопка: настраиваемая 7"/>
          <p:cNvGrpSpPr/>
          <p:nvPr/>
        </p:nvGrpSpPr>
        <p:grpSpPr>
          <a:xfrm>
            <a:off x="0" y="1981080"/>
            <a:ext cx="2011320" cy="2286000"/>
            <a:chOff x="0" y="1981080"/>
            <a:chExt cx="2011320" cy="2286000"/>
          </a:xfrm>
        </p:grpSpPr>
        <p:pic>
          <p:nvPicPr>
            <p:cNvPr id="143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0" y="198108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9200" y="203508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изация Гражданской вой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2"/>
          <p:cNvSpPr/>
          <p:nvPr/>
        </p:nvSpPr>
        <p:spPr>
          <a:xfrm>
            <a:off x="0" y="0"/>
            <a:ext cx="2286000" cy="5000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0" y="571680"/>
            <a:ext cx="892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ждение термина «Белая армия» связано с традиционной символикой белого цвета как цвета сторонников законного правопорядка и державной идеи в противопоставлении разрушительной «красной». Белый цвет использовался в политике ещё со времён «белых лилий Бурбонов» и символизировал чистоту и благородство устремл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4200" y="1714680"/>
          <a:ext cx="8715600" cy="1833480"/>
        </p:xfrm>
        <a:graphic>
          <a:graphicData uri="http://schemas.openxmlformats.org/drawingml/2006/table">
            <a:tbl>
              <a:tblPr/>
              <a:tblGrid>
                <a:gridCol w="2143080"/>
                <a:gridCol w="65725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сн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ицерство, чиновничество, дворянство, буржуазия, отдельные представители рабочих и крестья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ийный соста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роден: черносотенно-монархические, либеральные, социалистические парт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белого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жение советской власти, власти большевиков, восстановление единой и неделимой России, созыв народного собрания на основе всеобщего избирательного права для определения будущего страны, признание права частной собственности, проведение земельной реформы, гарантию основных прав и свобод гражд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Прямоугольник 6"/>
          <p:cNvSpPr/>
          <p:nvPr/>
        </p:nvSpPr>
        <p:spPr>
          <a:xfrm>
            <a:off x="0" y="3786120"/>
            <a:ext cx="2786040" cy="5000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14200" y="4500720"/>
          <a:ext cx="8715600" cy="1380960"/>
        </p:xfrm>
        <a:graphic>
          <a:graphicData uri="http://schemas.openxmlformats.org/drawingml/2006/table">
            <a:tbl>
              <a:tblPr/>
              <a:tblGrid>
                <a:gridCol w="2143080"/>
                <a:gridCol w="6572520"/>
              </a:tblGrid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сн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раб. класса и беднейшее крестьянство (часть интеллигенции. военных).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ийный соста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волюционные (левые) партии прежде всего РСДРП (б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красного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ции на самоопределение, общенародная собственность на средства производства , создание справедливого общества, власть рабочих и крестьян.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28600" y="6324480"/>
            <a:ext cx="304920" cy="53352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7"/>
          <p:cNvSpPr/>
          <p:nvPr/>
        </p:nvSpPr>
        <p:spPr>
          <a:xfrm>
            <a:off x="3071880" y="0"/>
            <a:ext cx="6072120" cy="500040"/>
          </a:xfrm>
          <a:prstGeom prst="rect">
            <a:avLst/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Гражданской вой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0" y="5357880"/>
            <a:ext cx="192888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 лета 191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Овал 16"/>
          <p:cNvGrpSpPr/>
          <p:nvPr/>
        </p:nvGrpSpPr>
        <p:grpSpPr>
          <a:xfrm>
            <a:off x="907920" y="1627200"/>
            <a:ext cx="1036800" cy="963720"/>
            <a:chOff x="907920" y="1627200"/>
            <a:chExt cx="1036800" cy="963720"/>
          </a:xfrm>
        </p:grpSpPr>
        <p:pic>
          <p:nvPicPr>
            <p:cNvPr id="155" name="Овал 16" descr=""/>
            <p:cNvPicPr/>
            <p:nvPr/>
          </p:nvPicPr>
          <p:blipFill>
            <a:blip r:embed="rId2"/>
            <a:stretch/>
          </p:blipFill>
          <p:spPr>
            <a:xfrm>
              <a:off x="907920" y="1627200"/>
              <a:ext cx="10368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074600" y="1779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Юдени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13"/>
          <p:cNvGrpSpPr/>
          <p:nvPr/>
        </p:nvGrpSpPr>
        <p:grpSpPr>
          <a:xfrm>
            <a:off x="3340080" y="3267000"/>
            <a:ext cx="1109520" cy="1109880"/>
            <a:chOff x="3340080" y="3267000"/>
            <a:chExt cx="1109520" cy="1109880"/>
          </a:xfrm>
        </p:grpSpPr>
        <p:pic>
          <p:nvPicPr>
            <p:cNvPr id="158" name="Овал 13" descr=""/>
            <p:cNvPicPr/>
            <p:nvPr/>
          </p:nvPicPr>
          <p:blipFill>
            <a:blip r:embed="rId3"/>
            <a:stretch/>
          </p:blipFill>
          <p:spPr>
            <a:xfrm>
              <a:off x="3340080" y="326700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514680" y="344340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Колча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Овал 5"/>
          <p:cNvGrpSpPr/>
          <p:nvPr/>
        </p:nvGrpSpPr>
        <p:grpSpPr>
          <a:xfrm>
            <a:off x="907920" y="3913200"/>
            <a:ext cx="1036800" cy="1036800"/>
            <a:chOff x="907920" y="3913200"/>
            <a:chExt cx="1036800" cy="1036800"/>
          </a:xfrm>
        </p:grpSpPr>
        <p:pic>
          <p:nvPicPr>
            <p:cNvPr id="161" name="Овал 5" descr=""/>
            <p:cNvPicPr/>
            <p:nvPr/>
          </p:nvPicPr>
          <p:blipFill>
            <a:blip r:embed="rId4"/>
            <a:stretch/>
          </p:blipFill>
          <p:spPr>
            <a:xfrm>
              <a:off x="907920" y="3913200"/>
              <a:ext cx="1036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074600" y="4075200"/>
              <a:ext cx="7081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Деники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Овал 3"/>
          <p:cNvGrpSpPr/>
          <p:nvPr/>
        </p:nvGrpSpPr>
        <p:grpSpPr>
          <a:xfrm>
            <a:off x="195120" y="3267000"/>
            <a:ext cx="1036800" cy="1036800"/>
            <a:chOff x="195120" y="3267000"/>
            <a:chExt cx="1036800" cy="1036800"/>
          </a:xfrm>
        </p:grpSpPr>
        <p:pic>
          <p:nvPicPr>
            <p:cNvPr id="164" name="Овал 3" descr=""/>
            <p:cNvPicPr/>
            <p:nvPr/>
          </p:nvPicPr>
          <p:blipFill>
            <a:blip r:embed="rId5"/>
            <a:stretch/>
          </p:blipFill>
          <p:spPr>
            <a:xfrm>
              <a:off x="195120" y="3267000"/>
              <a:ext cx="1036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60360" y="343224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лексее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Овал 4"/>
          <p:cNvGrpSpPr/>
          <p:nvPr/>
        </p:nvGrpSpPr>
        <p:grpSpPr>
          <a:xfrm>
            <a:off x="-19080" y="4267080"/>
            <a:ext cx="1036800" cy="1036800"/>
            <a:chOff x="-19080" y="4267080"/>
            <a:chExt cx="1036800" cy="1036800"/>
          </a:xfrm>
        </p:grpSpPr>
        <p:pic>
          <p:nvPicPr>
            <p:cNvPr id="167" name="Овал 4" descr=""/>
            <p:cNvPicPr/>
            <p:nvPr/>
          </p:nvPicPr>
          <p:blipFill>
            <a:blip r:embed="rId6"/>
            <a:stretch/>
          </p:blipFill>
          <p:spPr>
            <a:xfrm>
              <a:off x="-19080" y="4267080"/>
              <a:ext cx="1036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46160" y="4432320"/>
              <a:ext cx="7077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рнил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Полилиния 14"/>
          <p:cNvSpPr/>
          <p:nvPr/>
        </p:nvSpPr>
        <p:spPr>
          <a:xfrm>
            <a:off x="2951280" y="4392720"/>
            <a:ext cx="928440" cy="1236600"/>
          </a:xfrm>
          <a:prstGeom prst="pie">
            <a:avLst/>
          </a:prstGeom>
          <a:noFill/>
          <a:ln w="572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15"/>
          <p:cNvSpPr/>
          <p:nvPr/>
        </p:nvSpPr>
        <p:spPr>
          <a:xfrm>
            <a:off x="900000" y="5043600"/>
            <a:ext cx="1940040" cy="747720"/>
          </a:xfrm>
          <a:prstGeom prst="pie">
            <a:avLst/>
          </a:prstGeom>
          <a:noFill/>
          <a:ln w="7632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24"/>
          <p:cNvSpPr/>
          <p:nvPr/>
        </p:nvSpPr>
        <p:spPr>
          <a:xfrm>
            <a:off x="452520" y="2286000"/>
            <a:ext cx="476280" cy="2300400"/>
          </a:xfrm>
          <a:prstGeom prst="pie">
            <a:avLst/>
          </a:prstGeom>
          <a:noFill/>
          <a:ln w="7632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олилиния 25"/>
          <p:cNvSpPr/>
          <p:nvPr/>
        </p:nvSpPr>
        <p:spPr>
          <a:xfrm>
            <a:off x="1542960" y="1630440"/>
            <a:ext cx="673200" cy="98280"/>
          </a:xfrm>
          <a:prstGeom prst="pie">
            <a:avLst/>
          </a:prstGeom>
          <a:noFill/>
          <a:ln w="7632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2"/>
          <p:cNvSpPr/>
          <p:nvPr/>
        </p:nvSpPr>
        <p:spPr>
          <a:xfrm>
            <a:off x="500040" y="1571760"/>
            <a:ext cx="3500640" cy="4214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8"/>
          <p:cNvSpPr/>
          <p:nvPr/>
        </p:nvSpPr>
        <p:spPr>
          <a:xfrm>
            <a:off x="1571760" y="2786040"/>
            <a:ext cx="1071360" cy="28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7"/>
          <p:cNvSpPr/>
          <p:nvPr/>
        </p:nvSpPr>
        <p:spPr>
          <a:xfrm>
            <a:off x="1285920" y="264312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олилиния 18"/>
          <p:cNvSpPr/>
          <p:nvPr/>
        </p:nvSpPr>
        <p:spPr>
          <a:xfrm>
            <a:off x="1523880" y="2909880"/>
            <a:ext cx="6359760" cy="2895480"/>
          </a:xfrm>
          <a:prstGeom prst="pie">
            <a:avLst/>
          </a:prstGeom>
          <a:noFill/>
          <a:ln w="572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6-конечная звезда 22"/>
          <p:cNvSpPr/>
          <p:nvPr/>
        </p:nvSpPr>
        <p:spPr>
          <a:xfrm>
            <a:off x="2928960" y="357192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6-конечная звезда 21"/>
          <p:cNvSpPr/>
          <p:nvPr/>
        </p:nvSpPr>
        <p:spPr>
          <a:xfrm>
            <a:off x="4071960" y="4214880"/>
            <a:ext cx="428760" cy="428400"/>
          </a:xfrm>
          <a:custGeom>
            <a:avLst/>
            <a:gdLst>
              <a:gd name="textAreaLeft" fmla="*/ 97920 w 428760"/>
              <a:gd name="textAreaRight" fmla="*/ 330840 w 428760"/>
              <a:gd name="textAreaTop" fmla="*/ 97560 h 428400"/>
              <a:gd name="textAreaBottom" fmla="*/ 3308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6-конечная звезда 19"/>
          <p:cNvSpPr/>
          <p:nvPr/>
        </p:nvSpPr>
        <p:spPr>
          <a:xfrm>
            <a:off x="4714920" y="471492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6-конечная звезда 20"/>
          <p:cNvSpPr/>
          <p:nvPr/>
        </p:nvSpPr>
        <p:spPr>
          <a:xfrm>
            <a:off x="5429160" y="528624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6-конечная звезда 23"/>
          <p:cNvSpPr/>
          <p:nvPr/>
        </p:nvSpPr>
        <p:spPr>
          <a:xfrm>
            <a:off x="6072120" y="4929120"/>
            <a:ext cx="428760" cy="428760"/>
          </a:xfrm>
          <a:custGeom>
            <a:avLst/>
            <a:gdLst>
              <a:gd name="textAreaLeft" fmla="*/ 97920 w 428760"/>
              <a:gd name="textAreaRight" fmla="*/ 330840 w 428760"/>
              <a:gd name="textAreaTop" fmla="*/ 97920 h 428760"/>
              <a:gd name="textAreaBottom" fmla="*/ 330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3264 L -0.00278 -0.17731 E">
                                      <p:cBhvr>
                                        <p:cTn id="34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63240" cy="701028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0"/>
          <p:cNvSpPr/>
          <p:nvPr/>
        </p:nvSpPr>
        <p:spPr>
          <a:xfrm>
            <a:off x="0" y="0"/>
            <a:ext cx="928692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среди участников интервенции в РСФСР и Закавказье, насчитывают 14 государств. Среди интервентов были Франция, США, Великобритания, Япония,Польша, Румыния и др. Интервенты либо стремились захватить часть российской территории (Румыния, Япония, Турция), либо получить от поддерживаемых ими белогвардейцев значительные экономические привилегии (Англия, США, Франция и др.)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ятно 1 13"/>
          <p:cNvSpPr/>
          <p:nvPr/>
        </p:nvSpPr>
        <p:spPr>
          <a:xfrm>
            <a:off x="285840" y="2000160"/>
            <a:ext cx="1428840" cy="78588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Поль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ятно 1 8"/>
          <p:cNvSpPr/>
          <p:nvPr/>
        </p:nvSpPr>
        <p:spPr>
          <a:xfrm>
            <a:off x="1928880" y="1071720"/>
            <a:ext cx="2214360" cy="164304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Англия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Канада Фра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ятно 1 7"/>
          <p:cNvSpPr/>
          <p:nvPr/>
        </p:nvSpPr>
        <p:spPr>
          <a:xfrm>
            <a:off x="0" y="2643120"/>
            <a:ext cx="1714680" cy="135756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Франция Анг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Гре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ятно 1 5"/>
          <p:cNvSpPr/>
          <p:nvPr/>
        </p:nvSpPr>
        <p:spPr>
          <a:xfrm>
            <a:off x="1714680" y="4714920"/>
            <a:ext cx="2214360" cy="164304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ятно 1 12"/>
          <p:cNvSpPr/>
          <p:nvPr/>
        </p:nvSpPr>
        <p:spPr>
          <a:xfrm>
            <a:off x="3357720" y="3143160"/>
            <a:ext cx="2214360" cy="164304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Фра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Кан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ятно 1 6"/>
          <p:cNvSpPr/>
          <p:nvPr/>
        </p:nvSpPr>
        <p:spPr>
          <a:xfrm>
            <a:off x="6724800" y="4143240"/>
            <a:ext cx="2214360" cy="20815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Япония, СШ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Анг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ятно 1 15"/>
          <p:cNvSpPr/>
          <p:nvPr/>
        </p:nvSpPr>
        <p:spPr>
          <a:xfrm>
            <a:off x="7724880" y="2867040"/>
            <a:ext cx="1571400" cy="9288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Яп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ятно 1 9"/>
          <p:cNvSpPr/>
          <p:nvPr/>
        </p:nvSpPr>
        <p:spPr>
          <a:xfrm>
            <a:off x="7072200" y="1143000"/>
            <a:ext cx="1571760" cy="9288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6400800"/>
            <a:ext cx="381240" cy="457200"/>
          </a:xfrm>
          <a:custGeom>
            <a:avLst/>
            <a:gdLst>
              <a:gd name="textAreaLeft" fmla="*/ 51120 w 381240"/>
              <a:gd name="textAreaRight" fmla="*/ 330120 w 3812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36324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Управляющая кнопка: настраиваемая 7"/>
          <p:cNvGrpSpPr/>
          <p:nvPr/>
        </p:nvGrpSpPr>
        <p:grpSpPr>
          <a:xfrm>
            <a:off x="-79200" y="2017800"/>
            <a:ext cx="2017440" cy="2286000"/>
            <a:chOff x="-79200" y="2017800"/>
            <a:chExt cx="2017440" cy="2286000"/>
          </a:xfrm>
        </p:grpSpPr>
        <p:pic>
          <p:nvPicPr>
            <p:cNvPr id="195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79200" y="2017800"/>
              <a:ext cx="2017440" cy="2286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6" name=""/>
            <p:cNvSpPr/>
            <p:nvPr/>
          </p:nvSpPr>
          <p:spPr>
            <a:xfrm>
              <a:off x="0" y="2071800"/>
              <a:ext cx="1857240" cy="214308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т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жданской вой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Выноска 1 (граница и черта) 6"/>
          <p:cNvSpPr/>
          <p:nvPr/>
        </p:nvSpPr>
        <p:spPr>
          <a:xfrm>
            <a:off x="3357720" y="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52" y="6269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жданская война привела к огромным материальным и людским потерям. Общая сумма ущерба составила 50 млрд. золотых рублей, а человеческие жертвы оцениваются сегодня в 13-16 млн. ч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Выноска 1 (граница и черта) 1"/>
          <p:cNvSpPr/>
          <p:nvPr/>
        </p:nvSpPr>
        <p:spPr>
          <a:xfrm>
            <a:off x="3357720" y="1214280"/>
            <a:ext cx="578628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1" y="39032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ери Красной Армии в боях составили 939.755 чел.примерно столько же составили боевые потери ее противников. Остальные погибли от голода и эпидемий, связанных с вой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Выноска 1 (граница и черта) 3"/>
          <p:cNvSpPr/>
          <p:nvPr/>
        </p:nvSpPr>
        <p:spPr>
          <a:xfrm>
            <a:off x="3357720" y="242892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11411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игрировало из России около 2 млн.чел. Если же учесть снижение прироста населения в годы войны, т.е. посчитать неродившихся россиян, то сумму потери можно оценить примерно в 25 млн.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носка 1 (граница и черта) 4"/>
          <p:cNvSpPr/>
          <p:nvPr/>
        </p:nvSpPr>
        <p:spPr>
          <a:xfrm>
            <a:off x="3357720" y="3786120"/>
            <a:ext cx="5786280" cy="9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48" y="-15464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победы в гражданской войне большевикам удалось сохранить государственность, суверенитет и территориальную целостность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Выноска 1 (граница и черта) 5"/>
          <p:cNvSpPr/>
          <p:nvPr/>
        </p:nvSpPr>
        <p:spPr>
          <a:xfrm>
            <a:off x="3357720" y="4857840"/>
            <a:ext cx="578628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9" y="-30448"/>
                </a:moveTo>
                <a:lnTo>
                  <a:pt x="-562" y="4000"/>
                </a:lnTo>
              </a:path>
              <a:path w="21600" h="21600">
                <a:moveTo>
                  <a:pt x="-562" y="0"/>
                </a:moveTo>
                <a:lnTo>
                  <a:pt x="-562" y="21600"/>
                </a:lnTo>
              </a:path>
            </a:pathLst>
          </a:custGeom>
          <a:solidFill>
            <a:srgbClr val="a088b7"/>
          </a:solidFill>
          <a:ln w="3816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беда большевиков в гражданской войне привела к свертыванию демократии, господству однопартийной системы, когда от имени народа правила партия, от имени партии ЦК, Политбюро и фактически Генсек или его окружение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ченков И.В.</cp:lastModifiedBy>
  <dcterms:modified xsi:type="dcterms:W3CDTF">2019-11-04T17:30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