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7D5B-C9B1-4FA8-A1F8-57F42667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7601-C7D5-48B6-8E22-62194B99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F49-55A6-4A32-97B4-2A6F4441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4AB-C7EC-476F-9101-00143463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890AF-91D5-4C42-A9B7-B623A992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B5216-C5FF-411F-A2E5-409D0C0C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645F5-97B2-434A-A725-F23F5C22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213AE-4CE4-4E05-9CC7-8F488BD1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9E206-85EC-4CEC-912E-942D2AD0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1BCA3-F71E-464C-9C04-859C5863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542F7-E942-4B23-B3BA-0DE49280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95F-E6C2-4625-8AF9-1D9526FB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031F7-4F36-4E50-BE6C-D10C5C41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7FB1D-12D2-4D5E-B590-B042C2BA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86C06-BE12-43D5-A537-557117B5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F4145-FB33-4897-81C9-790CBB28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BA1B6-2089-4E44-90D2-E2C0412E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EDBC-5D83-4EE4-A77F-12BF4B5E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6983-E799-4BE4-880E-C218165F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8D2F-EA38-4DBB-A185-1B736960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91A-2488-4594-A59A-ADF5E4FC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F45-1A50-46BD-AF87-CBFB7AC4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1F2D-8331-49D8-8BF6-58324103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87C-41F4-4771-98AE-F63CA640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59F0-0D64-48A6-B5DA-3B86CEE7B1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491F-282C-402A-B3A2-2C9A297F4E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042920" y="2492280"/>
            <a:ext cx="712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Древняя Индия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8360" y="6165720"/>
            <a:ext cx="4683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03280" y="692280"/>
            <a:ext cx="6840720" cy="21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Цели путешеств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2060640"/>
            <a:ext cx="864072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знакоми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 географическим положением Древней Инд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родой и населе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сновными ценностями  жизни индийского на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rcRect l="0" t="5726" r="0" b="5726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867280" y="26028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Древняя Ин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5877000"/>
            <a:ext cx="144360" cy="431640"/>
          </a:xfrm>
          <a:prstGeom prst="upArrow">
            <a:avLst>
              <a:gd name="adj1" fmla="val 50000"/>
              <a:gd name="adj2" fmla="val 7475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3211200">
            <a:off x="1220760" y="3200400"/>
            <a:ext cx="21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Инд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1341360"/>
            <a:ext cx="79200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134136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44500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Индийский                          оке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4175000">
            <a:off x="243720" y="1543680"/>
            <a:ext cx="303120" cy="730080"/>
          </a:xfrm>
          <a:prstGeom prst="downArrow">
            <a:avLst>
              <a:gd name="adj1" fmla="val 50000"/>
              <a:gd name="adj2" fmla="val 60214"/>
            </a:avLst>
          </a:prstGeom>
          <a:solidFill>
            <a:srgbClr val="15853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750400">
            <a:off x="1148400" y="1118880"/>
            <a:ext cx="27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8530"/>
                </a:solidFill>
                <a:latin typeface="Tahoma"/>
              </a:rPr>
              <a:t>Гимала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7978200">
            <a:off x="1567800" y="1470600"/>
            <a:ext cx="57456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2483640" y="2420280"/>
            <a:ext cx="57456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7360" y="18604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Tahoma"/>
              </a:rPr>
              <a:t>Ин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72920" y="3130560"/>
            <a:ext cx="7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Tahoma"/>
              </a:rPr>
              <a:t>Га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-0.03029 C -0.02049 -0.12532 -0.03247 -0.22012 -0.03577 -0.2652 C -0.03907 -0.31029 -0.02604 -0.29711 -0.02848 -0.3015 C -0.03091 -0.3059 -0.0415 -0.29272 -0.05035 -0.29179 C -0.0592 -0.29087 -0.07066 -0.27885 -0.08125 -0.29665 C -0.09184 -0.31445 -0.10261 -0.37665 -0.11389 -0.39838 C -0.12518 -0.42012 -0.14236 -0.4185 -0.14844 -0.42728 C -0.15452 -0.43607 -0.15278 -0.44023 -0.15035 -0.45156 C -0.14792 -0.46289 -0.12952 -0.47399 -0.13403 -0.49503 C -0.13854 -0.51607 -0.1882 -0.5459 -0.17761 -0.57734 C -0.16702 -0.60879 -0.09601 -0.66543 -0.07032 -0.68393 C -0.04462 -0.70243 -0.03455 -0.68717 -0.02309 -0.68879 C -0.01163 -0.69041 -0.00747 -0.69595 -0.00122 -0.69364 C 0.00503 -0.69133 -0.00365 -0.70035 0.0151 -0.67422 C 0.03385 -0.64809 0.09288 -0.56162 0.11146 -0.53619 C 0.13003 -0.51075 0.12205 -0.53017 0.12604 -0.52185 C 0.13003 -0.51353 0.12604 -0.49434 0.13507 -0.48555 C 0.14409 -0.47676 0.16753 -0.47214 0.18055 -0.46844 C 0.19357 -0.46474 0.20642 -0.47006 0.21337 -0.46358 C 0.22031 -0.45711 0.21146 -0.43908 0.22239 -0.42983 C 0.23333 -0.42058 0.26614 -0.41642 0.27882 -0.40786 C 0.29149 -0.39931 0.29548 -0.40116 0.29878 -0.37896 C 0.30208 -0.35676 0.31093 -0.29434 0.29878 -0.27468 C 0.28663 -0.25503 0.26423 -0.28694 0.22604 -0.26035 C 0.18784 -0.23376 0.09236 -0.13595 0.06962 -0.11491 C 0.04687 -0.09387 0.0901 -0.14798 0.08975 -0.13434 C 0.08941 -0.12069 0.07725 -0.0585 0.06788 -0.0326 C 0.0585 -0.00671 0.04097 0.00878 0.03333 0.02058 C 0.02569 0.03237 0.02777 0.03931 0.02239 0.03746 C 0.01701 0.03607 0.00659 0.02428 0.00052 0.01087 C -0.00556 -0.00254 -0.01146 -0.03353 -0.01389 -0.04231 E">
                                      <p:cBhvr>
                                        <p:cTn id="32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613 C 0.06719 -0.0585 0.10694 -0.09064 0.13854 -0.08671 C 0.17014 -0.08278 0.1908 -0.0289 0.21684 -0.00185 C 0.24288 0.0252 0.27986 0.05272 0.29496 0.07561 C 0.3099 0.0985 0.29635 0.12647 0.30764 0.13618 C 0.31875 0.1459 0.3401 0.12231 0.36215 0.13364 C 0.3842 0.14497 0.42743 0.19214 0.44045 0.20393 E">
                                      <p:cBhvr>
                                        <p:cTn id="4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73988E-006 C -0.00938 0.0541 -0.01858 0.10821 -0.02917 0.13318 C -0.03976 0.15815 -0.05486 0.13988 -0.06372 0.15006 C -0.07257 0.16023 -0.08039 0.18497 -0.08195 0.19376 C -0.08351 0.20254 -0.06997 0.19191 -0.07275 0.20324 C -0.07552 0.21457 -0.09132 0.25087 -0.09827 0.2615 C -0.10521 0.27214 -0.1099 0.26913 -0.11459 0.26636 E">
                                      <p:cBhvr>
                                        <p:cTn id="5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04301 C 0.00278 0.05688 0.00139 0.07098 0.01163 0.08671 C 0.02188 0.10243 0.0434 0.12624 0.06615 0.13757 C 0.08889 0.1489 0.12431 0.13711 0.14792 0.15445 C 0.17153 0.17179 0.19861 0.22983 0.20799 0.24162 C 0.21736 0.25341 0.21077 0.23908 0.20434 0.22474 E">
                                      <p:cBhvr>
                                        <p:cTn id="67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4941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140360" y="2166840"/>
            <a:ext cx="5003640" cy="469116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42120" y="544212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Банановое дере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9520" y="54612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окосовое дере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4681440"/>
          </a:xfrm>
          <a:prstGeom prst="rect">
            <a:avLst/>
          </a:prstGeom>
          <a:ln w="50760">
            <a:solidFill>
              <a:srgbClr val="0033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284720" y="2097000"/>
            <a:ext cx="4859280" cy="4761000"/>
          </a:xfrm>
          <a:prstGeom prst="rect">
            <a:avLst/>
          </a:prstGeom>
          <a:ln w="50760">
            <a:solidFill>
              <a:srgbClr val="0033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0" y="522936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Дерево - ман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26200" y="276120"/>
            <a:ext cx="24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паль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87560" y="210960"/>
            <a:ext cx="5776920" cy="70344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Животные джунг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16400" y="836640"/>
            <a:ext cx="3927600" cy="2946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268360" y="2276640"/>
            <a:ext cx="3745080" cy="280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3968640"/>
            <a:ext cx="38512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771640" y="476280"/>
            <a:ext cx="381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ние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2276640"/>
            <a:ext cx="79930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чтите отрывок из произведения  древнегреческого историка Диодора Сицилийского «Историческая библиотек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ясните основные занятия индийце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35280" y="620640"/>
            <a:ext cx="568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нятия индийцев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35280" y="1700280"/>
            <a:ext cx="1008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170028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24360" y="1700280"/>
            <a:ext cx="93528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2492280"/>
            <a:ext cx="244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земледел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884320"/>
            <a:ext cx="25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ремес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29120" y="2381400"/>
            <a:ext cx="27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кото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834920" y="1844640"/>
            <a:ext cx="1584360" cy="23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4365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ох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5640" y="43052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рыболов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1773360"/>
            <a:ext cx="165600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08000" y="1125360"/>
            <a:ext cx="56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285264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араграф 21, доделать путеводите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а «5»  написать мини сочинение на тему «Один день из жизни 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5:25:14Z</dcterms:created>
  <dc:creator>User</dc:creator>
  <dc:description/>
  <dc:language>en-US</dc:language>
  <cp:lastModifiedBy>Ларченков И.В.</cp:lastModifiedBy>
  <dcterms:modified xsi:type="dcterms:W3CDTF">2019-11-04T17:05:39Z</dcterms:modified>
  <cp:revision>42</cp:revision>
  <dc:subject/>
  <dc:title>Слайд 1</dc:title>
</cp:coreProperties>
</file>