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A37-5CD0-4AF4-AA18-A0F1DF36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0AE-FFB5-4BFF-A207-EE12BEBC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2C1-A047-420D-A5EA-36BE7277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944-9F2B-4E5E-B515-E2268FF8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67DDF-30E8-427C-8B7A-31B6A959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0407E-662D-43B0-B0B5-E726DC5D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8F18B-8AD7-4E17-9C9C-B968E6B3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8EB64-B53D-40C7-81EF-A1A7AF80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DFBAF-4778-44C6-AEF9-A9B2C5FC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7159A-6FF2-4CFD-A7B4-729A908C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C933E-4F7C-4354-8AB0-BB08E477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D74-60F8-40ED-B4AA-1872A106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4F433-2C63-450A-A0CE-76EE89CF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7038A-5DBD-49EE-A36F-116A3EA9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D60A9-68E1-4A10-AACC-09028918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A1742-8122-4563-AE52-A46B2AA8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1C67F-EAFA-4997-8036-3279CF3A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791-1081-4E3C-8F7C-C5C7CDA9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23A-A6D3-473C-8DB5-D54224EC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7FE-4E9F-4A84-9482-6AE6838B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00C-4E38-4482-B94D-8A8316A2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FBB-1330-44C6-B312-E83980ED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7E9-1FC6-474C-AB75-0BA3053D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446-EA51-4D48-88F4-3B81FCF7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0B61-300D-4F31-A4EC-F87A34177D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9A88-3561-4D85-BE09-6C73928280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42920" y="2492280"/>
            <a:ext cx="712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Древняя Индия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03280" y="692280"/>
            <a:ext cx="6840720" cy="21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Цели путешеств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060640"/>
            <a:ext cx="864072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знаком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 географическим положением Древней Инд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родой и насел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сновными ценностями  жизни индийского на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rcRect l="0" t="5726" r="0" b="5726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867280" y="2602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ревняя И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5877000"/>
            <a:ext cx="144360" cy="431640"/>
          </a:xfrm>
          <a:prstGeom prst="upArrow">
            <a:avLst>
              <a:gd name="adj1" fmla="val 50000"/>
              <a:gd name="adj2" fmla="val 7475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3211200">
            <a:off x="1220760" y="320040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Ин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1341360"/>
            <a:ext cx="79200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134136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4500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Индийский                          оке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4175000">
            <a:off x="243720" y="1543680"/>
            <a:ext cx="303120" cy="730080"/>
          </a:xfrm>
          <a:prstGeom prst="downArrow">
            <a:avLst>
              <a:gd name="adj1" fmla="val 50000"/>
              <a:gd name="adj2" fmla="val 60214"/>
            </a:avLst>
          </a:prstGeom>
          <a:solidFill>
            <a:srgbClr val="1585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750400">
            <a:off x="1148400" y="1118880"/>
            <a:ext cx="27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8530"/>
                </a:solidFill>
                <a:latin typeface="Tahoma"/>
              </a:rPr>
              <a:t>Гимала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7978200">
            <a:off x="1567800" y="147060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2483640" y="242028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7360" y="18604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Tahoma"/>
              </a:rPr>
              <a:t>И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72920" y="313056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Tahoma"/>
              </a:rPr>
              <a:t>Га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0.03029 C -0.02049 -0.12532 -0.03247 -0.22012 -0.03577 -0.2652 C -0.03907 -0.31029 -0.02604 -0.29711 -0.02848 -0.3015 C -0.03091 -0.3059 -0.0415 -0.29272 -0.05035 -0.29179 C -0.0592 -0.29087 -0.07066 -0.27885 -0.08125 -0.29665 C -0.09184 -0.31445 -0.10261 -0.37665 -0.11389 -0.39838 C -0.12518 -0.42012 -0.14236 -0.4185 -0.14844 -0.42728 C -0.15452 -0.43607 -0.15278 -0.44023 -0.15035 -0.45156 C -0.14792 -0.46289 -0.12952 -0.47399 -0.13403 -0.49503 C -0.13854 -0.51607 -0.1882 -0.5459 -0.17761 -0.57734 C -0.16702 -0.60879 -0.09601 -0.66543 -0.07032 -0.68393 C -0.04462 -0.70243 -0.03455 -0.68717 -0.02309 -0.68879 C -0.01163 -0.69041 -0.00747 -0.69595 -0.00122 -0.69364 C 0.00503 -0.69133 -0.00365 -0.70035 0.0151 -0.67422 C 0.03385 -0.64809 0.09288 -0.56162 0.11146 -0.53619 C 0.13003 -0.51075 0.12205 -0.53017 0.12604 -0.52185 C 0.13003 -0.51353 0.12604 -0.49434 0.13507 -0.48555 C 0.14409 -0.47676 0.16753 -0.47214 0.18055 -0.46844 C 0.19357 -0.46474 0.20642 -0.47006 0.21337 -0.46358 C 0.22031 -0.45711 0.21146 -0.43908 0.22239 -0.42983 C 0.23333 -0.42058 0.26614 -0.41642 0.27882 -0.40786 C 0.29149 -0.39931 0.29548 -0.40116 0.29878 -0.37896 C 0.30208 -0.35676 0.31093 -0.29434 0.29878 -0.27468 C 0.28663 -0.25503 0.26423 -0.28694 0.22604 -0.26035 C 0.18784 -0.23376 0.09236 -0.13595 0.06962 -0.11491 C 0.04687 -0.09387 0.0901 -0.14798 0.08975 -0.13434 C 0.08941 -0.12069 0.07725 -0.0585 0.06788 -0.0326 C 0.0585 -0.00671 0.04097 0.00878 0.03333 0.02058 C 0.02569 0.03237 0.02777 0.03931 0.02239 0.03746 C 0.01701 0.03607 0.00659 0.02428 0.00052 0.01087 C -0.00556 -0.00254 -0.01146 -0.03353 -0.01389 -0.04231 E">
                                      <p:cBhvr>
                                        <p:cTn id="32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613 C 0.06719 -0.0585 0.10694 -0.09064 0.13854 -0.08671 C 0.17014 -0.08278 0.1908 -0.0289 0.21684 -0.00185 C 0.24288 0.0252 0.27986 0.05272 0.29496 0.07561 C 0.3099 0.0985 0.29635 0.12647 0.30764 0.13618 C 0.31875 0.1459 0.3401 0.12231 0.36215 0.13364 C 0.3842 0.14497 0.42743 0.19214 0.44045 0.20393 E">
                                      <p:cBhvr>
                                        <p:cTn id="4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73988E-006 C -0.00938 0.0541 -0.01858 0.10821 -0.02917 0.13318 C -0.03976 0.15815 -0.05486 0.13988 -0.06372 0.15006 C -0.07257 0.16023 -0.08039 0.18497 -0.08195 0.19376 C -0.08351 0.20254 -0.06997 0.19191 -0.07275 0.20324 C -0.07552 0.21457 -0.09132 0.25087 -0.09827 0.2615 C -0.10521 0.27214 -0.1099 0.26913 -0.11459 0.26636 E">
                                      <p:cBhvr>
                                        <p:cTn id="5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4301 C 0.00278 0.05688 0.00139 0.07098 0.01163 0.08671 C 0.02188 0.10243 0.0434 0.12624 0.06615 0.13757 C 0.08889 0.1489 0.12431 0.13711 0.14792 0.15445 C 0.17153 0.17179 0.19861 0.22983 0.20799 0.24162 C 0.21736 0.25341 0.21077 0.23908 0.20434 0.22474 E">
                                      <p:cBhvr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4941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140360" y="2166840"/>
            <a:ext cx="5003640" cy="469116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42120" y="54421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Банановое дере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9520" y="54612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окосовое дере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4681440"/>
          </a:xfrm>
          <a:prstGeom prst="rect">
            <a:avLst/>
          </a:prstGeom>
          <a:ln w="50760">
            <a:solidFill>
              <a:srgbClr val="0033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84720" y="2097000"/>
            <a:ext cx="4859280" cy="4761000"/>
          </a:xfrm>
          <a:prstGeom prst="rect">
            <a:avLst/>
          </a:prstGeom>
          <a:ln w="50760">
            <a:solidFill>
              <a:srgbClr val="0033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0" y="522936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Дерево - ман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26200" y="276120"/>
            <a:ext cx="24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паль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87560" y="210960"/>
            <a:ext cx="5776920" cy="70344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Животные джунг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16400" y="836640"/>
            <a:ext cx="3927600" cy="2946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268360" y="2276640"/>
            <a:ext cx="3745080" cy="280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771640" y="476280"/>
            <a:ext cx="38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е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2276640"/>
            <a:ext cx="79930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чтите отрывок из произведения  древнегреческого историка Диодора Сицилийского «Историческая библиотек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ясните основные занятия индийце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35280" y="62064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нятия индийцев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35280" y="1700280"/>
            <a:ext cx="1008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1700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4360" y="1700280"/>
            <a:ext cx="93528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2492280"/>
            <a:ext cx="24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земледел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884320"/>
            <a:ext cx="25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ремес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29120" y="238140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кото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834920" y="1844640"/>
            <a:ext cx="1584360" cy="23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4365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ох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43052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рыболов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1773360"/>
            <a:ext cx="165600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08000" y="112536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285264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араграф 21, доделать путеводи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 «5»  написать мини сочинение на тему «Один день из жизни 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5:25:14Z</dcterms:created>
  <dc:creator>User</dc:creator>
  <dc:description/>
  <dc:language>en-US</dc:language>
  <cp:lastModifiedBy>Ларченков И.В.</cp:lastModifiedBy>
  <dcterms:modified xsi:type="dcterms:W3CDTF">2019-11-04T17:05:39Z</dcterms:modified>
  <cp:revision>42</cp:revision>
  <dc:subject/>
  <dc:title>Слайд 1</dc:title>
</cp:coreProperties>
</file>