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8.jpeg" ContentType="image/jpe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B35D-5A84-429B-B66B-78F93CC0F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BE0A-BFC3-4D90-855D-A353E3D87C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10A-8E06-4993-B834-26763F335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2AF-E9EC-4B3A-BA19-8C5A6A43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812-D2D5-4D49-848C-A0438CC9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757-CB39-4C1B-AFB8-6A21E8F5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DF9-C0AF-4C18-845A-CF233259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48A-1C9E-4C41-A51F-FC76D55E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78B-668E-4365-9816-FFD3688A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76E-25AC-4E56-AFFE-71994963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320-8E1B-421D-809C-A7CC552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B6C-830A-4B94-853F-5611C071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4EC-4A75-4888-AA2F-A0D14C86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56D-BEF0-4A86-96AD-F4F0C5D9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488-A83B-4DE3-ACF0-27DC137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4D1-9238-42F3-95BB-12A1DA2D1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5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2636640"/>
            <a:ext cx="7417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 октября 201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8"/>
          <p:cNvPicPr/>
          <p:nvPr/>
        </p:nvPicPr>
        <p:blipFill>
          <a:blip r:embed="rId1"/>
          <a:stretch/>
        </p:blipFill>
        <p:spPr>
          <a:xfrm>
            <a:off x="250920" y="4149720"/>
            <a:ext cx="48243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557000"/>
            <a:ext cx="838656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СЕННИЙ БА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ЕНЬ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ОВОГОДНИЕ ПРАЗДН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ЕСТИВАЛЬ ДРУЖБЫ НАРОД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ЫХОДЫ НА ПРИРОД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ЕЩЕНИЕ МУЗЕ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ЕНЬ ИМЕНИННИК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3152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ые меропри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17056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МЕНЕНИЕ РЕМНЕЙ БЕЗОПАС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ЛИЧИЕ БЕЗОПАСНОГО МАРШРУТА В ДНЕВНИК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ЛИЧИЕ СВЕТООТРАЖАЮЩИХ ЭЛЕМЕНТОВ НА ОДЕЖДЕ, ПОРТФЕЛ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0992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опасность детей на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ор родительского комит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14400" y="837720"/>
            <a:ext cx="7650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13716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119400" y="907920"/>
            <a:ext cx="585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И озаренье, и рабо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Глаза цветов, глаза ребён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                    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http://s57.radikal.ru/i157/1005/cf/534b1d3f6196.png"/>
          <p:cNvPicPr/>
          <p:nvPr/>
        </p:nvPicPr>
        <p:blipFill>
          <a:blip r:embed="rId1"/>
          <a:stretch/>
        </p:blipFill>
        <p:spPr>
          <a:xfrm>
            <a:off x="1219320" y="3124080"/>
            <a:ext cx="37335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55640" y="404640"/>
            <a:ext cx="815328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ка д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обучения в 5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нормативно-правовыми документами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 приорит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детей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 родительск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615600"/>
            <a:ext cx="817092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нзия № 508 от 25 ноября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615960"/>
            <a:ext cx="3695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идетельство о гос. аккреди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86gmz-sov.edusite.ru/images/p69_akkreditaciya.jpg"/>
          <p:cNvPicPr/>
          <p:nvPr/>
        </p:nvPicPr>
        <p:blipFill>
          <a:blip r:embed="rId1"/>
          <a:stretch/>
        </p:blipFill>
        <p:spPr>
          <a:xfrm>
            <a:off x="2173320" y="1341360"/>
            <a:ext cx="3651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86gmz-sov.edusite.ru/images/p70_ustav03_14tit.jpg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оложение о требованиях к одежде обучающих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равила для учащих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ьные приорит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спешная адап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6"/>
          <p:cNvSpPr/>
          <p:nvPr/>
        </p:nvSpPr>
        <p:spPr>
          <a:xfrm flipV="1">
            <a:off x="6072120" y="264312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6143760" y="500076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2928960" y="492912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 flipV="1">
            <a:off x="3000240" y="264276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 rot="19983000">
            <a:off x="5694480" y="228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 rot="2227800">
            <a:off x="6158880" y="41162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виды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 rot="19745400">
            <a:off x="2751480" y="42541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я числа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 rot="2217600">
            <a:off x="2896920" y="239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ин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нения в школьной жизни пятиклас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7" descr="j0301252"/>
          <p:cNvPicPr/>
          <p:nvPr/>
        </p:nvPicPr>
        <p:blipFill>
          <a:blip r:embed="rId1"/>
          <a:stretch/>
        </p:blipFill>
        <p:spPr>
          <a:xfrm>
            <a:off x="7219800" y="1521000"/>
            <a:ext cx="1387800" cy="1431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MCj04109170000[1]"/>
          <p:cNvPicPr/>
          <p:nvPr/>
        </p:nvPicPr>
        <p:blipFill>
          <a:blip r:embed="rId2"/>
          <a:stretch/>
        </p:blipFill>
        <p:spPr>
          <a:xfrm>
            <a:off x="7500960" y="4929120"/>
            <a:ext cx="146700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MPj04092860000[1]"/>
          <p:cNvPicPr/>
          <p:nvPr/>
        </p:nvPicPr>
        <p:blipFill>
          <a:blip r:embed="rId3"/>
          <a:stretch/>
        </p:blipFill>
        <p:spPr>
          <a:xfrm>
            <a:off x="1143000" y="4573440"/>
            <a:ext cx="1492200" cy="149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MPj03961460000[1]"/>
          <p:cNvPicPr/>
          <p:nvPr/>
        </p:nvPicPr>
        <p:blipFill>
          <a:blip r:embed="rId4"/>
          <a:stretch/>
        </p:blipFill>
        <p:spPr>
          <a:xfrm>
            <a:off x="1071720" y="150012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MCj03981530000[1]"/>
          <p:cNvPicPr/>
          <p:nvPr/>
        </p:nvPicPr>
        <p:blipFill>
          <a:blip r:embed="rId5"/>
          <a:stretch/>
        </p:blipFill>
        <p:spPr>
          <a:xfrm>
            <a:off x="4429080" y="3357720"/>
            <a:ext cx="1584360" cy="14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Мама</dc:creator>
  <dc:description/>
  <dc:language>en-US</dc:language>
  <cp:lastModifiedBy>Matvei</cp:lastModifiedBy>
  <dcterms:modified xsi:type="dcterms:W3CDTF">2019-11-04T18:35:31Z</dcterms:modified>
  <cp:revision>206</cp:revision>
  <dc:subject/>
  <dc:title>Родительское собрание в 5 классе</dc:title>
</cp:coreProperties>
</file>