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jpeg" ContentType="image/jpe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DA6D-C92D-4C9F-87C0-418CDF02F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FAC-2BB5-4EC2-94C4-06B29F499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DCDD-FA2E-4C5E-9867-1A91AEAB9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EED-6ABB-4027-830F-7B619520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A9F-9813-42E4-865D-C1D293D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985-303D-4257-9330-A1DAC084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73D-AE2A-4469-8271-821AF04C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2FA-1ADF-418A-B466-6829332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9D6-EB69-481F-A57F-DDEDABF2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2D8-9338-482C-8C24-8499F701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DD1-28A8-4644-B671-D8E7F37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921-AF92-478D-97F4-AFB69D4D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878-3F14-4C16-AE18-626E7DD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8DB-BFE4-43D8-B178-FC83190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7A9-F550-42B8-AF12-40DB56E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A1B5-19DF-4FD3-8155-946F9B4C6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5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2636640"/>
            <a:ext cx="741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 октября 201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8"/>
          <p:cNvPicPr/>
          <p:nvPr/>
        </p:nvPicPr>
        <p:blipFill>
          <a:blip r:embed="rId1"/>
          <a:stretch/>
        </p:blipFill>
        <p:spPr>
          <a:xfrm>
            <a:off x="250920" y="4149720"/>
            <a:ext cx="48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557000"/>
            <a:ext cx="83865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СЕННИЙ БА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ЕНЬ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ОВОГОДНИЕ ПРАЗД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ЕСТИВАЛЬ ДРУЖБЫ НАРОД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ЫХОДЫ НА ПРИРО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ЕЩЕНИЕ МУЗЕ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ЕНЬ ИМЕНИННИК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315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1705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МЕНЕНИЕ РЕМНЕЙ БЕЗОПАС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ЛИЧИЕ БЕЗОПАСНОГО МАРШРУТА В ДНЕВНИК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ИЧИЕ СВЕТООТРАЖАЮЩИХ ЭЛЕМЕНТОВ НА ОДЕЖДЕ, ПОРТФЕ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0992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опасность детей 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ор родительского комит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14400" y="837720"/>
            <a:ext cx="7650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13716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269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119400" y="907920"/>
            <a:ext cx="5856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И озаренье, и рабо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Глаза цветов, глаза ребёнк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Всё начинается с любв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                      </a:t>
            </a:r>
            <a:r>
              <a:rPr b="1" lang="ru-RU" sz="2800" spc="-1" strike="noStrike">
                <a:solidFill>
                  <a:srgbClr val="6600cc"/>
                </a:solidFill>
                <a:latin typeface="Monotype Corsiv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://s57.radikal.ru/i157/1005/cf/534b1d3f6196.png"/>
          <p:cNvPicPr/>
          <p:nvPr/>
        </p:nvPicPr>
        <p:blipFill>
          <a:blip r:embed="rId1"/>
          <a:stretch/>
        </p:blipFill>
        <p:spPr>
          <a:xfrm>
            <a:off x="1219320" y="312408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55640" y="404640"/>
            <a:ext cx="81532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ка д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учения в 5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нормативно-правовыми документами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приорит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детей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родительск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615600"/>
            <a:ext cx="817092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я № 508 от 25 ноября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615960"/>
            <a:ext cx="3695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идетельство о гос. аккреди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86gmz-sov.edusite.ru/images/p69_akkreditaciya.jpg"/>
          <p:cNvPicPr/>
          <p:nvPr/>
        </p:nvPicPr>
        <p:blipFill>
          <a:blip r:embed="rId1"/>
          <a:stretch/>
        </p:blipFill>
        <p:spPr>
          <a:xfrm>
            <a:off x="2173320" y="1341360"/>
            <a:ext cx="3651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86gmz-sov.edusite.ru/images/p70_ustav03_14tit.jpg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оложение о требованиях к одежде обучающих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авила для учащих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ьные приорит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спешная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6"/>
          <p:cNvSpPr/>
          <p:nvPr/>
        </p:nvSpPr>
        <p:spPr>
          <a:xfrm flipV="1">
            <a:off x="6072120" y="264312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6143760" y="500076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2928960" y="492912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 flipV="1">
            <a:off x="3000240" y="26427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 rot="19983000">
            <a:off x="5694480" y="228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 rot="2227800">
            <a:off x="6158880" y="41162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виды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 rot="19745400">
            <a:off x="2751480" y="42541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я числа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 rot="2217600">
            <a:off x="2896920" y="239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нения в школьной жизни пятиклас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j0301252"/>
          <p:cNvPicPr/>
          <p:nvPr/>
        </p:nvPicPr>
        <p:blipFill>
          <a:blip r:embed="rId1"/>
          <a:stretch/>
        </p:blipFill>
        <p:spPr>
          <a:xfrm>
            <a:off x="7219800" y="1521000"/>
            <a:ext cx="138780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MCj04109170000[1]"/>
          <p:cNvPicPr/>
          <p:nvPr/>
        </p:nvPicPr>
        <p:blipFill>
          <a:blip r:embed="rId2"/>
          <a:stretch/>
        </p:blipFill>
        <p:spPr>
          <a:xfrm>
            <a:off x="7500960" y="4929120"/>
            <a:ext cx="1467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MPj04092860000[1]"/>
          <p:cNvPicPr/>
          <p:nvPr/>
        </p:nvPicPr>
        <p:blipFill>
          <a:blip r:embed="rId3"/>
          <a:stretch/>
        </p:blipFill>
        <p:spPr>
          <a:xfrm>
            <a:off x="1143000" y="4573440"/>
            <a:ext cx="1492200" cy="149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MPj03961460000[1]"/>
          <p:cNvPicPr/>
          <p:nvPr/>
        </p:nvPicPr>
        <p:blipFill>
          <a:blip r:embed="rId4"/>
          <a:stretch/>
        </p:blipFill>
        <p:spPr>
          <a:xfrm>
            <a:off x="1071720" y="150012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MCj03981530000[1]"/>
          <p:cNvPicPr/>
          <p:nvPr/>
        </p:nvPicPr>
        <p:blipFill>
          <a:blip r:embed="rId5"/>
          <a:stretch/>
        </p:blipFill>
        <p:spPr>
          <a:xfrm>
            <a:off x="4429080" y="3357720"/>
            <a:ext cx="1584360" cy="14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Matvei</cp:lastModifiedBy>
  <dcterms:modified xsi:type="dcterms:W3CDTF">2019-11-04T18:35:31Z</dcterms:modified>
  <cp:revision>206</cp:revision>
  <dc:subject/>
  <dc:title>Родительское собрание в 5 классе</dc:title>
</cp:coreProperties>
</file>